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27F27-F1BF-4DF1-A3B3-09D7AF9D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6F1A-5DE2-4108-8F53-D526CD66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43063-2A0B-44DF-B27C-484F0F29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5F1F-A804-430C-8CEE-8222FD11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4308-B335-4706-A94F-4B7E7E0B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C113-749A-49DE-8A81-C6830187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E7A0-CFAF-4120-8646-E1BB7C33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8C90-B0BD-4421-9C2D-BA001DD6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FA7B-3D7C-4625-B08E-08C7CFCF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54E7-E54A-4418-8EF0-821D9DB5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4700-A6CD-439A-A098-E9FCCDC2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21AA-43F3-4203-BF1D-7FF36680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9794-33DD-4E7E-BE2B-2AA2AD2E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E2CD-7A33-4A2D-A421-64FBA06B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F89B-844A-4955-98F0-4CCAD089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26B4-8BB7-4CAA-BDE0-45A98532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B4FB-0B2B-4D88-BDA0-E5D93DA4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F1878-244E-4003-8877-B8B14EA7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D5C7C-6C38-4572-8748-AC050A19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FB9F-809F-4A6D-B1C5-AA3A1BDD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77B7-6716-4C6E-A3EB-581DAEDC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8A2A-C2C2-4130-B0E5-B833ADF2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44268-164E-4758-AF8C-E3A014A1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49121-589C-4562-9388-17D1D27C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B07C-1645-415B-97D2-06E1C905B9D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533F-9B86-43AD-8B80-65789E13C0F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835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332000" y="1989000"/>
            <a:ext cx="65628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RMINOS MAS USUAL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55640" y="692280"/>
            <a:ext cx="7920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La Carrera de la Rata 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2421000"/>
            <a:ext cx="64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 de vida que nos tiene prisioneros de nuestros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Ingresos Activo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normalmente en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Relación de Dependenc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y sin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Capacidad de Ahorr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55640" y="692280"/>
            <a:ext cx="7920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La Libertad Financiera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2421000"/>
            <a:ext cx="64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ando el total de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Ingresos Pasivo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upera el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Total de Gasto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a persona y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 necesi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inuar trabajando en Relación de Depend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23640" y="404640"/>
            <a:ext cx="81356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La Carrera de la Rata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o Trabaja por el Diner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gresos ACTIVOS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37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Libertad Financiera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Dinero trabaja para U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gresos PAS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13564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ACTIVO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 que genera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Ingresos Pasiv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(Flujo Positivo de Fondos).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quileres, Dividendos, Participación 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28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resa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PASIV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 que genera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Flujo Negativo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Fond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a propia!!!, auto particular!!!, etc.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4:23:42Z</dcterms:created>
  <dc:creator>Bj</dc:creator>
  <dc:description/>
  <dc:language>en-US</dc:language>
  <cp:lastModifiedBy>Bj</cp:lastModifiedBy>
  <dcterms:modified xsi:type="dcterms:W3CDTF">2007-03-31T11:30:38Z</dcterms:modified>
  <cp:revision>28</cp:revision>
  <dc:subject/>
  <dc:title>CA$HFLOW</dc:title>
</cp:coreProperties>
</file>