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4A9-D155-4635-A151-A4220B85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921-45EE-4B1B-84F7-1BBE0BC1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557-9E88-4AF8-B9B9-E93BE153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1A5-8432-45BF-9CCE-CF4032C9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D6C4-416B-4B6D-8FF4-8DE9DF6D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D0E3-5C03-4618-BC3F-FC142328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B91F-0C05-4ABE-A8A5-7276C70C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E4EE-64B0-4756-95CE-D69A79D7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A2B9-6036-449D-92C1-DE732537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DF63-C303-4A32-8519-9045046B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4544-D542-4ABE-84B7-EB0033CF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7CC-6898-4767-84DD-BCD94F3F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67D7-D406-4386-96C7-3AA1CC96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65E0-CBD1-4569-B72C-1705FD39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7D1F-C08B-4730-A425-3D173804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D77A-D11F-4B6E-9A63-959E8DA9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2FEE-49EA-4F01-9013-AFE9071E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1F2-CCAD-4A24-9393-F4B5A569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C78-EC6C-4486-934D-DADA2482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818-1C3C-4F32-8BCF-3AAF63C7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2F55-CA90-42B7-B660-5ED3B3CD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C15-5754-46AC-879E-A2E438A7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8B5-0ECD-40E5-82E1-8A1E20C7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13A-14F3-42FA-ABA8-B1459394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273E-A0B3-4F5E-9783-994E7C885BB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BA6F-A91B-4D81-AA8A-10197D74D7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¡¡¡ Como salir de l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rera de la Rata 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340000" y="1341360"/>
            <a:ext cx="5256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A$HFLO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arte 1: La Carrera de La Rata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jetiv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sar lo antes posible a la Vía Rápi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ómo lo logr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ndo un 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INGRESO PASIV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ayor que el TOTAL DE GAST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Parte 2: La Vìa Ràpida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mo ganar el jueg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OPCION 1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omprar el SUEÑO elegido al comienz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òmo lo logr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Generando suficiente EFECTIVO para pagar de contado el valor del SUEÑ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Parte 2: La Vìa Ràpida</a:t>
            </a:r>
            <a:br>
              <a:rPr sz="4000"/>
            </a:b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mo ganar el jueg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OPCION 2: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btener un </a:t>
            </a:r>
            <a:r>
              <a:rPr b="0" lang="es-ES_tradnl" sz="2400" spc="-1" strike="noStrike">
                <a:solidFill>
                  <a:srgbClr val="ffff99"/>
                </a:solidFill>
                <a:latin typeface="Verdana"/>
              </a:rPr>
              <a:t>INGRESO FINAL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igual a:  (Ingreso Pasivo CDLR x 100) + $ 50.0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òmo lo logr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omprando </a:t>
            </a:r>
            <a:r>
              <a:rPr b="1" lang="es-ES_tradnl" sz="2400" spc="-1" strike="noStrike">
                <a:solidFill>
                  <a:srgbClr val="33cc33"/>
                </a:solidFill>
                <a:latin typeface="Verdana"/>
              </a:rPr>
              <a:t>NEGOCI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(casillas verdes) que generen Flujo de Efectivo Posi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SILLA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SUELDO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ada vez que pase o caiga en esta casilla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Debe pedir su SUELDO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l Banco le entregarà su “Flujo de Efectivo Mensual”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Se suma a su EFECTIVO (Ahorro) disponib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SILLA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427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OPORTUNIDAD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ompra de Activos para inversió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PC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Tarjetas “Pequeños Negocios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àximo Ingreso Pasivo:  $ 5.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Tarjetas “Grandes Negocios”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ìnimo Ingreso Pasivo: $ 6.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SILLA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MERCADO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OPCIONAL u OBLIGATORI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Tarjeta “Mercado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Venta de Activos a otros jugado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Acontecimientos de Mercado que afectan su posiciòn financie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SILLA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PRICHO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LIGATORI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jeta “Caprichos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mentos en los que gasta su diner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revisto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chas veces  innecesari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SILLA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RIDAD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CION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decido donar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go 10% Ingresos Mensuales para Caridad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or única vez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edo usar 2 dados en los 3 próximos tiro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SILLA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EBÈ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LIGATORI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menta el número de hij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máximo 3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jan el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lujo de Efectivo Mensua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SILLA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DUCCION DE PERSONAL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LIGATORI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érdida temporal del Trabaj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ga al BANCO el Total de sus Gastos 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ierde 2 turn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42560" y="184428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00000" y="1916280"/>
            <a:ext cx="748836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eaeaea"/>
                </a:solidFill>
                <a:latin typeface="Impact"/>
              </a:rPr>
              <a:t>Elementos del Juego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eaeaea"/>
              </a:solidFill>
              <a:latin typeface="Impact"/>
              <a:ea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OTRAS POSIBIL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STAMOS BANCARIO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és de $ 100 por cada  $ 1.000 de préstamo (10%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últiplos de $ 1000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OTRAS POSIBIL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QUIDACION DE DEUD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CION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ducción de Gast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gos Totales para mayor simplicidad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pt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éstamos Bancario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stos Permanent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Impuestos, Gastos por Hijos, Otros Gast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OTRAS POSIBIL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ANCARROT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OR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 el “Flujo de Efectivo Mensual” es NEGATIVO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 No tiene EFECTIVO para pagar sus Deuda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843280" y="5589720"/>
            <a:ext cx="396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ANCARROTA 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771640" y="2708280"/>
            <a:ext cx="3830760" cy="3747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2050920" y="476280"/>
            <a:ext cx="5256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¡¡¡ A jugar 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21844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El Tablero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32704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20252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Las Tarjetas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232704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1440000"/>
            <a:ext cx="67676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940000" y="691920"/>
            <a:ext cx="2963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 Planilla de Juego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 Hoja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érdidas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anancias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+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alance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eneral 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Los Jugadores 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704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3454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El Banco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3816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El Auditor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3157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artes del Jueg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748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 Carrera de La R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írculo Interior del Tabl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 Vía Rápi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írculo Exterior del Table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4:23:42Z</dcterms:created>
  <dc:creator>Bj</dc:creator>
  <dc:description/>
  <dc:language>en-US</dc:language>
  <cp:lastModifiedBy>Bj</cp:lastModifiedBy>
  <dcterms:modified xsi:type="dcterms:W3CDTF">2007-03-31T12:12:22Z</dcterms:modified>
  <cp:revision>41</cp:revision>
  <dc:subject/>
  <dc:title>CA$HFLOW</dc:title>
</cp:coreProperties>
</file>