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292640"/>
            <a:ext cx="5029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C710-961E-4061-B65A-E3846A1027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24AC-F273-4D1B-9477-8095D51DFB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B17D-1197-4737-B899-78F6B96D08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DBCD-1301-4DD5-ADB9-AB82233414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99520" y="4294080"/>
            <a:ext cx="6296040" cy="40658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ent behavior of U.S. bond yields has been a puzzle to everyone.  The question is why do 10-year Treasury bond yields remain unusually low despite (1) the progressive decline in economic slack as evidenced by sustained reduction in the unemployment rate [and the significant rise in the Fed’s capacity utilization index] and (2) the risk of inflation associated with it, in the light of which the Fed has raised the fed funds rate cumulatively by 275 basis poin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604-BCFE-4CAF-869F-F234C52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EC1-6A10-44BD-A209-68FF3062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E7A-30C4-408B-8426-CDA1AA5E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CC8-DDD8-4B3C-A162-F979C5B0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6695-7BD1-4F11-9727-37ED23FD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11E-D8A8-4FA8-8231-C368A6FF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16DC-923D-4F19-850B-6B75FEBA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6274-9C46-453B-8557-0B3B3C93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EE84-73E6-48A5-9704-6FF16B1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202B-2F92-47F7-A866-E31AF42C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3186-3F56-4CE7-81C0-6A187099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BB0-3C63-45A8-A200-04E5076E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C683-5D56-442D-971A-98FEA939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13B7-7F9F-4892-ABA6-54A0BD2C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DD7F-7A10-447B-A8F1-E8AC0AE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9575-930A-4681-83DB-16EB9DDB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B6D2-724C-47B3-A8AE-B7B2A9A5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0E1-9EF4-4CA0-9D86-6B3720CD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C9C-DFA8-44D1-BD4F-4C9761B4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9F6-C8F7-477B-A3DD-920ECC9B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A5B-8036-41CB-9DC3-D2CDBD90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77A-E085-4B72-B86A-62830DA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59F-9036-470F-8213-6A728D1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C33-6B48-40F4-BADB-5E42FC8A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E653-E40B-4B84-9ED5-E65DB47DC80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FC2A-8434-4226-B7E6-9B82A358408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lternativas de Inversión por medio del Mercado de Capitales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laudio Zuchovic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8229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6699"/>
                </a:solidFill>
                <a:latin typeface="Frutiger 45 Light"/>
              </a:rPr>
              <a:t>EEUU: Una “pausa” en el camino. ¿Definitiva o transitoria?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561080" cy="387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12000" y="2637000"/>
            <a:ext cx="1265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Fuente:</a:t>
            </a:r>
            <a:r>
              <a:rPr b="0" lang="es-AR" sz="1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Bloom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47760" y="1157400"/>
            <a:ext cx="66484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alores rela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47720" y="1881360"/>
          <a:ext cx="5848560" cy="396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1881360"/>
                    <a:ext cx="5848560" cy="39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EN INTER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tidad de contratos abier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nue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que se cierr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vend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comprado.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189000"/>
            <a:ext cx="7921440" cy="576000"/>
          </a:xfrm>
          <a:prstGeom prst="rect">
            <a:avLst/>
          </a:prstGeom>
          <a:solidFill>
            <a:srgbClr val="c2dad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aíses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IMPORTADORE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de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518680" cy="5361120"/>
          </a:xfrm>
          <a:prstGeom prst="rect">
            <a:avLst/>
          </a:prstGeom>
          <a:ln w="9360">
            <a:solidFill>
              <a:srgbClr val="3b812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676520" y="914400"/>
            <a:ext cx="7596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914400"/>
            <a:ext cx="6629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Relación Precio</a:t>
            </a:r>
            <a:r>
              <a:rPr b="1" lang="en-GB" sz="1800" spc="-1" strike="noStrike" u="sng">
                <a:solidFill>
                  <a:srgbClr val="070cc7"/>
                </a:solidFill>
                <a:uFillTx/>
                <a:latin typeface="Arial"/>
              </a:rPr>
              <a:t> </a:t>
            </a: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de las Commodities y Tasa de Crecimiento en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752480"/>
            <a:ext cx="763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75248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hina GDP Grow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08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Particularmente América Lat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74640" y="1701720"/>
          <a:ext cx="60962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70172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284120" y="1693800"/>
            <a:ext cx="350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4d4d4d"/>
                </a:solidFill>
                <a:latin typeface="Trebuchet MS"/>
              </a:rPr>
              <a:t>En porcentaje del total mund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9040" y="5581800"/>
            <a:ext cx="678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Diario Cronista Comercial, 15 de Junio de 2006. En base a datos de CEPAL (División Comercio Internacional e Integració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00880" y="1733400"/>
            <a:ext cx="17053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4d4d4d"/>
                </a:solidFill>
                <a:latin typeface="Trebuchet MS"/>
              </a:rPr>
              <a:t>Ran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208116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6720" y="24829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5280" y="36781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7360" y="28735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5280" y="32716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3200" y="44704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1400" y="48592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5280" y="406404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3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9960" y="5805360"/>
            <a:ext cx="834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Las exportaciones de América Latina a China, pasaron de U$S 1.500 MM en 199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a U$S 24.400 MM en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82360"/>
            <a:ext cx="7925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nsumo chino en algunos productos bás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comercio mundial es el gran ganad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654480" y="5694480"/>
            <a:ext cx="2115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d4d4d"/>
                </a:solidFill>
                <a:latin typeface="Trebuchet MS"/>
              </a:rPr>
              <a:t>Fuente: The World Factbook, enero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5320" y="822240"/>
            <a:ext cx="790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rebuchet MS"/>
              </a:rPr>
              <a:t>Creció 7.3% en 2005. Se espera 9.1% y 9.2% en 2006/7  </a:t>
            </a:r>
            <a:r>
              <a:rPr b="0" i="1" lang="es-AR" sz="1600" spc="-1" strike="noStrike">
                <a:solidFill>
                  <a:srgbClr val="000000"/>
                </a:solidFill>
                <a:latin typeface="Trebuchet MS"/>
              </a:rPr>
              <a:t>(OECD Economic Outlook-Dic 2005-Santander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4115"/>
          <a:stretch/>
        </p:blipFill>
        <p:spPr>
          <a:xfrm>
            <a:off x="1171440" y="1500120"/>
            <a:ext cx="6834240" cy="4068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6880" y="5747040"/>
            <a:ext cx="7924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d4d4d"/>
                </a:solidFill>
                <a:latin typeface="Arial"/>
              </a:rPr>
              <a:t>Europa: campeón de la Global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Riesgo Paí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777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09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TAMAÑO DEL MERCADO DE CAPIT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5989680"/>
            <a:ext cx="815976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Bonos: US$ 32.9 trillions 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Acciones: US$ 35.0 trill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920" y="1677960"/>
            <a:ext cx="8499240" cy="4299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El Eclipse Cuantitativo del FMI</a:t>
            </a:r>
            <a:br>
              <a:rPr sz="3400"/>
            </a:br>
            <a:r>
              <a:rPr b="0" lang="en-GB" sz="2500" spc="-1" strike="noStrike" u="sng">
                <a:solidFill>
                  <a:srgbClr val="0d108b"/>
                </a:solidFill>
                <a:uFillTx/>
                <a:latin typeface="Garamond"/>
              </a:rPr>
              <a:t>Reservas Internacionales y Cuota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55640" y="1413000"/>
          <a:ext cx="7920000" cy="49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20000" cy="49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340000" y="4724280"/>
            <a:ext cx="28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s Cuotas del F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8280"/>
            <a:ext cx="35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rvas Internacionale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3141720"/>
            <a:ext cx="792360" cy="503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66960" y="1971720"/>
            <a:ext cx="5346720" cy="3552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ás reserv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38160" y="977760"/>
            <a:ext cx="9067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rebuchet MS"/>
              </a:rPr>
              <a:t>Las reservas monetarias mundiales crecieron casi $ 500 billones en e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160" y="5594400"/>
            <a:ext cx="58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Bloomberg,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Invers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Que hacemos con es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ER vs. Nomi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2296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06633"/>
                </a:solidFill>
                <a:latin typeface="Garamond"/>
              </a:rPr>
              <a:t>Revisemos algunos mit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ols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hina vs. Bras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00360" y="1844640"/>
          <a:ext cx="5543280" cy="36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1844640"/>
                    <a:ext cx="554328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ercado en Euros. Burbu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47640" y="1268280"/>
          <a:ext cx="619308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61930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EN LA BOLSA SON TODOS TIMBEROS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71640" y="1773360"/>
          <a:ext cx="734544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73454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las acciones no son seguras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14520" y="1484280"/>
          <a:ext cx="791496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484280"/>
                    <a:ext cx="79149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Índice general de la bol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844640"/>
          <a:ext cx="81356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1356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olumen dia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924280"/>
            <a:ext cx="2162160" cy="2162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1484280"/>
            <a:ext cx="2609640" cy="26100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7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La bolsa es negocio de largo plazo”</a:t>
            </a:r>
            <a:br>
              <a:rPr sz="3800"/>
            </a:b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gosto 194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248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Fortaleza Financier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38320"/>
            <a:ext cx="9144000" cy="0"/>
          </a:xfrm>
          <a:prstGeom prst="line">
            <a:avLst/>
          </a:prstGeom>
          <a:ln w="64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24000" y="1484280"/>
          <a:ext cx="80406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040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03920" y="5875200"/>
            <a:ext cx="226728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Verdana"/>
              </a:rPr>
              <a:t>Fuente: Banco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838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ffffff"/>
                </a:solidFill>
                <a:latin typeface="Frutiger45-Light"/>
              </a:rPr>
              <a:t>El Sector en Latinoamér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4876920"/>
            <a:ext cx="8915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Mala noticia: intermediación financiera rezagada en comparación a otras economías latinoamerica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Buena noticia: alto potencial de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1271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Frutiger45-Light"/>
              </a:rPr>
              <a:t>Préstamos al Sector Privado sobre PBI en Latinoamérica –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1600200"/>
          <a:ext cx="601956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0195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Quienes prestan pl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197000"/>
          <a:ext cx="91440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mercado del lado del invers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on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n que instru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Garamond"/>
              </a:rPr>
              <a:t>Contexto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Tasa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RECIMIENTO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Global alta y sostenid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FLACIÓN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a nivel mund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s tasas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TER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Precios altos de las materias prima, energia y otras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OMMO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o riesgo 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sistémico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en los países emergentes y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BAJO RIESGO PAÍS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domesticación de la deu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Tasa de interés</a:t>
            </a:r>
            <a:br>
              <a:rPr sz="3800"/>
            </a:b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 Bonos del Tesoro a 10 Añ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413000"/>
          <a:ext cx="89154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915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8317080" y="4653000"/>
            <a:ext cx="142560" cy="28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2060640"/>
            <a:ext cx="4033800" cy="1873080"/>
          </a:xfrm>
          <a:prstGeom prst="line">
            <a:avLst/>
          </a:prstGeom>
          <a:ln w="7632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371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94836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84720" y="328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1200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4360" y="28735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ct. Neg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06720" y="337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equ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8160" y="3736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sia-Ru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14:53:55Z</dcterms:created>
  <dc:creator>Usuario de Acer</dc:creator>
  <dc:description/>
  <dc:language>en-US</dc:language>
  <cp:lastModifiedBy>C.P.C.E.C.A.B.A.</cp:lastModifiedBy>
  <dcterms:modified xsi:type="dcterms:W3CDTF">2006-09-01T20:33:33Z</dcterms:modified>
  <cp:revision>118</cp:revision>
  <dc:subject/>
  <dc:title>Sin título de diapositiva</dc:title>
</cp:coreProperties>
</file>