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AE99-E2C5-4102-9E87-D57C77C05172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 de los 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5000"/>
            <a:ext cx="9144000" cy="1429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50000">
                <a:srgbClr val="99cc00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57240" y="12600"/>
          <a:ext cx="769680" cy="72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2600"/>
                    <a:ext cx="7696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id@bcba.sba.com.ar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700280"/>
            <a:ext cx="87854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La Bolsa de Comercio de Buenos 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y el Mercado de Carb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c. Irene Wasilevs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sponsable de Investigación y Desarrollo de la BC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gosto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eterminantes de la oferta y la demand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65240"/>
            <a:ext cx="87854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ierno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sas privadas de países Anex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rios p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dos multi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Determinantes del preci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 de los permisos de la Unión Europea (E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cli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erta y compromiso de grandes jugadores: China, India, R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o del M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autas del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o de avanc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idad de 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ología apro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de 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 internacional de los cert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s políticos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ituación de la Argentina en 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0520" y="1268280"/>
            <a:ext cx="85629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69800" y="1413000"/>
          <a:ext cx="8204400" cy="4279680"/>
        </p:xfrm>
        <a:graphic>
          <a:graphicData uri="http://schemas.openxmlformats.org/drawingml/2006/table">
            <a:tbl>
              <a:tblPr/>
              <a:tblGrid>
                <a:gridCol w="2735280"/>
                <a:gridCol w="2863800"/>
                <a:gridCol w="26053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s/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98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 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.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826920" y="11592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mensión del mercado mundi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69760" y="90360"/>
            <a:ext cx="6594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ercado de capitales y el M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052640"/>
            <a:ext cx="9036000" cy="55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Funciones de la B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un ámbito de 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3946680"/>
                <a:tab algn="l" pos="78930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Arial"/>
              </a:rPr>
              <a:t>Etapas M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uls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ón de oferta y demanda: rondas de negocios, reuniones bilat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usión y acceso a distintos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49960" y="90360"/>
            <a:ext cx="415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ondas de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600360" cy="247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600360" cy="258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48360" y="126828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360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5600" y="115920"/>
            <a:ext cx="734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tes interesadas: empresas y gobi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903600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nco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nad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946680"/>
                <a:tab algn="l" pos="7893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tsubishi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33440" y="2205000"/>
            <a:ext cx="6477120" cy="25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 algn="ctr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olsa de Comercio de Buenos 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vestigación y Desarrollo de Mercado de Capit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d@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4316-709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 algn="ctr">
              <a:lnSpc>
                <a:spcPct val="11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www.bcba.sba.com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065240"/>
            <a:ext cx="8785440" cy="46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canismo para un desarrollo lim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otencial de la Argentina en el nuev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fras interna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30000"/>
              </a:lnSpc>
              <a:spcBef>
                <a:spcPts val="13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papel de la Bolsa en el mercado de carb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l mercado de carbon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a oportunidad para las empresas argent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981000"/>
            <a:ext cx="6553440" cy="3959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4592520"/>
            <a:ext cx="66247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99cc00"/>
                </a:solidFill>
                <a:latin typeface="Arial"/>
              </a:rPr>
              <a:t>Proyectos potenci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el uso final de la energí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Mejoramiento de la eficiencia en la generación de energía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ergías renovable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Rellenos Sanitarios (captación de CH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Sustitución de combustibles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Agricultura (reducción de emisiones de CH4 y N2O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cesos industriales (CO2 de la industria cementera, PFC y SF6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royectos de absorción de emisiones (forestación y reforestació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l Mercado de Carbo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280" y="961920"/>
            <a:ext cx="896472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rotocolo de Kiot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icipante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nexo I: 39 países + economías en trans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No Anexo I: países en vías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ompromiso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5,2% de GEI sobre niveles de 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eríodo de compromiso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imer período: 2008-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Partes comprometida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Gobiernos y 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Forma de reduc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olíticas pro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ticipar en proyectos de reducción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pra de excedentes de permi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Mecanismos de flexibilización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Mecanismo para un desarrollo limpio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Implementación conjunta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E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mercio de emisiones - </a:t>
            </a: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A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buClr>
                <a:srgbClr val="99cc00"/>
              </a:buClr>
              <a:buSzPct val="120000"/>
              <a:buFont typeface="Arial"/>
              <a:buChar char="•"/>
              <a:tabLst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99cc00"/>
                </a:solidFill>
                <a:latin typeface="Arial"/>
              </a:rPr>
              <a:t>Objetivos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las emisiones a nivel global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ducir costos para economías desarrol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recimiento en economías en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376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ansferencia de tecnologías limp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73080"/>
            <a:ext cx="7994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ases efecto invernadero comprometidos (GE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407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squema del MD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436572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1139760"/>
            <a:ext cx="219564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resa proponente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0680" y="11253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toridad N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0680" y="359244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ta Ejecutiva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0680" y="4826160"/>
            <a:ext cx="2197080" cy="580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Intermediarios / Brokers / Invers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0680" y="606096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ís desarrollado Anexo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0680" y="2359080"/>
            <a:ext cx="2197080" cy="580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idad Operacional Desig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9280" y="143028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115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5080" y="144468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9280" y="266544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9280" y="1722600"/>
            <a:ext cx="0" cy="340992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70400" y="2387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D y Carta de aprob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13600" y="3002040"/>
            <a:ext cx="185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 de validación + 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12160" y="295416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9280" y="389880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70400" y="360684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ión 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9280" y="5132520"/>
            <a:ext cx="2741400" cy="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3440" y="484200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S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3440" y="514656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12160" y="542124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13600" y="5468760"/>
            <a:ext cx="1851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$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1280" y="4216320"/>
            <a:ext cx="0" cy="581040"/>
          </a:xfrm>
          <a:prstGeom prst="line">
            <a:avLst/>
          </a:prstGeom>
          <a:ln w="34920">
            <a:solidFill>
              <a:srgbClr val="6666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2571840"/>
            <a:ext cx="35640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eparación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mostración de adicion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efinición de línea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 de monitoreo y ver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Aprobación por AND (Desarrollo susten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alidación por EOD Indepen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nsulta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gistración ante la JE del M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Verificación inicial y anual por E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misión de Cer por la 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6536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6360" y="6524640"/>
            <a:ext cx="34923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760" y="1484280"/>
          <a:ext cx="852624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1484280"/>
                    <a:ext cx="852624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1353960"/>
            <a:ext cx="7704000" cy="50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0"/>
            <a:ext cx="7994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 mercado de carbono en la actualid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143" t="4272" r="3002" b="8912"/>
          <a:stretch/>
        </p:blipFill>
        <p:spPr>
          <a:xfrm>
            <a:off x="826920" y="2060640"/>
            <a:ext cx="7345440" cy="439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32000" y="119700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ales vendedores de reducciones basadas en proy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2:25:55Z</dcterms:created>
  <dc:creator>IWasilevsky</dc:creator>
  <dc:description/>
  <dc:language>en-US</dc:language>
  <cp:lastModifiedBy>C.P.C.E.C.A.B.A.</cp:lastModifiedBy>
  <dcterms:modified xsi:type="dcterms:W3CDTF">2006-08-28T19:49:03Z</dcterms:modified>
  <cp:revision>64</cp:revision>
  <dc:subject/>
  <dc:title>Diapositiva 1</dc:title>
</cp:coreProperties>
</file>