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EA4-674D-4978-B51E-BE3E8262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CB9-3200-4D65-9F11-ACD4CCAA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7324D-6304-438C-A576-E7760DB4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D59BC-7DE2-4C72-954C-4D6FC2BC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F8BCB-E64B-4263-91BC-F5540CD0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9DCD0-E9A1-44FB-B8B4-2A5C6C4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2AE3D-66ED-4017-B8A6-E434A0F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215FE-1AD3-4E27-A162-7001738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F693F-86AD-4373-9FE4-79FEF53D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FCA59-9F51-4A94-B422-14A7A147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01CF8-0552-421A-AA16-1F96591A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D77C5-C5CF-4EB4-B7C2-077EC6D6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91F-EC14-4180-9084-875D74E8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8DF22-D169-4B71-AD62-F035AD80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6CAD1-B4A0-4303-A972-9A33421D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7217C-E463-457E-A29F-546B15B0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0AB52-2C55-4C26-9A67-2459F3B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B84FD-A6B3-44C8-B6D0-58C10C40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064BB-1D09-463D-8800-8391482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858E9-D443-4FB2-808E-91A547FE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1B82A-C346-4A28-B382-27B3FD80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226C0-D551-4965-BF42-402CDD85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6001D-5ACB-4141-BD20-5BD385C5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0C8-4C35-4DAC-8B3D-1752993B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EA87D-4006-4DBA-8185-EA1E7C4B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BA65A-8E23-4462-963F-4A73C21F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36954-3E8B-447D-B9E2-70B6D704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0B2AF-961A-4CC4-8D7E-AAE3B627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7C033-5194-48D3-96EA-A1C06BC1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8A7A0-ADC3-4A95-8689-83A3A071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523E9-3DAD-4458-AD4E-24039B8C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3DE29-DAAA-469E-91FC-6EFFD3A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2A0E9-5590-4C31-A172-B3C4A71A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FCBD4-B9A2-466E-AEE8-3D6B337C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613A-53EB-4778-9094-8A3362BF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5DE7B-B1EF-47EB-975A-0726C073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6618C-FCB7-41F7-AF60-5995C3B2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F991D-C036-4400-AF1B-EB1FCE3A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2C29A-EFB0-4A8A-B726-E257408E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05559-C904-4347-876D-49ADF0AF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4AE6C-98F1-4A51-B26C-D8078CFD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0CDB9-A6D0-4DD5-81E0-4D2E1109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F2B28-0F22-4A00-825B-1F134CF5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9DC41-81DA-46C3-B751-EB218F1C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6A932-8FAF-4829-BC4E-49B263BE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8CFE-1618-4F1B-9F7D-DB45023C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B0896-2F1F-47FE-9863-462435DD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87698-31EB-4DDF-BB7D-B901D81F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2EF36-EB11-4932-93F2-AE3B545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4B0B1-21CD-4E39-B6C8-3C3DF8E1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50DFC-E93E-4729-AF9A-E05E353D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44ED9-B0A1-46A5-9A52-52CA7656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AAFE3-9CDA-4084-B7B3-04223356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B93AD-DFB2-452A-93C7-C181B137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FF8A1-D6BC-4E20-9340-CAC447EA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870D5-0444-45AB-9713-43B441C3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A010-DC1C-4A63-B601-75CFA08E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F3A64-31F3-4AFE-A0E5-C5E91DDE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02898-2FB0-48CD-A808-5E0DFE6E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6332D-175E-4248-AD1C-7F27026C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2E141-F433-45C0-992E-7DD3B95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216E9-3A5C-46BB-8BF0-E4B71C0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1464A-87C5-4FAD-8A8A-4680116C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7B4F8-3908-419F-8832-EE0CB536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4789B-6FF1-4A8E-9878-D091776A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75359-9F1E-42D4-A71F-539E1FFD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0FC8F-6BE8-4358-A279-8633AEE1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449B-4B7B-4BDF-A0C4-3D23F9B3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6A76D-D6F1-4092-B137-5ABEF611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8C51B-F4B7-4C2F-8CA6-B8F50024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00E10-9395-47AD-896B-4A9CDC79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2C443-3344-4A9D-82CB-4BEAC1A3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F1194-DE21-41B4-BB64-2719AC5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ED752-3550-4E2C-B463-59564268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FC69D-6E3E-48C2-A3D2-4D587BC6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BE0CB-404E-4D06-9E59-9D3309D1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49338-434F-4FF2-8EF0-F85ED87A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2D491-C976-4F0A-A373-083F927E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A3BE-6EF1-4FEB-8DD5-244F7EA3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0A140-6B00-4C9A-A777-FA876B32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A9705-0EAB-4B0B-A2D8-4E82A669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F272D-CF65-40A4-9A1E-811E993B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5B881-BD56-45C5-84B4-CDE6F984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ACFBB-E852-47B5-9DB0-F4C138EC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2CB6D-D36B-4D08-8702-B16EE21B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B38DE-0194-4169-AC79-B8C74E59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704C2-976D-4B77-A2AF-D8B4424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2E066-6D5B-49DE-A466-52575790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839C9-F398-4622-88A8-BAA81166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C9FA-405D-4A17-B577-85B58230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545EE-25ED-407F-AF9D-051B5340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FEAF7-9DCA-4B82-B986-E886721D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90627-3618-42C3-B953-16EF8803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5FFDA-883A-4F01-9268-C169EC18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8DF5E-E7A3-40D6-8695-A3B84E2B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8C9F1-D53D-4F78-A7D0-62955F13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527A1-7167-42C9-8C10-0E70836B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6215F-0485-461C-BB9F-FC86ACAC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B1A25-62FB-4FC4-B9D2-D6E84EC0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539328-6CEB-422F-A406-3BEA6F9D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367C-39DD-437E-854F-27E1CEED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C843F-8F43-4CFA-8845-2F7C4B65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31E49-C338-46FA-8E61-6FF29594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1F10E-449C-4A97-AF1A-1BF33955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51D60-846A-4FA5-B274-AFF8F717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E466D-DA69-485D-AC6E-6ED20CA9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D2C77-0524-40AA-B18E-02137D97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0A41B-6B2A-4551-9123-F2B26AF3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3CBE0-1C88-457D-AC00-9C9BB36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FF039-C1A3-4473-906C-306C2904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9FC37-A183-467D-9533-00C31A9C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AB6-3264-4D3A-B590-DECDDDFD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DE21-F2D2-426F-9513-7DBAEEF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90AFC-2DC7-4887-A35E-D44C12E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86010-6FB7-4897-9AC3-BD5334A8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6F4BA-CF82-4721-8789-C53090D1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5E262-0E4F-4941-A756-9E26EB67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8DED4-5C08-4C5B-BC78-743B40BA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F51A8-3AE3-42BB-88E1-CB0FB61B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F38DE-AC5B-4322-8B77-1790CAAA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2DA81-11DF-467E-81E3-A495E7FA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AC11E-B863-4FEB-8506-DA304594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5AC6E-D819-42AB-BF1A-3781B749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708E-CDD0-421A-B067-5E323D5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66360-B4CB-4648-ACC6-C40140B6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8C492-5CA9-4003-8AE0-F25462CF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7C563-D914-4263-8157-B942B30C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7C265-4536-46D8-AD1B-6FA966C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710082-B90F-48E5-9836-5398CBA2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3CE10F-8D93-4066-83DF-9711485C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DCEDB-1CBD-4FD7-B896-55DF271F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D4E775-7855-46F1-A051-04F00439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E3BCB9-6EAB-4EF1-A425-9953A6B0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D5D339-0631-465A-94B3-8EF3FDFE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1B01-12BB-4764-B31D-93E292A0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F647A-AF98-43E2-95C6-D9870A06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7DDD12-265F-40CF-8D4A-1EC1D096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22443-59FA-4EFE-81D4-330E1B4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4B4FDA-0379-40EA-9C91-2A7F8C49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53FE5-85B1-4252-8BBE-98CF85ED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DD502-6D6C-45BB-B55A-E06C2F2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4BFFB-3766-4061-B4C3-68C0E5FB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E5171-7A49-4002-B083-3F38954E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01A2D-36D8-4058-BFB7-E8E962BD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12DAB-E7D9-4CDD-9159-B27B16F1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17EC-F7DB-46FE-9BD1-57C9E5AF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698573-9707-4B92-90E3-4A9BA8B4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999CC3-6FBE-436E-98B3-9FAC811E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2F9AB2-C104-42A8-B6E5-E2845BF7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CE627-AFAB-4055-BBBB-3090C38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E2ACF-D002-4560-A5B7-7AC5BCE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DB588-1DEE-4EFD-9CF0-F11D7D4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2ED26E-A9D9-4C45-889E-041528D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D9A55C-3F9B-4799-9F7C-9F8B248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C57A6-8CF8-4FCB-B0C2-419C816E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4BD6D-60CF-40A8-AB9E-5A6DA9D0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5FF1-4C85-4D3C-AB93-5566AA26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F77D2-03B2-4901-A107-B9F60ECC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07D1-605B-496E-B039-BFC8DC52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8879-7555-4907-B58E-1E1FD738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1BB67-1B89-4D41-865E-9603579D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16F6-6919-413A-9AB9-E0C57A5B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ABE3B-0611-44B9-A930-153121AA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9A7-A323-4CC1-83FF-2D04B411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DBC5-CB40-410D-A3DC-943A3B80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305A-550E-4966-B9A7-A2E5A13E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778C1-1315-470F-8362-F3064AFA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8478-1E49-4A84-97EC-53BB088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EC9A-851D-4130-A08C-834C06E2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5981-80BC-4B63-AEC4-8C5C2CB3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6DD5-D4AB-447A-8A99-278BE20B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C94E-56DE-401B-9E0D-E1DADE5C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5469-953E-4109-ABF0-85AD6245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4016-1CE3-4AC1-B2EA-0F4A9A6B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BB1-A779-4985-A679-6513B65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BBB0-8A97-43A5-BD86-C7FFE64A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2190-FA11-49BC-B392-69F12A27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8591-52C8-417B-B92E-890C952B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205B-EFD9-44AD-9B17-CF4D8C7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8F38C-08A1-4538-BBE3-38405A6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BC29-12C8-4D60-8DF7-028B51E7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D108-23D2-4CE3-9534-F8EC6E9C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E2FA2-66DF-40F7-9329-D6538C00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46F6-1468-48AA-A614-BFE18602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80B66-3C77-40B7-8A9E-364546CD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855-21D7-4237-8010-7075D76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D5D2-E715-454A-A224-BB345D1B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B8E11-7558-4EFF-8BC9-4F5F66CA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DC3DE-D2E0-46BA-A7C3-F103322E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C8E52-3005-42D8-9428-6A7BB9E6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BCD7-9BBF-4FBD-94B5-2CA3B527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BF582-F617-4E96-8935-48FE0CC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1337-837B-4EAE-8343-FD64548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01B7F-3792-4C67-B9BE-1418C46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3CAF-30EC-41BC-9165-752BD8BB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0C901-5B75-4B64-A42C-C70FF246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121-5F18-4863-B51A-3976C101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46AF-1405-4017-BB64-8F764235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A9AC5-2144-4E1D-8E52-488AD29E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0C295-DF89-4F04-ACC0-D9A29798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5A0BB-859A-4B4C-9769-B6ED8C52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EC543-8E4D-45AB-B94E-B4A09F7C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A290-3C40-49EF-8578-D523B568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1951A-0672-42ED-B2DC-74084B6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282F-9AC6-404E-9318-3BD940BC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E13C5-31D4-41BA-889D-CC760576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79BD1-B7DE-4849-81D2-4DACCC8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F79-F517-4206-8E4A-AA21D4D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02EC0-40CC-4F47-86EA-CE8145BF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E117-9043-4FF7-86BD-AF4870E9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9B46-9D8C-4E6D-9005-4E0E120B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71414-6E93-46E1-AD32-3F775039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6A21B-6D27-4F9C-BE32-EF9B2BB1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106DA-FEEE-4EAE-96A4-E6A3A772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B2440-D01C-497D-8F2C-1EEEE0C5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E7FAF-1061-416B-9FBE-DE44E680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D1EB0-A613-4F86-A5B7-4E595873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7FD6A-9AD2-4325-9D07-54DC315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FE1-DCD6-408B-A8E8-75901A8E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D8BEF-F890-4160-951D-0E6268A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8693-91FA-44D6-AE30-52AEED1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03E4B-5680-4733-B513-5FBE56B1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75FBC-FC3D-4844-9EF8-44B436C2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EF172-450D-4B0F-B20A-29BC8A89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D0022-3553-4B7C-A3BC-B4661378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FFCCA-44AF-4C45-9B48-413D9485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4AC49-3FE2-45F8-BE50-9A4BF659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A9B25-A38D-42B5-8F90-5A15483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A5C2F-C7A6-405E-8E64-2A09482F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888-58DB-4E8A-8C6E-A3E442B2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CABB2-6934-44C8-8F84-8B46B41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E082F-FBF4-4525-B0B2-A3E7711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FD6A8-E60B-4CFD-80A2-EE414CDF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E6329-8F2F-4727-B887-56659008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62EA-414C-444F-9526-63D0768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72E9B-B22D-4E37-B3FC-643B9F0E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518C6-3113-434F-906C-00001902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6854D-246E-40D9-9660-BA40B6BA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80BA7-869E-45C6-B139-B282DF0B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B507C-A97C-47EA-9403-31CD4017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6920" y="1700280"/>
            <a:ext cx="7543800" cy="472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9F28-214A-40F5-BDF0-94843EBE7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582F-336C-4D3C-A602-BE6753F5DA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EDE0-B4E8-4D59-BE8E-DA2783274C5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695160" y="3105000"/>
            <a:ext cx="105343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AB08-31F1-4F33-ABAC-B9E26EB35D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D222-E0FE-4999-A1A3-AA725D96D8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695160" y="3105000"/>
            <a:ext cx="105343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F648-6487-444A-91F5-8A5FE51127E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2EAF-9234-45A4-9172-AEAF8D23B1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757080" y="2565360"/>
            <a:ext cx="105343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D134-B30A-4372-9EAA-32FB1F25B41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78BC-A181-4D9E-A317-B0CFDD864C6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A6A-BAF7-4033-B8F8-45859C3FA2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D19A-E915-43E3-BE50-BE17A8E821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6920" y="1700280"/>
            <a:ext cx="754380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5B1D-C896-483C-9902-464913B35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845A-1443-44A0-A137-764437075E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51D7-890C-4E94-BB4C-46A49C49CF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244-1978-4D12-96B4-3010AE20B82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F7C0-121B-44E7-A8AD-BA5C673BAD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BA16-ABE4-431F-8E47-6E2478E57A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A3A3-5233-4668-B4B6-684A58884F3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38FB-372A-4E60-BD79-C6FAD09525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F1C0-0A4A-41A0-AF36-9AD1CB103E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47640" y="476280"/>
            <a:ext cx="593424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248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4120" y="5293080"/>
            <a:ext cx="33336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arciso Muño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577800" y="2637000"/>
            <a:ext cx="84582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CAPITAL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A. Situación Internacional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. Situación Argentina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24" name=""/>
          <p:cNvSpPr/>
          <p:nvPr/>
        </p:nvSpPr>
        <p:spPr>
          <a:xfrm>
            <a:off x="3276720" y="250200"/>
            <a:ext cx="5638680" cy="136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a9ac1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º Congreso Nacional e Internacional de Finanzas de la Empresa y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CE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de agosto al 1º de septiembre 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60320" y="16905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701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nace la Bolsa de Lond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1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omenzó a cotizar en su propio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3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reó EDX Londres: área de negocios de derivados internacionales de acciones en sociedad con el OM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5, Enero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La Deutsche Börse y Euronext lanzaron ofertas para su adquisición, aunque negocia más que la sumatoria de ambos mercados. La idea es que tener un mercado integrado en Europa desincentivaría a las empresas europeas de listar en 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452680" y="1122480"/>
            <a:ext cx="399096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NDON STOCK EXCHANG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84836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0, 18 de marzo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Fruto de la fusión de las Bolsas de París, Amsterdam y Brusel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se suma la Bolsa de Lisboa. Dio lugar así a la primera plaza integrada en la zona del Euro. Es la segunda en Europa, detrás de la de Lond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n Gran Bretaña  se unió sólo en derivados al adquirir  y formar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Euronext.Liffe.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5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en sociedad con la Bolsa italiana adquirió una participación importante en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MTS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, el mercado electrónico europeo líder en títulos de renta fija al por may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6, junio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1: NYSE Group y Euronext firman un acuerdo para fusionarse en la nueva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NYSE Euronext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para negociar acciones y derivados. Las acciones de NYSE Euronext cotizarán en NY y en Par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708360" y="835200"/>
            <a:ext cx="16002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URONEXT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11280" y="11124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436680" y="1557360"/>
            <a:ext cx="81676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Junio 19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lanza nueva propuesta para fusionarse con Euronext. Crear una nueva compañía que tendrá oficinas para sus ejecutivos principales en Amsterdam, Frankfurt y Par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Deutsche Börse aportará el CEO y Euronext el presidente de la Mesa Superv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Agosto 2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publica los estatutos propuestos para la nueva compañía a cre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Agosto 4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el precio propuesto por cada acción VN de Euronext alcanza los EUR 72,17, comparados con los EUR 68,82 ofrecidos por el NYS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916360" y="1052640"/>
            <a:ext cx="265752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DEUTSCHE BÖRS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2003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: nace de la fusión de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OM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 (Bolsas nórdicas) y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HEX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 (Bolsa de Helsinki) formando el mayor mercado integrado del Norte de Europa  a través de las bolsas de Copenhague (Dinamarca), Estocolmo (Suecia), Helsinki (Noruega), Riga (Letonia), Tallinn (Estonia) y Vilnius (Lituania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Provee de soluciones tecnológicas para mercados financieros y de energía en todo el mundo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324240" y="1052640"/>
            <a:ext cx="1752480" cy="43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OMX GROUP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crea la Sociedad Holding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BME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 Forman parte de ella: a) la Bolsa de Madrid, la de Barcelona, la de Bilbao y la de Valencia. b) </a:t>
            </a:r>
            <a:r>
              <a:rPr b="1" lang="es-MX" sz="2800" spc="-1" strike="noStrike">
                <a:solidFill>
                  <a:srgbClr val="cc0000"/>
                </a:solidFill>
                <a:latin typeface="Times New Roman"/>
              </a:rPr>
              <a:t>MF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Mercados</a:t>
            </a:r>
            <a:r>
              <a:rPr b="1" lang="es-MX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Financiero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integrado por el mercado de derivados MEFF, de renta fija privada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AIAF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y de renta fija pública SENAF y, c)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IBERCLEAR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ámara de Compensación y Liquidación de Oper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479600" y="1413000"/>
            <a:ext cx="5829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OLSAS Y MERCADOS ESPAÑOLES(BME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95280" y="11592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332000" y="907920"/>
            <a:ext cx="6229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jemplos de mercados más cercanos: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1999, diciembre: se crea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ATIBEX: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único mercado internacional de valores latinoamericanos. Canaliza inversiones europeas, negocia en Euros y se apoya en la plataforma de negociación y liquidación de valores de la Bolsa Españ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apitalización de Mercado (al 21.06.06)     222.194,64 millones de E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(aprox. 25% de la Cap. de mercado españ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Número de Compañías de 7 países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ntabilidad en el año 2006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-9,7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ntabilidad desde su inicio en 1999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8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RINCIPALES PAISES REPRESEN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8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5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4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Argentina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2 empresas (Banco Río de la Plata y BBVA Banco Franc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386160" y="981000"/>
            <a:ext cx="1257120" cy="358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ATIBEX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1, julio 3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integran las bolsas de Bogotá, Medellín y Occidente y nace la Bolsa de Valores de Colom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oy se encuentra consolidada en una sola plataforma y administra los mercados accionarios, de derivados y de renta f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articipan todos los operadores de las antiguas bol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s bolsas originales entraron en un proceso de liqui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101680" y="1050840"/>
            <a:ext cx="499140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OLSA DE VALORES DE COLOMBI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/>
          </p:nvPr>
        </p:nvSpPr>
        <p:spPr>
          <a:xfrm>
            <a:off x="610920" y="19782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Bolsa Australiana y la Bolsa de Futuros de Sidney han anunciado su intención de asoci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cuerdo entre la Bolsa Australiana y el CBOT para facilitar negociación off-shore de productos loc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Bolsa Nacional de India con la de Singapur llegaron a un acuerdo para que se negocien en esta última los Futuros Nifty (Ind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cuerdos similares entre las Bolsas de Singapur, la de Toronto y la de Taiwá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1908000" y="1052640"/>
            <a:ext cx="559152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Otros continentes, otros países: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Una misma tendenci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826920" y="2205000"/>
          <a:ext cx="7201080" cy="4346640"/>
        </p:xfrm>
        <a:graphic>
          <a:graphicData uri="http://schemas.openxmlformats.org/drawingml/2006/table">
            <a:tbl>
              <a:tblPr/>
              <a:tblGrid>
                <a:gridCol w="3135600"/>
                <a:gridCol w="1811160"/>
                <a:gridCol w="2254320"/>
              </a:tblGrid>
              <a:tr h="79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ENOS 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NT. ACCIONES - VN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R  EQUIV. EN CANT. 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070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30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TROB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2.936.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0.13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LE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1.519.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4.84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L. AR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44.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7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NA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5.481.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256.5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ES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5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9.581.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P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6.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764.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CO FR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.704.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.301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UPO FINANC. GAL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94.542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1.602.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CO. MACR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.495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.06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*) 5 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7" name=""/>
          <p:cNvSpPr txBox="1"/>
          <p:nvPr/>
        </p:nvSpPr>
        <p:spPr>
          <a:xfrm>
            <a:off x="1949400" y="1488960"/>
            <a:ext cx="5143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mpresas argentinas que cotizan ADR: 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N negociados en  el último año (ag-05 / jul-06)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258920" y="193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890640" y="979560"/>
            <a:ext cx="7353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a pérdida de liquidez y la exportación de mer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293760" y="1577880"/>
          <a:ext cx="7950240" cy="48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577880"/>
                    <a:ext cx="795024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 txBox="1"/>
          <p:nvPr/>
        </p:nvSpPr>
        <p:spPr>
          <a:xfrm>
            <a:off x="1876320" y="1122480"/>
            <a:ext cx="56484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olúmenes negociados en la BCB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258920" y="33660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80769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El Trading es global por natural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Invertir es una actividad global por natural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El avance tecnológico facilita en forma irreversible la globalización</a:t>
            </a: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324080" y="1341360"/>
            <a:ext cx="634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Desafíos de la globalización en los Mercados de Capitales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593720" y="333360"/>
            <a:ext cx="6772320" cy="49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539640" y="1628640"/>
          <a:ext cx="732816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73281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 txBox="1"/>
          <p:nvPr/>
        </p:nvSpPr>
        <p:spPr>
          <a:xfrm>
            <a:off x="1984320" y="1197000"/>
            <a:ext cx="546732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olúmenes negociados en el MA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250920" y="1916280"/>
          <a:ext cx="8555040" cy="42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8555040" cy="42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"/>
          <p:cNvSpPr txBox="1"/>
          <p:nvPr/>
        </p:nvSpPr>
        <p:spPr>
          <a:xfrm>
            <a:off x="1476360" y="981000"/>
            <a:ext cx="6210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Instrumentos locales: ON colocada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58920" y="26028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3" name=""/>
          <p:cNvGraphicFramePr/>
          <p:nvPr/>
        </p:nvGraphicFramePr>
        <p:xfrm>
          <a:off x="539640" y="1557360"/>
          <a:ext cx="724392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243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 txBox="1"/>
          <p:nvPr/>
        </p:nvSpPr>
        <p:spPr>
          <a:xfrm>
            <a:off x="1692360" y="1197000"/>
            <a:ext cx="606744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Fideicomisos Financieros colo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1258920" y="33336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747720" y="1700280"/>
          <a:ext cx="785664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700280"/>
                    <a:ext cx="78566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 txBox="1"/>
          <p:nvPr/>
        </p:nvSpPr>
        <p:spPr>
          <a:xfrm>
            <a:off x="2195640" y="1197000"/>
            <a:ext cx="490536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Fondos Comunes de Inversión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1" name=""/>
          <p:cNvGraphicFramePr/>
          <p:nvPr/>
        </p:nvGraphicFramePr>
        <p:xfrm>
          <a:off x="611280" y="1484280"/>
          <a:ext cx="735156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735156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 txBox="1"/>
          <p:nvPr/>
        </p:nvSpPr>
        <p:spPr>
          <a:xfrm>
            <a:off x="1908000" y="1125360"/>
            <a:ext cx="5248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volución Patrimonial por tipo de FCI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1293840" y="26496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125280" y="1628640"/>
          <a:ext cx="8694720" cy="46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1628640"/>
                    <a:ext cx="869472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 txBox="1"/>
          <p:nvPr/>
        </p:nvSpPr>
        <p:spPr>
          <a:xfrm>
            <a:off x="2627280" y="1268280"/>
            <a:ext cx="423864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Cheques de Pago Diferido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6248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5293080"/>
            <a:ext cx="33336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arciso Muño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77800" y="2637000"/>
            <a:ext cx="84582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CAPITAL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A. Situación Internacional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. Situación Argentina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/>
          <p:nvPr/>
        </p:nvSpPr>
        <p:spPr>
          <a:xfrm>
            <a:off x="3276720" y="250200"/>
            <a:ext cx="5638680" cy="136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a9ac1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º Congreso Nacional e Internacional de Finanzas de la Empresa y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CE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de agosto al 1º de septiembre 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8" name=""/>
          <p:cNvGraphicFramePr/>
          <p:nvPr/>
        </p:nvGraphicFramePr>
        <p:xfrm>
          <a:off x="831960" y="2043000"/>
          <a:ext cx="7772400" cy="4122720"/>
        </p:xfrm>
        <a:graphic>
          <a:graphicData uri="http://schemas.openxmlformats.org/drawingml/2006/table">
            <a:tbl>
              <a:tblPr/>
              <a:tblGrid>
                <a:gridCol w="2330640"/>
                <a:gridCol w="2049480"/>
                <a:gridCol w="339228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u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de cambio en US$ en el último a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939.7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540.7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3.53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4.7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41.8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-7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47.42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75.0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71.72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11.18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7.70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"/>
          <p:cNvSpPr txBox="1"/>
          <p:nvPr/>
        </p:nvSpPr>
        <p:spPr>
          <a:xfrm>
            <a:off x="2471760" y="1052640"/>
            <a:ext cx="447660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Capitalización de los Mer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1" name=""/>
          <p:cNvGraphicFramePr/>
          <p:nvPr/>
        </p:nvGraphicFramePr>
        <p:xfrm>
          <a:off x="687240" y="1628640"/>
          <a:ext cx="7772400" cy="4680000"/>
        </p:xfrm>
        <a:graphic>
          <a:graphicData uri="http://schemas.openxmlformats.org/drawingml/2006/table">
            <a:tbl>
              <a:tblPr/>
              <a:tblGrid>
                <a:gridCol w="2490840"/>
                <a:gridCol w="1703520"/>
                <a:gridCol w="1797120"/>
                <a:gridCol w="1780920"/>
              </a:tblGrid>
              <a:tr h="60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 a jun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añías loc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añías Extranje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en base a BME no incluye M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2" name=""/>
          <p:cNvSpPr txBox="1"/>
          <p:nvPr/>
        </p:nvSpPr>
        <p:spPr>
          <a:xfrm>
            <a:off x="1863720" y="981000"/>
            <a:ext cx="537228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úmero de Empresas cotizante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4" name=""/>
          <p:cNvGraphicFramePr/>
          <p:nvPr/>
        </p:nvGraphicFramePr>
        <p:xfrm>
          <a:off x="687240" y="1916280"/>
          <a:ext cx="7772400" cy="4114800"/>
        </p:xfrm>
        <a:graphic>
          <a:graphicData uri="http://schemas.openxmlformats.org/drawingml/2006/table">
            <a:tbl>
              <a:tblPr/>
              <a:tblGrid>
                <a:gridCol w="2509920"/>
                <a:gridCol w="2210040"/>
                <a:gridCol w="305244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er Semestre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de cambio s/1er. Sem.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17.08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8.0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8.89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3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1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3.1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-1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49.2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057.9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46.15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4.55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0.6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5" name=""/>
          <p:cNvSpPr txBox="1"/>
          <p:nvPr/>
        </p:nvSpPr>
        <p:spPr>
          <a:xfrm>
            <a:off x="2116080" y="976320"/>
            <a:ext cx="5048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alor negociado en accione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7" name=""/>
          <p:cNvGraphicFramePr/>
          <p:nvPr/>
        </p:nvGraphicFramePr>
        <p:xfrm>
          <a:off x="687240" y="2178000"/>
          <a:ext cx="7772400" cy="4114800"/>
        </p:xfrm>
        <a:graphic>
          <a:graphicData uri="http://schemas.openxmlformats.org/drawingml/2006/table">
            <a:tbl>
              <a:tblPr/>
              <a:tblGrid>
                <a:gridCol w="2322720"/>
                <a:gridCol w="858600"/>
                <a:gridCol w="1609920"/>
                <a:gridCol w="1747800"/>
                <a:gridCol w="1233360"/>
              </a:tblGrid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uda Privada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uda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y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tranj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DE 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DE 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8" name=""/>
          <p:cNvSpPr txBox="1"/>
          <p:nvPr/>
        </p:nvSpPr>
        <p:spPr>
          <a:xfrm>
            <a:off x="1908000" y="1058760"/>
            <a:ext cx="52200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l Mercado de Deuda: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úmero de Bonos Listado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2840040" y="1052640"/>
            <a:ext cx="3552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Futur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2" name=""/>
          <p:cNvSpPr/>
          <p:nvPr/>
        </p:nvSpPr>
        <p:spPr>
          <a:xfrm>
            <a:off x="684360" y="1844640"/>
            <a:ext cx="80769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684360" y="1692360"/>
          <a:ext cx="7991280" cy="5165640"/>
        </p:xfrm>
        <a:graphic>
          <a:graphicData uri="http://schemas.openxmlformats.org/drawingml/2006/table">
            <a:tbl>
              <a:tblPr/>
              <a:tblGrid>
                <a:gridCol w="2230200"/>
                <a:gridCol w="2946600"/>
                <a:gridCol w="2814480"/>
              </a:tblGrid>
              <a:tr h="10508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TRATOS FUTUROS NEGOCIADOS                             1er. SEMESTRE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T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ANCI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T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ROPECU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B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5.63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127.776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.842.748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1.034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TBA + ROF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659.035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9.149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828360" y="1990440"/>
            <a:ext cx="7630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Nace en 179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5, Abril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se fusiona con Archipiélag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Se constituye en sociedad con fines de lucro, forma NYSE Group y lista sus 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La función autorregulatoria es conducida independientemente por una organización sin fines de luc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6, junio 1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NYSE Group y Euronext firman un acuerdo para fusionarse en la nueva NYSE Euronext para negociar acciones y derivados. Las acciones de NYSE Euronext cotizarán en NY y en Par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1879560" y="1554120"/>
            <a:ext cx="542916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EW YORK STOCK EXCHANGE (NYSE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95280" y="11592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042920" y="907920"/>
            <a:ext cx="7334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jemplos puntuales de los mercados líder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687240" y="161928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ercado electrónico de acciones más grande de EEUU tanto en cantidad de empresas (3.200) como en volumen de acciones negoci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5, abril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ompra Instinet Group y luego de una serie de reacomodamientos societarios se queda con INET ECN (Electronic Computing Network), mejorando así la plataforma de negocios electrónicos a sus cl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mayo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luego de una serie de compras posee aprox. el 25% de las acciones de la London Stock Exchange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506760" y="1050840"/>
            <a:ext cx="120960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ASDAQ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1:44:04Z</dcterms:created>
  <dc:creator> </dc:creator>
  <dc:description/>
  <dc:language>en-US</dc:language>
  <cp:lastModifiedBy>Victoria LaFuente</cp:lastModifiedBy>
  <dcterms:modified xsi:type="dcterms:W3CDTF">2006-08-30T19:10:03Z</dcterms:modified>
  <cp:revision>204</cp:revision>
  <dc:subject/>
  <dc:title>ON PYMES: Emisiones</dc:title>
</cp:coreProperties>
</file>