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36A-097E-4010-A071-66D2489B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D4E-70ED-438A-B22D-61CF6E31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6AC-F9EA-4D6F-921A-CEF91A24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E4A-ABA0-4E51-BEB2-8EABA317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34F-3B1C-429A-A1B2-A3809F6E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26B-9260-4348-9AD5-05E2283D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BCF-7B7E-4E98-A9CE-66E8A44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095-DA17-4DE0-8C44-834EE33A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49B-DC7F-4DFF-8E82-EB964FB8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3D1-BBFF-42AB-9FDD-909A0DCB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A02-A71F-45F1-A704-8C5F5E2E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08A-6174-4924-AE34-575DB1A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85DA-D82B-4354-9A3A-0B91DDD2D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614600" y="1397160"/>
            <a:ext cx="66038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26958" t="12452" r="28098" b="44196"/>
          <a:stretch/>
        </p:blipFill>
        <p:spPr>
          <a:xfrm>
            <a:off x="6443640" y="380880"/>
            <a:ext cx="2536920" cy="817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36360" y="0"/>
            <a:ext cx="9180360" cy="11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36360" y="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15920" y="6629400"/>
            <a:ext cx="903924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1459080"/>
            <a:ext cx="67816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Compañía Inversora Bursátil </a:t>
            </a:r>
            <a:br>
              <a:rPr sz="3400"/>
            </a:b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Sociedad de Bolsa S.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504600" y="6095880"/>
            <a:ext cx="7596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400800" y="6095880"/>
            <a:ext cx="7632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5120" y="1125360"/>
            <a:ext cx="380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108080"/>
            <a:ext cx="0" cy="1600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708280"/>
            <a:ext cx="63244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09680" y="2519280"/>
            <a:ext cx="763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9080" y="55627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rebuchet MS"/>
              </a:rPr>
              <a:t>Agost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4665600"/>
            <a:ext cx="3888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ristian Calde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Gerente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1700280"/>
            <a:ext cx="7632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Distribución por tipo de Cuotapartistas - Gainvest 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1305" r="0" b="0"/>
          <a:stretch/>
        </p:blipFill>
        <p:spPr>
          <a:xfrm>
            <a:off x="971640" y="2732040"/>
            <a:ext cx="7056360" cy="3289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8106" t="13255" r="24689" b="16480"/>
          <a:stretch/>
        </p:blipFill>
        <p:spPr>
          <a:xfrm>
            <a:off x="1185840" y="1341360"/>
            <a:ext cx="6265800" cy="4005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89080" y="5877000"/>
            <a:ext cx="669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ad98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2536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5950080"/>
            <a:ext cx="6121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40000"/>
                </a:solidFill>
                <a:latin typeface="Trebuchet MS"/>
              </a:rPr>
              <a:t>105 especies de Fideicomisos Financieros en carter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341360"/>
            <a:ext cx="8748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rebuchet MS"/>
              </a:rPr>
              <a:t>Cartera de Inversiones del Fondo Gainvest 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23920" y="6172200"/>
            <a:ext cx="7551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d8c866"/>
              </a:buClr>
              <a:buFont typeface="Wingdings 2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rebuchet MS"/>
              </a:rPr>
              <a:t>Rentabilidad Promedio Fondos de M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d8c866"/>
              </a:buClr>
              <a:buFont typeface="Wingdings 2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Los resultados históricos no garantizan que los mismos se mantengan en el fut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203480"/>
            <a:ext cx="7777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77777"/>
                </a:solidFill>
                <a:latin typeface="Arial"/>
              </a:rPr>
              <a:t>Los FCI de FF permiten al inversor obtener una rentabilidad superior a los Fondos de Money Market, con una volatilidad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0" b="4821"/>
          <a:stretch/>
        </p:blipFill>
        <p:spPr>
          <a:xfrm>
            <a:off x="324000" y="1898640"/>
            <a:ext cx="7812000" cy="426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349360"/>
            <a:ext cx="1656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21194" t="12860" r="76047" b="74304"/>
          <a:stretch/>
        </p:blipFill>
        <p:spPr>
          <a:xfrm>
            <a:off x="1955880" y="2349360"/>
            <a:ext cx="239760" cy="71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24000" y="242100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edio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7921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CIs de 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1700280"/>
            <a:ext cx="662472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más atractivos que las alternativas de inversión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Alternativa de inversión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Variedad de características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Oferta pública y posibilidad de negociación en mercad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locación en oferta primaria mediante procesos licitatorios cl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8160" y="6984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Ventajas para el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2800" y="90504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8160" y="62532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Yield Cu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2800" y="836640"/>
            <a:ext cx="7596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26920" y="1700280"/>
            <a:ext cx="662472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más atractivos que las alternativas de inversión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Alternativa de inversión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Variedad de características financi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Oferta pública y posibilidad de negociación en mercad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locación en oferta primaria mediante procesos licitatorios cl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160" y="6984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Ventajas para el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2800" y="90504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6920" y="1692360"/>
            <a:ext cx="784872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alificación investment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ndimientos variables para durations superiores a 8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Subyacente formado por créditos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Poca disposición para inversiones de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Conocimiento de los participantes en el proceso de securi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En fideicomisos de PyMes, avales de S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8160" y="62532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Preferencias de los Invers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32800" y="836640"/>
            <a:ext cx="75960" cy="76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7400" y="1459080"/>
            <a:ext cx="67816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Compañía Inversora Bursátil </a:t>
            </a:r>
            <a:br>
              <a:rPr sz="3400"/>
            </a:br>
            <a:r>
              <a:rPr b="0" lang="en-US" sz="3400" spc="-1" strike="noStrike">
                <a:solidFill>
                  <a:srgbClr val="7c7e84"/>
                </a:solidFill>
                <a:latin typeface="Trebuchet MS"/>
              </a:rPr>
              <a:t>Sociedad de Bolsa S.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600" y="6095880"/>
            <a:ext cx="7596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400800" y="6095880"/>
            <a:ext cx="76320" cy="763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05120" y="1125360"/>
            <a:ext cx="380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1108080"/>
            <a:ext cx="0" cy="1600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708280"/>
            <a:ext cx="63244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680" y="2519280"/>
            <a:ext cx="763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9080" y="55627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rebuchet MS"/>
              </a:rPr>
              <a:t>Agost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4665600"/>
            <a:ext cx="3888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ristian Calde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rebuchet MS"/>
              </a:rPr>
              <a:t>Gerente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35280" y="4149720"/>
            <a:ext cx="345744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2451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rebuchet MS"/>
              </a:rPr>
              <a:t>CON OFER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3163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Trebuchet MS"/>
              </a:rPr>
              <a:t>SIN OFER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Clase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627200"/>
            <a:ext cx="41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77777"/>
                </a:solidFill>
                <a:latin typeface="Trebuchet MS"/>
              </a:rPr>
              <a:t>Fideicomisos Ordi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8640" y="2690640"/>
            <a:ext cx="41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2086920" y="4216320"/>
            <a:ext cx="216000" cy="4316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751280" y="421632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651640" y="170640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uentas a cob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57320" y="17002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20760" y="238608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ers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0760" y="291924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ipotec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20760" y="345276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rend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20760" y="3909960"/>
            <a:ext cx="220968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1"/>
          </p:cNvCxnSpPr>
          <p:nvPr/>
        </p:nvCxnSpPr>
        <p:spPr>
          <a:xfrm flipH="1" flipV="1" rot="10800000">
            <a:off x="1056960" y="1927800"/>
            <a:ext cx="164160" cy="57204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5" idx="1"/>
            <a:endCxn id="67" idx="1"/>
          </p:cNvCxnSpPr>
          <p:nvPr/>
        </p:nvCxnSpPr>
        <p:spPr>
          <a:xfrm flipH="1" flipV="1" rot="10800000">
            <a:off x="1056960" y="1927800"/>
            <a:ext cx="164160" cy="110556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5" idx="1"/>
            <a:endCxn id="68" idx="1"/>
          </p:cNvCxnSpPr>
          <p:nvPr/>
        </p:nvCxnSpPr>
        <p:spPr>
          <a:xfrm flipH="1" flipV="1" rot="10800000">
            <a:off x="1056960" y="1927800"/>
            <a:ext cx="164160" cy="163908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5" idx="1"/>
            <a:endCxn id="69" idx="1"/>
          </p:cNvCxnSpPr>
          <p:nvPr/>
        </p:nvCxnSpPr>
        <p:spPr>
          <a:xfrm flipH="1" flipV="1" rot="10800000">
            <a:off x="1056960" y="1927800"/>
            <a:ext cx="164160" cy="2096280"/>
          </a:xfrm>
          <a:prstGeom prst="bentConnector3">
            <a:avLst>
              <a:gd name="adj1" fmla="val -13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042920" y="454356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upones de tarj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54928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h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6320" y="46720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lujos 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90792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77777"/>
                </a:solidFill>
                <a:latin typeface="Trebuchet MS"/>
              </a:rPr>
              <a:t>Activos pasibles de ser securitizado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7760" y="350028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ntratos de L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51640" y="5445000"/>
            <a:ext cx="26654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sarrollos Inmobili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81600" y="2479680"/>
            <a:ext cx="22100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x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6" idx="1"/>
            <a:endCxn id="79" idx="1"/>
          </p:cNvCxnSpPr>
          <p:nvPr/>
        </p:nvCxnSpPr>
        <p:spPr>
          <a:xfrm flipV="1" rot="10800000">
            <a:off x="5650920" y="4900320"/>
            <a:ext cx="5400" cy="65952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4" idx="1"/>
            <a:endCxn id="80" idx="1"/>
          </p:cNvCxnSpPr>
          <p:nvPr/>
        </p:nvCxnSpPr>
        <p:spPr>
          <a:xfrm flipH="1" flipV="1" rot="10800000">
            <a:off x="5650560" y="1934640"/>
            <a:ext cx="130680" cy="659520"/>
          </a:xfrm>
          <a:prstGeom prst="bentConnector3">
            <a:avLst>
              <a:gd name="adj1" fmla="val -1754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651640" y="5864400"/>
            <a:ext cx="266544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6" idx="1"/>
            <a:endCxn id="83" idx="1"/>
          </p:cNvCxnSpPr>
          <p:nvPr/>
        </p:nvCxnSpPr>
        <p:spPr>
          <a:xfrm flipV="1" rot="10800000">
            <a:off x="5650920" y="4900680"/>
            <a:ext cx="5400" cy="1078200"/>
          </a:xfrm>
          <a:prstGeom prst="bentConnector3">
            <a:avLst>
              <a:gd name="adj1" fmla="val 4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Clase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3640" y="1268280"/>
            <a:ext cx="5113440" cy="2442960"/>
          </a:xfrm>
          <a:prstGeom prst="rect">
            <a:avLst/>
          </a:prstGeom>
          <a:solidFill>
            <a:srgbClr val="ff99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3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247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4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1.628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5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5.124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Emisiones 2006*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$4.230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24996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*emisiones correspondientes a enero a agosto d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98280" y="907920"/>
            <a:ext cx="9242280" cy="5745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Emisiones de Fideicomisos Financi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1.628 millones emitidos durante 2004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2200" y="3284640"/>
            <a:ext cx="311436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                     237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  92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     29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7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1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24394" t="15783" r="21639" b="0"/>
          <a:stretch/>
        </p:blipFill>
        <p:spPr>
          <a:xfrm>
            <a:off x="179280" y="2060640"/>
            <a:ext cx="54007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5.124 millones emitidos durante 2005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2479680"/>
            <a:ext cx="3157200" cy="28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atos de Leas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9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                      64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2.04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Prendarios                           7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      58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3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Garantiz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1.0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59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6989" t="30911" r="29797" b="0"/>
          <a:stretch/>
        </p:blipFill>
        <p:spPr>
          <a:xfrm>
            <a:off x="324000" y="1989000"/>
            <a:ext cx="51130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203480"/>
            <a:ext cx="87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77777"/>
                </a:solidFill>
                <a:latin typeface="Trebuchet MS"/>
              </a:rPr>
              <a:t>Los $ 4.230 millones emitidos durante 2006 se han distribuido de la siguiente ma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9040" y="2479680"/>
            <a:ext cx="3282840" cy="31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ratos de Leas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3,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Comercial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9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. de Consumo y Personales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08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ner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,5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éditos Prend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6,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upones de Tarjetas de Crédit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lujos Futur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Garantizad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293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éstamos Hipotecario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8160" y="3348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misiones de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0144" t="11156" r="17757" b="10878"/>
          <a:stretch/>
        </p:blipFill>
        <p:spPr>
          <a:xfrm>
            <a:off x="106200" y="2133720"/>
            <a:ext cx="54738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Evolución por tipo de Inver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320" y="909720"/>
            <a:ext cx="87976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68160" y="334800"/>
            <a:ext cx="649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Trebuchet MS"/>
              </a:rPr>
              <a:t>Nuevo Asset Class: </a:t>
            </a:r>
            <a:r>
              <a:rPr b="1" i="1" lang="en-US" sz="2200" spc="-1" strike="noStrike">
                <a:solidFill>
                  <a:srgbClr val="777777"/>
                </a:solidFill>
                <a:latin typeface="Trebuchet MS"/>
              </a:rPr>
              <a:t>FCIs de Fideicomi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2800" y="533520"/>
            <a:ext cx="75960" cy="7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613320"/>
            <a:ext cx="732780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Divers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Liqu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Reinversión de Cu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777777"/>
                </a:solidFill>
                <a:latin typeface="Trebuchet MS"/>
              </a:rPr>
              <a:t>Portfolio Manager con Conocimiento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buClr>
                <a:srgbClr val="77777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138320"/>
            <a:ext cx="74901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777777"/>
                </a:solidFill>
                <a:latin typeface="Arial"/>
              </a:rPr>
              <a:t>En el último año se han lanzado nuevos FCIs cuyo objeto específico es invertir en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060640"/>
            <a:ext cx="74901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777777"/>
                </a:solidFill>
                <a:latin typeface="Arial"/>
              </a:rPr>
              <a:t>Asimismo, otros FCIs que estaban operativos en el mercado cambiaron su política de inversión aumentando su participación en Fideicomisos 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8:55:41Z</dcterms:created>
  <dc:creator>ccalderon</dc:creator>
  <dc:description/>
  <dc:language>en-US</dc:language>
  <cp:lastModifiedBy>Enrique Algorta</cp:lastModifiedBy>
  <dcterms:modified xsi:type="dcterms:W3CDTF">2006-08-30T15:51:46Z</dcterms:modified>
  <cp:revision>2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00148556</vt:r8>
  </property>
  <property fmtid="{D5CDD505-2E9C-101B-9397-08002B2CF9AE}" pid="3" name="_AuthorEmail">
    <vt:lpwstr>ccalderon@cibsa.com</vt:lpwstr>
  </property>
  <property fmtid="{D5CDD505-2E9C-101B-9397-08002B2CF9AE}" pid="4" name="_AuthorEmailDisplayName">
    <vt:lpwstr>Calderon, Cristian (CIBSA)</vt:lpwstr>
  </property>
  <property fmtid="{D5CDD505-2E9C-101B-9397-08002B2CF9AE}" pid="5" name="_EmailSubject">
    <vt:lpwstr>Presentación Cristian Calderón</vt:lpwstr>
  </property>
  <property fmtid="{D5CDD505-2E9C-101B-9397-08002B2CF9AE}" pid="6" name="_PreviousAdHocReviewCycleID">
    <vt:r8>-1762147559</vt:r8>
  </property>
</Properties>
</file>