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83C-F22A-4BD0-BCE8-53EBD81E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A17-F489-47D0-869D-8C9F4C82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902-5FBF-4EBA-8D34-CCBFB28E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8E8-32C7-4EB6-BAED-D146D29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EBE-3BDD-4F1A-B855-2B91D340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553-8CCE-4A4C-AB19-8BA1D07B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4B2-145D-4BB1-B32A-BB7BE2F5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1A7-0B50-4D70-BF6C-2489607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7EE-EE6A-426F-B90F-55DC628B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BDE-1903-485E-AA7B-CA3A164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04E-C65B-4014-89D5-31182805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AAC-E69D-4899-8158-0CE1C53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91C2-A055-4011-BCE0-B738BE5938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AF05-FDC6-4206-98B9-EC94B590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otas de fondos cerrados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25F1-AB62-4C56-BEE7-97E0B8F5BAD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990720"/>
            <a:ext cx="51055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5200" cy="2819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no la obligación) a comprar a un lanzador los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activos subyace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lote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”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 ven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C4394-6DC4-4419-A1E8-ED22C570E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543800" cy="369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735B2-EF4F-45F6-B1DA-0B80A0B0D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4343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v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315200" cy="243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un lanzador los activos subyacentes ( lote)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termi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F670A-AF88-41A3-AD51-1AF707127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55680"/>
            <a:ext cx="7772400" cy="37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F4FB1-C1F7-448E-A8F2-84DD2AF3C8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ones: Principi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C1DEB-1F91-46E1-835A-1C1DB95F2E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1051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adquiere el derecho que le otorga la opción y por lo tanto el único que puede eje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adquirir el derecho paga una p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E0037-1E8D-405A-8FE5-87D4D856E6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Times New Roman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que paga el titular por el derecho que adqui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valor surge de la oferta/demanda del mercado al igual que la especie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A56F0-1D96-48D2-A7C5-1EA329FFB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Lanzador cubier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391160" cy="281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obliga a cumplir con el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ndo como garantía el activo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269E7-CF05-4054-9D30-858B68ADB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1722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nzador descu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blig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cumplir con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s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r el activo subyac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31260-983C-4C4B-86DA-9677F085D7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22096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fine como serie al conjunto integrado po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activo subyac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condición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 la opción , el precio de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ejercicio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la 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fecha de venci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Led 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8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B5DF9-7320-484E-BE52-349FA5A60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ado liquidación 72 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zo fir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éstam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9680-EAAE-4A67-9BE3-4BC9B062F394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9584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acto formal por el cual el titular hace uso del derecho adquirido , dando origen a una operación de contado 72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derecho se puede formalizar desde el día en que liquida la prima hasta el día inmediato anterior a la fecha de ven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2C35E-0351-4A6B-8989-08CB45314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vendi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se la ejerc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vendida</a:t>
            </a:r>
            <a:r>
              <a:rPr b="1" lang="es-AR" sz="2800" spc="-1" strike="noStrike">
                <a:solidFill>
                  <a:srgbClr val="ff0000"/>
                </a:solidFill>
                <a:latin typeface="Frutiger-Light"/>
                <a:ea typeface="Times New Roman"/>
              </a:rPr>
              <a:t>,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si se la ejercen,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FEEF7-FAD2-4C73-B5E2-FFA52F158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44956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cio de 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29718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por al cual el titular tendrá  el derecho a comprar o vender cada uno de los activos subyacentes  que integran el lote objeto de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FB897-4BBE-4206-A7F3-439DD5BD5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6386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echa de venc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fecha en la expira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22EA7-D037-48F8-872D-A9CF96986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133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aldo resultante, en valor nominal, de una o mas opciones sobre la misma serie realizados por un comit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su saldo la posición será titular o lan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EC565-1F28-41EF-B554-236C369937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acuerdo a la garantía ser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Des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Opuesta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pciones del mismo tipo(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y de  naturaleza inversa(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)sobre un mis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ruzad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Combinan opciones con operaciones de plazo que impliquen posiciones inversas por similar cantidad y sobre el mi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19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57BA3-C27A-46D2-BA20-B3400BECD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Posición de un clien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tular  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nzador    cruzad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   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Posición 1.000 pc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ompra 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Pc al 30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PC.C2.20oc                  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C.C2.40oc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50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86250-CB91-4F63-AAF0-F933D9831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one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981080"/>
          <a:ext cx="8458200" cy="4557960"/>
        </p:xfrm>
        <a:graphic>
          <a:graphicData uri="http://schemas.openxmlformats.org/drawingml/2006/table">
            <a:tbl>
              <a:tblPr/>
              <a:tblGrid>
                <a:gridCol w="2011320"/>
                <a:gridCol w="1554120"/>
                <a:gridCol w="1844640"/>
                <a:gridCol w="1447920"/>
                <a:gridCol w="1600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erto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 descu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ue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z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0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2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,.c2.40o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6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19D25-15CC-432C-B363-3B054A2D4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28195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erre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543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ierre de posición es realizar la operación inversa sobre una serie, extinguiendo su posición total o pa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E90F7-7745-42AE-8ED4-295D476E5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acto formal a través del cual un lanzador impide, el ejercicio total o parcial de uno o mas lotes  que integran un reciente cierre de posiciones  no distribuido, debiendo ser informado oportunamente al M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rval 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la tabla de horari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ta operación se puede realizar cualquier día  impidiendo  un posible ejercicio anticip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loqueo de Posi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838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C514-A6B7-4862-8B67-78491F18B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ón a plazo fi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prador y el vendedor conciertan la operación en una fecha determinada y quedan definitivamente obli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gula el riesgo mediante sistemas de garantías  y cupos 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31F44-0524-4D5A-A250-C55A2F6C8DBA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867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los lanz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cubiertos pueden realizarse sobre todas las acciones y sobre todos los títul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descubiertos solo por las acciones seleccionadas por el mercado y de acuerdo a los cupos estable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obligaciones derivadas del lanzamiento se extinguen por el ejercicio de las opciones, por su vencimiento o por cierre de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9C1BA-9503-43DF-84C7-B73AF8C7A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33412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po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upos son solamente para lanzamientos en descu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por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to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6B676-CB76-4E9E-8600-B5732CEFA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3657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rant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garantía a constituir por el lanzador en descubierto equivale al doble de la prima (valor cierre diario) o el doble de l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a tabla de garantía con menores exigencias ante grandes variaciones de precio de cada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garantías tienen recalculo diario de acuerdo a los precios de cierre con reposición d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3E706-72E3-4D2F-A429-F2A1089850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aturaleza de los bienes que integran la garant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ivo pesos o dólares  bil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úblicos nacionales con sus afo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rivados de la misma especie con el aforo de ca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 fijo en el Banco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garantías a satisfacción del direc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42221-C7A3-41B4-895A-2CCE1E7A20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 (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compra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vende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69084-63F9-4359-A482-E2CD2BDCE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ven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( 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vende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compra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DF20B-BDFE-4201-B09B-81FE0721E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solo contrato instrumentado en una o mas liquidaciones, que consiste en la compra o venta contado o para un plazo determinado y la simultanea operación inversa de venta o compra, para un mismo comitente y en un vencimiento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permitidos, cupos y  garant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8A4A6-4E9E-41AF-8A85-16C9EA1638C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pase en el cual el precio de venta al contado, es inferior al precio de cotización y resulta de la aplicación de aforos y el descuento de la tasa de interés del peri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hay garantías. Existe margen de reposición de márgenes de garant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valores y afo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32FFF-EA24-472A-A5C9-46FD1DD4CBE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609480"/>
            <a:ext cx="121921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ndice m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ador de rentabilidad de las acciones que toma como base de comparación de una inversión 100 al 30 de junio de 198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articipación de la acción en la cartera teórica depende de la representatividad en la operatoria de contado.orden decreciente en la participación hasta computar el 80% del volumen, haber operado el 80% de las rue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ización de la cartera cada tres meses en función de seis m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8D1B0-4964-4D3B-9784-1C1C49E58FE6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contrato por medio del cual un agente colocador, se obliga a transferir temporalmente la propiedad de ciertos títulos valores a otro agente tomador quien a su vez se obliga al vencimiento del plazo establecido, a restituir al primero los títulos y el pago de la contraprestación conven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aliza para cubrir operaciones de venta en corto para períodos de hasta un año de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D7E7-9C1B-4F68-86A0-3F810718F242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venta a 72hs de títulos valores que no dispongo en cartera y que simultáneamente los alquilo en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4C8E7-1128-4E8F-8385-567E416308F8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280" y="692280"/>
            <a:ext cx="381636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inición de op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contrato por el cual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nz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vende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una determinada cantidad de dinero denomin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Prima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torga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comprador) el derech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gir a un lanzador dentro de un periodo de ti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do, la compra o la venta de un  </a:t>
            </a:r>
            <a:r>
              <a:rPr b="0" i="1" lang="es-ES_tradnl" sz="2800" spc="-1" strike="noStrike">
                <a:solidFill>
                  <a:srgbClr val="99cc00"/>
                </a:solidFill>
                <a:latin typeface="Times New Roman"/>
              </a:rPr>
              <a:t>“lote”</a:t>
            </a:r>
            <a:r>
              <a:rPr b="0" i="1" lang="es-ES_tradn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antidad de títulos valores ) a un 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precio   de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Ejercicio”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 precio fijo determin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52265-3A20-4424-920D-1F7C2E546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2:30:07Z</dcterms:created>
  <dc:creator>Luis C. Alvarez Nani</dc:creator>
  <dc:description/>
  <dc:language>en-US</dc:language>
  <cp:lastModifiedBy>C.P.C.E.C.A.B.A.</cp:lastModifiedBy>
  <dcterms:modified xsi:type="dcterms:W3CDTF">2006-09-01T20:26:35Z</dcterms:modified>
  <cp:revision>25</cp:revision>
  <dc:subject/>
  <dc:title>Opciones: Definición</dc:title>
</cp:coreProperties>
</file>