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B0B-9A01-4CA6-8AB1-1FE8A4B9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FCB-567C-4A35-B28D-F8C9CEBC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8FE-BAE8-4DE3-94F2-63780011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8B9-B925-4AB0-8E1D-5BF634E2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F83-2068-42AA-BE56-70DEB130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E79-3E5C-4609-814C-0CED4FC4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4A9-C23D-4E7D-88FB-5235C2D2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5CB-9E28-4D23-AC20-70930591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2B2-E850-4D74-9E01-BF1754AC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C50-8A94-4C59-B384-3075C2EE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B95-3015-4429-88C3-FBC09FC2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3B6-5961-46CA-8A9F-E9E4A88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D103-CFB7-4278-B021-C34CCB587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so Prác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GEORGALOS H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tección del Prob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rectorio ( cinco diferentes Accionista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nidades de Negocios no ren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nidades de Producción descentraliza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ncamiento en el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lación Cmg / 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to costo de Fun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to nivel de endeud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s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0000"/>
                </a:solidFill>
                <a:latin typeface="Times New Roman"/>
              </a:rPr>
              <a:t>Resultado Operativo Neutro o Nega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¿ Como retornar a una razonable Ganancia Operativ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Elevar la Facturación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eestructurar integralment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7080" y="3805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evo Organigr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ificación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atég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omiso de la Gerencia con el mode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ión Inmedi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esupuesto a cinco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estructuración de 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estructuración de Gastos  y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lanzamient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trol Presupues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bjetivos por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.N.  (10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ducción de un 5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centración Fabril con acuerdos de 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cremento en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enta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3962520" y="3049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Valoración del Resultado Op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Valoración de las GANA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01832_" descr=""/>
          <p:cNvPicPr/>
          <p:nvPr/>
        </p:nvPicPr>
        <p:blipFill>
          <a:blip r:embed="rId1"/>
          <a:stretch/>
        </p:blipFill>
        <p:spPr>
          <a:xfrm>
            <a:off x="4648320" y="229716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1:44:49Z</dcterms:created>
  <dc:creator>GUILLERMO RIMOLDI</dc:creator>
  <dc:description/>
  <dc:language>en-US</dc:language>
  <cp:lastModifiedBy>GUILLERMO RIMOLDI</cp:lastModifiedBy>
  <dcterms:modified xsi:type="dcterms:W3CDTF">2001-08-22T03:32:04Z</dcterms:modified>
  <cp:revision>3</cp:revision>
  <dc:subject/>
  <dc:title>Caso Práctico</dc:title>
</cp:coreProperties>
</file>