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E9B-E495-46C0-A6A4-EA37B536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2EC-0B94-46E1-A0C3-5CA3218F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830-1675-44D8-9F61-C4D1C536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FEA-E5D8-4A20-BA65-22101CA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194-7183-4BC2-B3BB-ABBB937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024-6E57-409C-BF69-A3DD0603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3CC-5809-46E9-A258-9E3B2129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481-D56D-48CE-95CA-E07319FC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C5F-0C66-459D-9677-4B424B57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938-D0B0-457F-837F-B6D490F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5D5-EAC8-4D66-B13F-7D74113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551-6C8E-4BE9-AC76-B34B1D6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5AE-C52C-4480-8F0C-9244AF876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NEGOCIACION SECUNDARIA POR PRODUCT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9600" y="2590920"/>
            <a:ext cx="236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INSOL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D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2743200" cy="20574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6520" y="1327320"/>
            <a:ext cx="29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RE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AMBI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CONVER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066680"/>
            <a:ext cx="3505320" cy="16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8440" y="42069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86200"/>
            <a:ext cx="2514600" cy="1447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182880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0080" y="83808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876920"/>
            <a:ext cx="1981080" cy="12952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25780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Times New Roman"/>
              </a:rPr>
              <a:t>TIPO DE CAMBI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1828800"/>
            <a:ext cx="152388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657600"/>
            <a:ext cx="167616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74000" y="22860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TERMINANTES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868320"/>
            <a:ext cx="8839440" cy="58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438280"/>
            <a:ext cx="883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EXTERNO DEL SECTOR PUBLICO Y RIESGO ARGENTINO P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8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686800" y="1295280"/>
            <a:ext cx="457200" cy="4953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440" y="1306440"/>
            <a:ext cx="9145440" cy="555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1015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VOLUCION DE LAS CALIFICACIONES DE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7960" y="422280"/>
            <a:ext cx="68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EVOLUCION DEL RIESGO PAIS DE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7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DUCTO INTERNO BRUTO DESESTACIO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1828800"/>
            <a:ext cx="4496040" cy="1752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0" y="209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-6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IPO DE CAMBIO REAL MULT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1447920"/>
            <a:ext cx="213336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JULIO 2001 : 0,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TUACION FINANCIERA SECTOR PU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GA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CAU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ORGANISMOS INTERNACIONALES (BLINDA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EGAC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ANCIAMIENT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MPARACION INTERNACIONAL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ROMEDIO 1993-1998. % P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STEMA FINANCI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INTEGRACION DE R.L. CON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 DE FINANCIAMIENTO DEL SECTOR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IMPUESTOS A OPERA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8991720" cy="56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P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70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5440" cy="571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POSITOS TOTALES EN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80360" y="152280"/>
            <a:ext cx="52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ALISIS DE DEPO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(Millones de 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6200" y="1905120"/>
            <a:ext cx="525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QUERIMIENTO DE FONDOS A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NVERTIBILIDAD AMPL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MODIFICACION C.O. DEL BANC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USO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TEMORES POR DEVALUACION PARA BAJAR GASTO PU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REGIMEN CAMB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RETIRO DE DEPOSITOS Y CAIDA DE RESER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SE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INTERNACIONALES DEL SISTEMA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5440" cy="56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SERVAS NETAS DEL B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992160"/>
            <a:ext cx="9145440" cy="586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80320" y="228600"/>
            <a:ext cx="64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ERVAS INTER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ariaciones en millones de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19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680" y="22096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</a:t>
            </a:r>
            <a:br>
              <a:rPr sz="2800"/>
            </a:b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ATIO DE COBERTURA DE CONVERTIBILIDAD ACIDO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Oro y divisas/(Pases pasivos + base monetari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220760"/>
            <a:ext cx="9145440" cy="563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7360" y="304920"/>
            <a:ext cx="56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VOLUCION DEL CRE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1200" y="87948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Times New Roman"/>
              </a:rPr>
              <a:t>VALORES EN MILLONES DE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96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A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" y="1131840"/>
            <a:ext cx="9126720" cy="569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DESCUENTOS E HIPOTEC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L CREDITO POR ADELANTOS, PRENDARIOS Y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DE INTERES PASIVAS Y LA TASA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87480" y="1143000"/>
            <a:ext cx="932040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VOLUCION DE LAS TASAS CALL Y BAIBOR EN PESOS Y D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NECESIDADES DE 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DEFICIT</a:t>
            </a: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VEN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STABILIZACION DEL NIVEL DE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IN DEL CROWDING OU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FACTOR DE AJ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DEL GOBIERNO NACINAL POR TI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981080"/>
          <a:ext cx="8915400" cy="403884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295280"/>
                <a:gridCol w="1486080"/>
                <a:gridCol w="14857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7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3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RESI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057400" y="289548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363680"/>
            <a:ext cx="8381880" cy="5494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 PRIMARIA (NETA)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DEUDA EXTERNA BRUTA POR SECTOR RESI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600200"/>
          <a:ext cx="9144000" cy="4770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IO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T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ZO 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6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ublico no Fciero y BC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7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Priv no F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tor Finan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2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3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447920" y="25146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 GRAVITACION POTENCIAL DE LA DEUDA PUBLICA EN EL SISTEMA FINANCIERO Y EL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aises seleccionados. En 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52480" y="533520"/>
          <a:ext cx="5639040" cy="37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estment Bankers &amp; Consulting Partners 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21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EMISIONES PRIMARIAS NETAS 1996-2000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PRECIOS DE MERCAD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ARGENTINA. MERCADO DE CAPITALES</a:t>
            </a:r>
            <a:br>
              <a:rPr sz="2800"/>
            </a:b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APITALIZACION DEL MERCADO (VALORES NOMINAL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21:15:48Z</dcterms:created>
  <dc:creator>I.B.C.P.</dc:creator>
  <dc:description/>
  <dc:language>en-US</dc:language>
  <cp:lastModifiedBy>Gerencia de sistemas</cp:lastModifiedBy>
  <dcterms:modified xsi:type="dcterms:W3CDTF">2001-08-22T14:10:42Z</dcterms:modified>
  <cp:revision>42</cp:revision>
  <dc:subject/>
  <dc:title>Presentación de PowerPoint</dc:title>
</cp:coreProperties>
</file>