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2825" cy="6858000"/>
  <p:notesSz cx="6732588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32000" cy="98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96600" y="738000"/>
            <a:ext cx="5337000" cy="36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55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6400" y="467964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CAA0-D31E-4154-A12D-789A301D9D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5747-E0CB-4E12-8F4D-71CAFDFD08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9600" y="4696920"/>
            <a:ext cx="54658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87D4-4DCA-4842-948F-B901B5B377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9600" y="4696920"/>
            <a:ext cx="54658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2136-F057-42D0-98F5-E5476B4CE0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98400" y="738360"/>
            <a:ext cx="5337360" cy="3695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6400" y="467964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trategie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ehlende Nachfrageprodukte für absterbende Ertragsre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Kernkompetenzabke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truktur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alsche Einschätzung der Wettbewerb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ehlende Technologiebeherrs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rgebnis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msatzrückgang durch absterbendes „Star“-Produktfremdfinanzierter Lageraufba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iquiditätsk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Versilberung von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solve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Verweigerung von Anschlusskrediten durch Hausban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8937-34CE-42A7-BD6C-5832540E4E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746280" y="781200"/>
            <a:ext cx="5167080" cy="3578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069560" y="4683240"/>
            <a:ext cx="45226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14920" y="935964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2276-14A8-4D8E-BCB4-514FBE97A9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14920" y="-360"/>
            <a:ext cx="2916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1160" y="787320"/>
            <a:ext cx="4911840" cy="3402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2040" y="4702320"/>
            <a:ext cx="4867200" cy="437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Unternehmenssanierung, dh. die Bewältigung von existenzbedrohenden Unternehmenskrisen ist eine der schwierigsten und anspruchsvollsten Managementaufga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Komplexität der Aufgabe wird verursacht durch die Forderung nach einer ganzheitlich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se umfasst operative Maßnahmen zur Liquiditäts- und Ergebnisverbesseru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grundlegende strategische Neuausrichtung (von der Portfoliobereinigung bis zur Neugestaltung der Produkt-/Marktbeziehungen einzelner Geschäftsfel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ie grundlegende strukturelle Veränderung (von der grundlegenden Umstrukturierung des Wertschöpfungsprozesses bis hin zur neuen Aufbaustrukt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einen umfassenden Wandel der Unternehmenskult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Unternehmenssanierungen, die lediglich Teile des Systems Unternehmens angehen, werden mittelfristig scheit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409320"/>
            <a:ext cx="9902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55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" name=""/>
          <p:cNvSpPr/>
          <p:nvPr/>
        </p:nvSpPr>
        <p:spPr>
          <a:xfrm>
            <a:off x="5010120" y="6496920"/>
            <a:ext cx="36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C9E9-157C-4550-95E5-127BA3D6F027}" type="slidenum">
              <a:rPr b="0" lang="es-AR" sz="1200" spc="-1" strike="noStrike">
                <a:solidFill>
                  <a:srgbClr val="000000"/>
                </a:solidFill>
                <a:latin typeface="Univers 5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1° Jornada sobre Reestructuración Financier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7" name=""/>
          <p:cNvSpPr/>
          <p:nvPr/>
        </p:nvSpPr>
        <p:spPr>
          <a:xfrm>
            <a:off x="1890720" y="5105520"/>
            <a:ext cx="7020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384560"/>
            <a:ext cx="5193000" cy="10598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trategias para recuperar una razonable ganancia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7320" y="4466160"/>
            <a:ext cx="3454560" cy="1194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tilio Figueiras: afigueiras@kpmg.com.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Buenos Aires, 22 de agosto d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2885040"/>
            <a:ext cx="5142240" cy="11944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ejo Profesional de Ciencias Económicas de la  Ciudad Autónoma de Buenos Aires - Instituto Argentino de Ejecutivos de Finan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9360" y="1066680"/>
            <a:ext cx="1244520" cy="563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0" y="447480"/>
            <a:ext cx="990612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53" name=""/>
          <p:cNvSpPr/>
          <p:nvPr/>
        </p:nvSpPr>
        <p:spPr>
          <a:xfrm>
            <a:off x="1633680" y="5308560"/>
            <a:ext cx="6788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4520" y="1596960"/>
            <a:ext cx="775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Univers 55"/>
              </a:rPr>
              <a:t>1) </a:t>
            </a: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Factores que impactan en la estructura económica y financiera de los negocios  y sus consecue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2) Cómo se identifican los distintos tipos de crisis y sus fa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3) Cómo actuar ante las crisis para sanear las empres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4) Cómo enfocar los procesos de reestructur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vers 55"/>
              </a:rPr>
              <a:t>5) Cómo lograr el reposicionamiento  de la empresa en el merc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9360" y="1066680"/>
            <a:ext cx="1244520" cy="563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8280" y="977760"/>
            <a:ext cx="9201240" cy="5207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0" y="523800"/>
            <a:ext cx="9906120" cy="60984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Univers 55"/>
              </a:rPr>
              <a:t>Factores que impactan en la estructura económica y financiera de los negocios y sus consecuencias</a:t>
            </a:r>
            <a:endParaRPr b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800600"/>
            <a:ext cx="8656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El entorno de mercado cambia a un ritmo cada vez más intenso, el nivel de competitividad es cada vez mayor, esto requiere que las empresas se adapten constante, rapida, y consecuente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7720" y="4597560"/>
            <a:ext cx="528480" cy="444240"/>
          </a:xfrm>
          <a:prstGeom prst="rightArrow">
            <a:avLst>
              <a:gd name="adj1" fmla="val 50000"/>
              <a:gd name="adj2" fmla="val 29741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6440" y="1884240"/>
            <a:ext cx="4105080" cy="259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79360" indent="-16488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Nuevas tecnologías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Comunicaciones, automatización, logística, información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9360" indent="-16488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Globalización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apertura de mercados para bienes, capitales y personas (p.ej. Mercosur, NAFTA, Unión Europ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9360" indent="-164880">
              <a:lnSpc>
                <a:spcPct val="100000"/>
              </a:lnSpc>
              <a:spcBef>
                <a:spcPts val="18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Altas tasa de interés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41800" y="1884240"/>
            <a:ext cx="4327560" cy="26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91960" indent="-177480">
              <a:lnSpc>
                <a:spcPct val="100000"/>
              </a:lnSpc>
              <a:spcBef>
                <a:spcPts val="14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Competidores y factores clave de éxito nuevos, estrategia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tradicionales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obsoletas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1400" spc="-1" strike="noStrike">
                <a:solidFill>
                  <a:srgbClr val="cc3300"/>
                </a:solidFill>
                <a:latin typeface="Univers 55"/>
              </a:rPr>
              <a:t>reno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14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Ciclos de vida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de los productos cada vez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más corto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1400" spc="-1" strike="noStrike">
                <a:solidFill>
                  <a:srgbClr val="cc3300"/>
                </a:solidFill>
                <a:latin typeface="Univers 55"/>
              </a:rPr>
              <a:t>inno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14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Procesos y estructuras 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operativas y administrativas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 ineficiente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y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no competitivas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1400" spc="-1" strike="noStrike">
                <a:solidFill>
                  <a:srgbClr val="cc3300"/>
                </a:solidFill>
                <a:latin typeface="Univers 55"/>
              </a:rPr>
              <a:t>reestru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77480"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Rendimiento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inferiores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al costo del capital,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liquidez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Univers 55"/>
              </a:rPr>
              <a:t>escasa</a:t>
            </a:r>
            <a:r>
              <a:rPr b="0" lang="de-DE" sz="12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 55"/>
              </a:rPr>
              <a:t>==&gt; necesidad de </a:t>
            </a:r>
            <a:r>
              <a:rPr b="1" lang="de-DE" sz="2000" spc="-1" strike="noStrike">
                <a:solidFill>
                  <a:srgbClr val="cc3300"/>
                </a:solidFill>
                <a:latin typeface="Univers 55"/>
              </a:rPr>
              <a:t>¡</a:t>
            </a:r>
            <a:r>
              <a:rPr b="1" lang="de-DE" sz="2000" spc="-1" strike="noStrike" u="sng">
                <a:solidFill>
                  <a:srgbClr val="cc3300"/>
                </a:solidFill>
                <a:uFillTx/>
                <a:latin typeface="Univers 55"/>
              </a:rPr>
              <a:t>actu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2250720" y="-485640"/>
            <a:ext cx="428760" cy="4092480"/>
          </a:xfrm>
          <a:custGeom>
            <a:avLst/>
            <a:gdLst>
              <a:gd name="textAreaLeft" fmla="*/ 0 w 428760"/>
              <a:gd name="textAreaRight" fmla="*/ 429120 w 428760"/>
              <a:gd name="textAreaTop" fmla="*/ 0 h 4092480"/>
              <a:gd name="textAreaBottom" fmla="*/ 4092840 h 409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eff3fb"/>
                </a:solidFill>
                <a:latin typeface="Univers 55"/>
              </a:rPr>
              <a:t>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990840" y="-603360"/>
            <a:ext cx="428760" cy="4327560"/>
          </a:xfrm>
          <a:custGeom>
            <a:avLst/>
            <a:gdLst>
              <a:gd name="textAreaLeft" fmla="*/ 0 w 428760"/>
              <a:gd name="textAreaRight" fmla="*/ 429120 w 428760"/>
              <a:gd name="textAreaTop" fmla="*/ 0 h 4327560"/>
              <a:gd name="textAreaBottom" fmla="*/ 4327920 h 432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eff3fb"/>
                </a:solidFill>
                <a:latin typeface="Univers 55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720" y="5321160"/>
            <a:ext cx="528480" cy="444600"/>
          </a:xfrm>
          <a:prstGeom prst="rightArrow">
            <a:avLst>
              <a:gd name="adj1" fmla="val 50000"/>
              <a:gd name="adj2" fmla="val 2971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1520" y="2082960"/>
            <a:ext cx="557280" cy="2196720"/>
            <a:chOff x="4511520" y="2082960"/>
            <a:chExt cx="557280" cy="2196720"/>
          </a:xfrm>
        </p:grpSpPr>
        <p:sp>
          <p:nvSpPr>
            <p:cNvPr id="66" name=""/>
            <p:cNvSpPr/>
            <p:nvPr/>
          </p:nvSpPr>
          <p:spPr>
            <a:xfrm>
              <a:off x="4511520" y="2082960"/>
              <a:ext cx="557280" cy="667440"/>
            </a:xfrm>
            <a:custGeom>
              <a:avLst/>
              <a:gdLst>
                <a:gd name="textAreaLeft" fmla="*/ 87120 w 557280"/>
                <a:gd name="textAreaRight" fmla="*/ 487800 w 557280"/>
                <a:gd name="textAreaTop" fmla="*/ 166680 h 667440"/>
                <a:gd name="textAreaBottom" fmla="*/ 500760 h 66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11520" y="2847240"/>
              <a:ext cx="557280" cy="667800"/>
            </a:xfrm>
            <a:custGeom>
              <a:avLst/>
              <a:gdLst>
                <a:gd name="textAreaLeft" fmla="*/ 87120 w 557280"/>
                <a:gd name="textAreaRight" fmla="*/ 487800 w 557280"/>
                <a:gd name="textAreaTop" fmla="*/ 166680 h 667800"/>
                <a:gd name="textAreaBottom" fmla="*/ 50112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11520" y="3612240"/>
              <a:ext cx="557280" cy="667440"/>
            </a:xfrm>
            <a:custGeom>
              <a:avLst/>
              <a:gdLst>
                <a:gd name="textAreaLeft" fmla="*/ 87120 w 557280"/>
                <a:gd name="textAreaRight" fmla="*/ 487800 w 557280"/>
                <a:gd name="textAreaTop" fmla="*/ 166680 h 667440"/>
                <a:gd name="textAreaBottom" fmla="*/ 500760 h 66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650960" y="5638680"/>
            <a:ext cx="7323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1080" y="5397480"/>
            <a:ext cx="80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Decisiones equivocadas, el retraso o la falta de adaptación („continuar como siempre“) llevan a rendimientos inferiores a los de la competencia y en muchos casos a una aguda crisis económica y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Cómo se identifican los distintos tipos de crisis y sus fases 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72" name=""/>
          <p:cNvSpPr/>
          <p:nvPr/>
        </p:nvSpPr>
        <p:spPr>
          <a:xfrm>
            <a:off x="1255680" y="3289320"/>
            <a:ext cx="233640" cy="25560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45 Ligh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560" y="1579680"/>
            <a:ext cx="1015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 45 Light"/>
              </a:rPr>
              <a:t>Desempeño </a:t>
            </a:r>
            <a:r>
              <a:rPr b="0" lang="de-DE" sz="1200" spc="-1" strike="noStrike">
                <a:solidFill>
                  <a:srgbClr val="000000"/>
                </a:solidFill>
                <a:latin typeface="Univers 45 Light"/>
              </a:rPr>
              <a:t>(resultados, cash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680" y="4376880"/>
            <a:ext cx="106668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Univers 45 Light"/>
              </a:rPr>
              <a:t>Fases / tipos de cr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31280" y="4978440"/>
            <a:ext cx="1960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 45 Light"/>
              </a:rPr>
              <a:t>Progreso de la cr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68320" y="1752480"/>
            <a:ext cx="0" cy="3208320"/>
          </a:xfrm>
          <a:prstGeom prst="line">
            <a:avLst/>
          </a:prstGeom>
          <a:ln w="63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429000"/>
            <a:ext cx="7105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524560"/>
            <a:ext cx="693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Univers 55"/>
              </a:rPr>
              <a:t>Las diferentes fases de crisis tienen síntomas diferentes, el factor crítico es el TIEMPO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85840" y="549900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3600" y="3556080"/>
            <a:ext cx="34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Univers 55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31920" y="2768760"/>
            <a:ext cx="50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 55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676920" y="2470320"/>
            <a:ext cx="2210040" cy="2441520"/>
            <a:chOff x="6676920" y="2470320"/>
            <a:chExt cx="2210040" cy="2441520"/>
          </a:xfrm>
        </p:grpSpPr>
        <p:sp>
          <p:nvSpPr>
            <p:cNvPr id="83" name=""/>
            <p:cNvSpPr/>
            <p:nvPr/>
          </p:nvSpPr>
          <p:spPr>
            <a:xfrm>
              <a:off x="7020000" y="3583080"/>
              <a:ext cx="884160" cy="404640"/>
            </a:xfrm>
            <a:custGeom>
              <a:avLst/>
              <a:gdLst/>
              <a:ahLst/>
              <a:rect l="l" t="t" r="r" b="b"/>
              <a:pathLst>
                <a:path w="756" h="396">
                  <a:moveTo>
                    <a:pt x="0" y="0"/>
                  </a:moveTo>
                  <a:lnTo>
                    <a:pt x="756" y="396"/>
                  </a:lnTo>
                </a:path>
              </a:pathLst>
            </a:custGeom>
            <a:noFill/>
            <a:ln cap="rnd" w="76320">
              <a:solidFill>
                <a:srgbClr val="ff1b1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55000" y="4003560"/>
              <a:ext cx="11509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Iliquidez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, </a:t>
              </a: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ndeud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76920" y="4384800"/>
              <a:ext cx="1824120" cy="527040"/>
            </a:xfrm>
            <a:custGeom>
              <a:avLst/>
              <a:gdLst>
                <a:gd name="textAreaLeft" fmla="*/ 0 w 1824120"/>
                <a:gd name="textAreaRight" fmla="*/ 1824480 w 18241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65880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Univers 55"/>
                </a:rPr>
                <a:t>Quieb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497720" y="3106800"/>
              <a:ext cx="612720" cy="65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40480" y="2470320"/>
              <a:ext cx="144648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Negación de ampliar créditos bancari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456160" y="2451240"/>
            <a:ext cx="1825560" cy="2460600"/>
            <a:chOff x="5456160" y="2451240"/>
            <a:chExt cx="1825560" cy="2460600"/>
          </a:xfrm>
        </p:grpSpPr>
        <p:sp>
          <p:nvSpPr>
            <p:cNvPr id="89" name=""/>
            <p:cNvSpPr/>
            <p:nvPr/>
          </p:nvSpPr>
          <p:spPr>
            <a:xfrm>
              <a:off x="5456160" y="4384800"/>
              <a:ext cx="1825560" cy="52704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5e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371520" algn="ctr">
                <a:lnSpc>
                  <a:spcPct val="9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risi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1520" algn="ctr">
                <a:lnSpc>
                  <a:spcPct val="9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liquide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88040" y="3592440"/>
              <a:ext cx="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4000" y="3586320"/>
              <a:ext cx="11937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Liquidez escasa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, cesación (parcial) de los pagos de interses y/o princip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83360" y="3041640"/>
              <a:ext cx="0" cy="35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2451240"/>
              <a:ext cx="1200240" cy="65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Venta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1360" y="3260880"/>
              <a:ext cx="1319400" cy="622080"/>
            </a:xfrm>
            <a:custGeom>
              <a:avLst/>
              <a:gdLst/>
              <a:ahLst/>
              <a:rect l="l" t="t" r="r" b="b"/>
              <a:pathLst>
                <a:path w="831" h="392">
                  <a:moveTo>
                    <a:pt x="0" y="392"/>
                  </a:moveTo>
                  <a:lnTo>
                    <a:pt x="368" y="0"/>
                  </a:lnTo>
                  <a:lnTo>
                    <a:pt x="831" y="215"/>
                  </a:lnTo>
                </a:path>
              </a:pathLst>
            </a:custGeom>
            <a:noFill/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154400" y="1676520"/>
            <a:ext cx="2301840" cy="3238560"/>
            <a:chOff x="4154400" y="1676520"/>
            <a:chExt cx="2301840" cy="3238560"/>
          </a:xfrm>
        </p:grpSpPr>
        <p:sp>
          <p:nvSpPr>
            <p:cNvPr id="96" name=""/>
            <p:cNvSpPr/>
            <p:nvPr/>
          </p:nvSpPr>
          <p:spPr>
            <a:xfrm>
              <a:off x="4154400" y="4379760"/>
              <a:ext cx="1824120" cy="535320"/>
            </a:xfrm>
            <a:custGeom>
              <a:avLst/>
              <a:gdLst>
                <a:gd name="textAreaLeft" fmla="*/ 0 w 1824120"/>
                <a:gd name="textAreaRight" fmla="*/ 1824480 w 182412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fb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37152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risi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152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64320" y="3932280"/>
              <a:ext cx="1440" cy="43956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1" y="2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68680" y="3051000"/>
              <a:ext cx="1295640" cy="844560"/>
            </a:xfrm>
            <a:custGeom>
              <a:avLst/>
              <a:gdLst/>
              <a:ahLst/>
              <a:rect l="l" t="t" r="r" b="b"/>
              <a:pathLst>
                <a:path w="816" h="532">
                  <a:moveTo>
                    <a:pt x="0" y="0"/>
                  </a:moveTo>
                  <a:lnTo>
                    <a:pt x="816" y="532"/>
                  </a:lnTo>
                </a:path>
              </a:pathLst>
            </a:custGeom>
            <a:solidFill>
              <a:srgbClr val="b2b2b2"/>
            </a:solidFill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65800" y="3840120"/>
              <a:ext cx="1346040" cy="67068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670680"/>
                <a:gd name="textAreaBottom" fmla="*/ 671040 h 67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mpeoramiento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grave de resultados (hasta negativo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749480" y="2185920"/>
              <a:ext cx="353880" cy="10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7920" y="1676520"/>
              <a:ext cx="2038320" cy="65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Caída de cifra de ventas, aumento de capacidades productivas no utiliz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690640" y="1295280"/>
            <a:ext cx="1976400" cy="3616560"/>
            <a:chOff x="2690640" y="1295280"/>
            <a:chExt cx="1976400" cy="3616560"/>
          </a:xfrm>
        </p:grpSpPr>
        <p:sp>
          <p:nvSpPr>
            <p:cNvPr id="103" name=""/>
            <p:cNvSpPr/>
            <p:nvPr/>
          </p:nvSpPr>
          <p:spPr>
            <a:xfrm>
              <a:off x="4452840" y="3071880"/>
              <a:ext cx="0" cy="12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08240" y="2824200"/>
              <a:ext cx="1346040" cy="217440"/>
            </a:xfrm>
            <a:custGeom>
              <a:avLst/>
              <a:gdLst/>
              <a:ahLst/>
              <a:rect l="l" t="t" r="r" b="b"/>
              <a:pathLst>
                <a:path w="1006" h="166">
                  <a:moveTo>
                    <a:pt x="0" y="2"/>
                  </a:moveTo>
                  <a:lnTo>
                    <a:pt x="769" y="0"/>
                  </a:lnTo>
                  <a:lnTo>
                    <a:pt x="1006" y="166"/>
                  </a:lnTo>
                </a:path>
              </a:pathLst>
            </a:custGeom>
            <a:noFill/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7920" y="3446640"/>
              <a:ext cx="1008000" cy="35208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stanca-miento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de resultados, pérdida de cuota de mer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1480" y="4384800"/>
              <a:ext cx="1825560" cy="52704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48" y="0"/>
                  </a:lnTo>
                  <a:lnTo>
                    <a:pt x="21600" y="10800"/>
                  </a:lnTo>
                  <a:lnTo>
                    <a:pt x="193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76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marL="17136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ri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estructu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90640" y="1295280"/>
              <a:ext cx="1589040" cy="72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Percepción equivocada de la posición competitiv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06640" y="1981080"/>
              <a:ext cx="38160" cy="82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89120" y="1892160"/>
            <a:ext cx="2117520" cy="3019680"/>
            <a:chOff x="1689120" y="1892160"/>
            <a:chExt cx="2117520" cy="3019680"/>
          </a:xfrm>
        </p:grpSpPr>
        <p:sp>
          <p:nvSpPr>
            <p:cNvPr id="110" name=""/>
            <p:cNvSpPr/>
            <p:nvPr/>
          </p:nvSpPr>
          <p:spPr>
            <a:xfrm>
              <a:off x="3105720" y="2825640"/>
              <a:ext cx="0" cy="15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360" y="2666880"/>
              <a:ext cx="558000" cy="56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4360" y="2820960"/>
              <a:ext cx="786600" cy="220680"/>
            </a:xfrm>
            <a:custGeom>
              <a:avLst/>
              <a:gdLst/>
              <a:ahLst/>
              <a:rect l="l" t="t" r="r" b="b"/>
              <a:pathLst>
                <a:path w="907" h="384">
                  <a:moveTo>
                    <a:pt x="0" y="384"/>
                  </a:moveTo>
                  <a:cubicBezTo>
                    <a:pt x="67" y="344"/>
                    <a:pt x="125" y="273"/>
                    <a:pt x="401" y="147"/>
                  </a:cubicBezTo>
                  <a:cubicBezTo>
                    <a:pt x="589" y="59"/>
                    <a:pt x="823" y="27"/>
                    <a:pt x="907" y="3"/>
                  </a:cubicBezTo>
                  <a:lnTo>
                    <a:pt x="907" y="0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1040" y="3554280"/>
              <a:ext cx="11437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Evolución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de resultados </a:t>
              </a: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inferior</a:t>
              </a: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 al mer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6520" y="4384800"/>
              <a:ext cx="1538640" cy="527040"/>
            </a:xfrm>
            <a:custGeom>
              <a:avLst/>
              <a:gdLst>
                <a:gd name="textAreaLeft" fmla="*/ 0 w 1538640"/>
                <a:gd name="textAreaRight" fmla="*/ 1539000 w 15386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26" y="0"/>
                  </a:lnTo>
                  <a:lnTo>
                    <a:pt x="21600" y="10800"/>
                  </a:lnTo>
                  <a:lnTo>
                    <a:pt x="1862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440" rIns="13644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Univers 45 Light"/>
                </a:rPr>
                <a:t>Cri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967040"/>
                  <a:tab algn="l" pos="3933720"/>
                  <a:tab algn="l" pos="5900760"/>
                  <a:tab algn="l" pos="7867800"/>
                  <a:tab algn="l" pos="98344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Univers 45 Light"/>
                </a:rPr>
                <a:t>estratég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4360" y="2335320"/>
              <a:ext cx="194760" cy="64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758600" y="2185560"/>
              <a:ext cx="2048040" cy="1141560"/>
            </a:xfrm>
            <a:prstGeom prst="line">
              <a:avLst/>
            </a:prstGeom>
            <a:ln w="76320">
              <a:solidFill>
                <a:srgbClr val="05b367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89120" y="1892160"/>
              <a:ext cx="1371960" cy="64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0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312840"/>
                  <a:tab algn="l" pos="625320"/>
                  <a:tab algn="l" pos="938160"/>
                  <a:tab algn="l" pos="1251000"/>
                  <a:tab algn="l" pos="1563840"/>
                  <a:tab algn="l" pos="1876320"/>
                  <a:tab algn="l" pos="2189160"/>
                  <a:tab algn="l" pos="2502000"/>
                  <a:tab algn="l" pos="2814480"/>
                  <a:tab algn="l" pos="3127320"/>
                  <a:tab algn="l" pos="3440160"/>
                  <a:tab algn="l" pos="3753000"/>
                  <a:tab algn="l" pos="4065480"/>
                  <a:tab algn="l" pos="4378320"/>
                  <a:tab algn="l" pos="4691160"/>
                  <a:tab algn="l" pos="5003640"/>
                  <a:tab algn="l" pos="5316480"/>
                  <a:tab algn="l" pos="5629320"/>
                  <a:tab algn="l" pos="5942160"/>
                  <a:tab algn="l" pos="625464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Univers 45 Light"/>
                </a:rPr>
                <a:t>Falta de innov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46360" y="4932360"/>
            <a:ext cx="6937200" cy="0"/>
          </a:xfrm>
          <a:prstGeom prst="line">
            <a:avLst/>
          </a:prstGeom>
          <a:ln w="63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8280" y="977760"/>
            <a:ext cx="9201240" cy="520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Univers 55"/>
              </a:rPr>
              <a:t>Cómo actuar ante las crisis para sanear las empresas</a:t>
            </a:r>
            <a:endParaRPr b="1" lang="en-US" sz="24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21" name=""/>
          <p:cNvSpPr/>
          <p:nvPr/>
        </p:nvSpPr>
        <p:spPr>
          <a:xfrm>
            <a:off x="1231920" y="984240"/>
            <a:ext cx="190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Cre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94560" y="4692600"/>
            <a:ext cx="104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f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6840" y="1521000"/>
            <a:ext cx="5668920" cy="3105000"/>
          </a:xfrm>
          <a:custGeom>
            <a:avLst/>
            <a:gdLst/>
            <a:ahLst/>
            <a:rect l="l" t="t" r="r" b="b"/>
            <a:pathLst>
              <a:path w="3648" h="1968">
                <a:moveTo>
                  <a:pt x="0" y="0"/>
                </a:moveTo>
                <a:lnTo>
                  <a:pt x="0" y="1968"/>
                </a:lnTo>
                <a:lnTo>
                  <a:pt x="3648" y="1968"/>
                </a:lnTo>
              </a:path>
            </a:pathLst>
          </a:custGeom>
          <a:noFill/>
          <a:ln w="633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7600" y="5283360"/>
            <a:ext cx="7621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Univers 55"/>
              </a:rPr>
              <a:t>El saneamiento de empresas comienza con la estabilización a través de acciones inmediatas para posibilitar la continuación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516096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65480" y="2540160"/>
            <a:ext cx="1589040" cy="2556000"/>
            <a:chOff x="2265480" y="2540160"/>
            <a:chExt cx="1589040" cy="2556000"/>
          </a:xfrm>
        </p:grpSpPr>
        <p:sp>
          <p:nvSpPr>
            <p:cNvPr id="127" name=""/>
            <p:cNvSpPr/>
            <p:nvPr/>
          </p:nvSpPr>
          <p:spPr>
            <a:xfrm>
              <a:off x="2293920" y="3833640"/>
              <a:ext cx="153504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19160" indent="-11916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Gestión de deu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9160" indent="-11916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Gestión de efectiv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06600" y="2540160"/>
              <a:ext cx="131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Univers 45 Light"/>
                </a:rPr>
                <a:t>Generación de efe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5480" y="3095640"/>
              <a:ext cx="1589040" cy="641160"/>
            </a:xfrm>
            <a:custGeom>
              <a:avLst/>
              <a:gdLst/>
              <a:ahLst/>
              <a:rect l="l" t="t" r="r" b="b"/>
              <a:pathLst>
                <a:path w="1056" h="756">
                  <a:moveTo>
                    <a:pt x="0" y="756"/>
                  </a:moveTo>
                  <a:cubicBezTo>
                    <a:pt x="139" y="741"/>
                    <a:pt x="278" y="726"/>
                    <a:pt x="360" y="624"/>
                  </a:cubicBezTo>
                  <a:cubicBezTo>
                    <a:pt x="442" y="522"/>
                    <a:pt x="376" y="248"/>
                    <a:pt x="492" y="144"/>
                  </a:cubicBezTo>
                  <a:cubicBezTo>
                    <a:pt x="608" y="40"/>
                    <a:pt x="832" y="20"/>
                    <a:pt x="1056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2120" y="4638600"/>
              <a:ext cx="1041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acción inmedi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013280" y="2043000"/>
            <a:ext cx="1733400" cy="3407040"/>
            <a:chOff x="4013280" y="2043000"/>
            <a:chExt cx="1733400" cy="3407040"/>
          </a:xfrm>
        </p:grpSpPr>
        <p:sp>
          <p:nvSpPr>
            <p:cNvPr id="132" name=""/>
            <p:cNvSpPr/>
            <p:nvPr/>
          </p:nvSpPr>
          <p:spPr>
            <a:xfrm>
              <a:off x="4027320" y="3257640"/>
              <a:ext cx="1719360" cy="127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marL="119160" indent="-119160">
                <a:lnSpc>
                  <a:spcPct val="104000"/>
                </a:lnSpc>
                <a:spcBef>
                  <a:spcPts val="275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Univers 45 Light"/>
                </a:rPr>
                <a:t>Cambio de estructuras estratégicas, operati-vas, financieras, organizativ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9160" indent="-119160">
                <a:lnSpc>
                  <a:spcPct val="104000"/>
                </a:lnSpc>
                <a:spcBef>
                  <a:spcPts val="275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Univers 45 Light"/>
                </a:rPr>
                <a:t>Optimización de pro-cesos/ Reducción de cos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13280" y="2043000"/>
              <a:ext cx="17254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Univers 45 Light"/>
                </a:rPr>
                <a:t>Reestructu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91040" y="2462040"/>
              <a:ext cx="1592280" cy="679680"/>
            </a:xfrm>
            <a:custGeom>
              <a:avLst/>
              <a:gdLst/>
              <a:ahLst/>
              <a:rect l="l" t="t" r="r" b="b"/>
              <a:pathLst>
                <a:path w="1056" h="756">
                  <a:moveTo>
                    <a:pt x="0" y="756"/>
                  </a:moveTo>
                  <a:cubicBezTo>
                    <a:pt x="139" y="741"/>
                    <a:pt x="278" y="726"/>
                    <a:pt x="360" y="624"/>
                  </a:cubicBezTo>
                  <a:cubicBezTo>
                    <a:pt x="442" y="522"/>
                    <a:pt x="376" y="248"/>
                    <a:pt x="492" y="144"/>
                  </a:cubicBezTo>
                  <a:cubicBezTo>
                    <a:pt x="608" y="40"/>
                    <a:pt x="832" y="20"/>
                    <a:pt x="1056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56080" y="4627440"/>
              <a:ext cx="1068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plazo medio (semanas, mes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18040" y="1440000"/>
            <a:ext cx="1714680" cy="3672000"/>
            <a:chOff x="5918040" y="1440000"/>
            <a:chExt cx="1714680" cy="3672000"/>
          </a:xfrm>
        </p:grpSpPr>
        <p:sp>
          <p:nvSpPr>
            <p:cNvPr id="137" name=""/>
            <p:cNvSpPr/>
            <p:nvPr/>
          </p:nvSpPr>
          <p:spPr>
            <a:xfrm>
              <a:off x="5918040" y="2637000"/>
              <a:ext cx="1714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7920" indent="-16344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920" indent="-16344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Diversific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920" indent="-163440">
                <a:lnSpc>
                  <a:spcPct val="104000"/>
                </a:lnSpc>
                <a:spcBef>
                  <a:spcPts val="300"/>
                </a:spcBef>
                <a:buClr>
                  <a:srgbClr val="000066"/>
                </a:buClr>
                <a:buSzPct val="70000"/>
                <a:buFont typeface="Wingdings" charset="2"/>
                <a:buChar char="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Univers 45 Light"/>
                </a:rPr>
                <a:t>Adquisi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2920" y="1440000"/>
              <a:ext cx="15415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Univers 45 Light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2160" y="1811160"/>
              <a:ext cx="1589040" cy="677880"/>
            </a:xfrm>
            <a:custGeom>
              <a:avLst/>
              <a:gdLst/>
              <a:ahLst/>
              <a:rect l="l" t="t" r="r" b="b"/>
              <a:pathLst>
                <a:path w="1056" h="756">
                  <a:moveTo>
                    <a:pt x="0" y="756"/>
                  </a:moveTo>
                  <a:cubicBezTo>
                    <a:pt x="139" y="741"/>
                    <a:pt x="278" y="726"/>
                    <a:pt x="360" y="624"/>
                  </a:cubicBezTo>
                  <a:cubicBezTo>
                    <a:pt x="442" y="522"/>
                    <a:pt x="376" y="248"/>
                    <a:pt x="492" y="144"/>
                  </a:cubicBezTo>
                  <a:cubicBezTo>
                    <a:pt x="608" y="40"/>
                    <a:pt x="832" y="20"/>
                    <a:pt x="1056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2120" y="4654440"/>
              <a:ext cx="105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plazo largo (año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473120" y="5778360"/>
            <a:ext cx="792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Univers 55"/>
              </a:rPr>
              <a:t>Continúa con la transición a una fase de reestructuración y 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577044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8280" y="1028880"/>
            <a:ext cx="9201240" cy="52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84360" y="1938240"/>
            <a:ext cx="8658000" cy="2562480"/>
            <a:chOff x="684360" y="1938240"/>
            <a:chExt cx="8658000" cy="2562480"/>
          </a:xfrm>
        </p:grpSpPr>
        <p:sp>
          <p:nvSpPr>
            <p:cNvPr id="145" name=""/>
            <p:cNvSpPr/>
            <p:nvPr/>
          </p:nvSpPr>
          <p:spPr>
            <a:xfrm>
              <a:off x="684360" y="1938240"/>
              <a:ext cx="8658000" cy="2562480"/>
            </a:xfrm>
            <a:prstGeom prst="rightArrow">
              <a:avLst>
                <a:gd name="adj1" fmla="val 75009"/>
                <a:gd name="adj2" fmla="val 425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6520" y="2451240"/>
              <a:ext cx="167724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marL="189000" indent="-189000">
                <a:lnSpc>
                  <a:spcPct val="90000"/>
                </a:lnSpc>
                <a:spcAft>
                  <a:spcPts val="75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Control del proceso de imple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Univers 45 Light"/>
                </a:rPr>
                <a:t>Información a interes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6680" y="2362320"/>
              <a:ext cx="194832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noAutofit/>
            </a:bodyPr>
            <a:p>
              <a:pPr marL="189000" indent="-189000">
                <a:lnSpc>
                  <a:spcPct val="95000"/>
                </a:lnSpc>
                <a:spcBef>
                  <a:spcPts val="30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Univers 45 Light"/>
                </a:rPr>
                <a:t>Análisis detallad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41360" indent="-138240">
                <a:lnSpc>
                  <a:spcPct val="95000"/>
                </a:lnSpc>
                <a:spcBef>
                  <a:spcPts val="249"/>
                </a:spcBef>
                <a:buClr>
                  <a:srgbClr val="ffffff"/>
                </a:buClr>
                <a:buFont typeface="Univers 45 Light"/>
                <a:buChar char="–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Univers 45 Light"/>
                </a:rPr>
                <a:t>mercado y competid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41360" indent="-138240">
                <a:lnSpc>
                  <a:spcPct val="95000"/>
                </a:lnSpc>
                <a:spcBef>
                  <a:spcPts val="249"/>
                </a:spcBef>
                <a:buClr>
                  <a:srgbClr val="ffffff"/>
                </a:buClr>
                <a:buFont typeface="Univers 45 Light"/>
                <a:buChar char="–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Univers 45 Light"/>
                </a:rPr>
                <a:t>desarrollo financiero histór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95000"/>
                </a:lnSpc>
                <a:spcBef>
                  <a:spcPts val="30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Univers 45 Light"/>
                </a:rPr>
                <a:t>Identificación de causas de cr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9000" indent="-189000">
                <a:lnSpc>
                  <a:spcPct val="95000"/>
                </a:lnSpc>
                <a:spcBef>
                  <a:spcPts val="30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Univers 45 Light"/>
                </a:rPr>
                <a:t>Elaboración de un plan de reestructu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Univers 55"/>
              </a:rPr>
              <a:t>Como enfocar los procesos de reestructuración </a:t>
            </a:r>
            <a:endParaRPr b="1" lang="en-US" sz="28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49" name=""/>
          <p:cNvSpPr/>
          <p:nvPr/>
        </p:nvSpPr>
        <p:spPr>
          <a:xfrm>
            <a:off x="419040" y="5245200"/>
            <a:ext cx="495360" cy="4572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54160" y="5346720"/>
            <a:ext cx="7947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Con un enfoque integral que se extiende a todos los ámbitos empresariales se analizan las causas de una crisis y se definen las medidas para superar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040" y="5791320"/>
            <a:ext cx="495360" cy="4572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49320" y="5765760"/>
            <a:ext cx="84582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Univers 55"/>
              </a:rPr>
              <a:t>El proceso de implementación del plan de acción es acompañado y contro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168720" y="1582560"/>
            <a:ext cx="3542040" cy="3306960"/>
            <a:chOff x="3168720" y="1582560"/>
            <a:chExt cx="3542040" cy="3306960"/>
          </a:xfrm>
        </p:grpSpPr>
        <p:sp>
          <p:nvSpPr>
            <p:cNvPr id="154" name=""/>
            <p:cNvSpPr/>
            <p:nvPr/>
          </p:nvSpPr>
          <p:spPr>
            <a:xfrm>
              <a:off x="3168720" y="1582560"/>
              <a:ext cx="3532320" cy="3306960"/>
            </a:xfrm>
            <a:prstGeom prst="ellipse">
              <a:avLst/>
            </a:prstGeom>
            <a:solidFill>
              <a:srgbClr val="eff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83120" y="1589400"/>
              <a:ext cx="3527640" cy="3272760"/>
              <a:chOff x="3183120" y="1589400"/>
              <a:chExt cx="3527640" cy="3272760"/>
            </a:xfrm>
          </p:grpSpPr>
          <p:sp>
            <p:nvSpPr>
              <p:cNvPr id="156" name=""/>
              <p:cNvSpPr/>
              <p:nvPr/>
            </p:nvSpPr>
            <p:spPr>
              <a:xfrm rot="60000">
                <a:off x="4844880" y="1590480"/>
                <a:ext cx="168120" cy="107316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3060000">
                <a:off x="5660640" y="1842840"/>
                <a:ext cx="156960" cy="1173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160000">
                <a:off x="6055200" y="2575800"/>
                <a:ext cx="157320" cy="114588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7080000">
                <a:off x="5929920" y="3132720"/>
                <a:ext cx="157320" cy="1146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8760000">
                <a:off x="5514480" y="3628800"/>
                <a:ext cx="168120" cy="10508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2960000">
                <a:off x="4209840" y="3635280"/>
                <a:ext cx="171360" cy="104616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0740000">
                <a:off x="4868640" y="3811320"/>
                <a:ext cx="174600" cy="104940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4520000">
                <a:off x="3844440" y="3215160"/>
                <a:ext cx="156960" cy="1146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9020000">
                <a:off x="4026600" y="1925640"/>
                <a:ext cx="168120" cy="107352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3677400" y="2664360"/>
                <a:ext cx="157320" cy="1146240"/>
              </a:xfrm>
              <a:prstGeom prst="triangle">
                <a:avLst>
                  <a:gd name="adj" fmla="val 49995"/>
                </a:avLst>
              </a:prstGeom>
              <a:solidFill>
                <a:srgbClr val="00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2187000" y="3337200"/>
            <a:ext cx="2936520" cy="1976760"/>
            <a:chOff x="2187000" y="3337200"/>
            <a:chExt cx="2936520" cy="1976760"/>
          </a:xfrm>
        </p:grpSpPr>
        <p:sp>
          <p:nvSpPr>
            <p:cNvPr id="167" name=""/>
            <p:cNvSpPr/>
            <p:nvPr/>
          </p:nvSpPr>
          <p:spPr>
            <a:xfrm>
              <a:off x="4122000" y="4284720"/>
              <a:ext cx="850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Estructur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7080" y="3960720"/>
              <a:ext cx="710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Proc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84640" y="3379680"/>
              <a:ext cx="707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Sistem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87000" y="4402080"/>
              <a:ext cx="1298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organizati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562400">
              <a:off x="3024360" y="3184920"/>
              <a:ext cx="1746360" cy="2280960"/>
            </a:xfrm>
            <a:custGeom>
              <a:avLst/>
              <a:gdLst/>
              <a:ahLst/>
              <a:rect l="l" t="t" r="r" b="b"/>
              <a:pathLst>
                <a:path w="1243" h="1776">
                  <a:moveTo>
                    <a:pt x="1122" y="5"/>
                  </a:moveTo>
                  <a:lnTo>
                    <a:pt x="1149" y="0"/>
                  </a:lnTo>
                  <a:lnTo>
                    <a:pt x="1242" y="234"/>
                  </a:lnTo>
                  <a:lnTo>
                    <a:pt x="1216" y="245"/>
                  </a:lnTo>
                  <a:lnTo>
                    <a:pt x="1195" y="251"/>
                  </a:lnTo>
                  <a:lnTo>
                    <a:pt x="1175" y="260"/>
                  </a:lnTo>
                  <a:lnTo>
                    <a:pt x="1149" y="268"/>
                  </a:lnTo>
                  <a:lnTo>
                    <a:pt x="1127" y="278"/>
                  </a:lnTo>
                  <a:lnTo>
                    <a:pt x="1102" y="287"/>
                  </a:lnTo>
                  <a:lnTo>
                    <a:pt x="1084" y="297"/>
                  </a:lnTo>
                  <a:lnTo>
                    <a:pt x="1060" y="306"/>
                  </a:lnTo>
                  <a:lnTo>
                    <a:pt x="1040" y="316"/>
                  </a:lnTo>
                  <a:lnTo>
                    <a:pt x="1017" y="328"/>
                  </a:lnTo>
                  <a:lnTo>
                    <a:pt x="996" y="339"/>
                  </a:lnTo>
                  <a:lnTo>
                    <a:pt x="973" y="353"/>
                  </a:lnTo>
                  <a:lnTo>
                    <a:pt x="953" y="365"/>
                  </a:lnTo>
                  <a:lnTo>
                    <a:pt x="936" y="376"/>
                  </a:lnTo>
                  <a:lnTo>
                    <a:pt x="921" y="387"/>
                  </a:lnTo>
                  <a:lnTo>
                    <a:pt x="901" y="399"/>
                  </a:lnTo>
                  <a:lnTo>
                    <a:pt x="882" y="413"/>
                  </a:lnTo>
                  <a:lnTo>
                    <a:pt x="863" y="427"/>
                  </a:lnTo>
                  <a:lnTo>
                    <a:pt x="844" y="441"/>
                  </a:lnTo>
                  <a:lnTo>
                    <a:pt x="831" y="450"/>
                  </a:lnTo>
                  <a:lnTo>
                    <a:pt x="814" y="463"/>
                  </a:lnTo>
                  <a:lnTo>
                    <a:pt x="794" y="480"/>
                  </a:lnTo>
                  <a:lnTo>
                    <a:pt x="773" y="498"/>
                  </a:lnTo>
                  <a:lnTo>
                    <a:pt x="748" y="520"/>
                  </a:lnTo>
                  <a:lnTo>
                    <a:pt x="725" y="541"/>
                  </a:lnTo>
                  <a:lnTo>
                    <a:pt x="699" y="564"/>
                  </a:lnTo>
                  <a:lnTo>
                    <a:pt x="677" y="588"/>
                  </a:lnTo>
                  <a:lnTo>
                    <a:pt x="654" y="615"/>
                  </a:lnTo>
                  <a:lnTo>
                    <a:pt x="635" y="636"/>
                  </a:lnTo>
                  <a:lnTo>
                    <a:pt x="617" y="662"/>
                  </a:lnTo>
                  <a:lnTo>
                    <a:pt x="597" y="686"/>
                  </a:lnTo>
                  <a:lnTo>
                    <a:pt x="576" y="716"/>
                  </a:lnTo>
                  <a:lnTo>
                    <a:pt x="553" y="746"/>
                  </a:lnTo>
                  <a:lnTo>
                    <a:pt x="535" y="774"/>
                  </a:lnTo>
                  <a:lnTo>
                    <a:pt x="515" y="805"/>
                  </a:lnTo>
                  <a:lnTo>
                    <a:pt x="495" y="839"/>
                  </a:lnTo>
                  <a:lnTo>
                    <a:pt x="479" y="872"/>
                  </a:lnTo>
                  <a:lnTo>
                    <a:pt x="465" y="903"/>
                  </a:lnTo>
                  <a:lnTo>
                    <a:pt x="451" y="932"/>
                  </a:lnTo>
                  <a:lnTo>
                    <a:pt x="438" y="960"/>
                  </a:lnTo>
                  <a:lnTo>
                    <a:pt x="424" y="993"/>
                  </a:lnTo>
                  <a:lnTo>
                    <a:pt x="414" y="1023"/>
                  </a:lnTo>
                  <a:lnTo>
                    <a:pt x="403" y="1054"/>
                  </a:lnTo>
                  <a:lnTo>
                    <a:pt x="393" y="1088"/>
                  </a:lnTo>
                  <a:lnTo>
                    <a:pt x="383" y="1117"/>
                  </a:lnTo>
                  <a:lnTo>
                    <a:pt x="374" y="1152"/>
                  </a:lnTo>
                  <a:lnTo>
                    <a:pt x="364" y="1188"/>
                  </a:lnTo>
                  <a:lnTo>
                    <a:pt x="357" y="1223"/>
                  </a:lnTo>
                  <a:lnTo>
                    <a:pt x="350" y="1260"/>
                  </a:lnTo>
                  <a:lnTo>
                    <a:pt x="344" y="1298"/>
                  </a:lnTo>
                  <a:lnTo>
                    <a:pt x="342" y="1333"/>
                  </a:lnTo>
                  <a:lnTo>
                    <a:pt x="339" y="1368"/>
                  </a:lnTo>
                  <a:lnTo>
                    <a:pt x="337" y="1409"/>
                  </a:lnTo>
                  <a:lnTo>
                    <a:pt x="337" y="1443"/>
                  </a:lnTo>
                  <a:lnTo>
                    <a:pt x="337" y="1485"/>
                  </a:lnTo>
                  <a:lnTo>
                    <a:pt x="424" y="1485"/>
                  </a:lnTo>
                  <a:lnTo>
                    <a:pt x="221" y="1775"/>
                  </a:lnTo>
                  <a:lnTo>
                    <a:pt x="0" y="1485"/>
                  </a:lnTo>
                  <a:lnTo>
                    <a:pt x="85" y="1485"/>
                  </a:lnTo>
                  <a:lnTo>
                    <a:pt x="85" y="1439"/>
                  </a:lnTo>
                  <a:lnTo>
                    <a:pt x="86" y="1398"/>
                  </a:lnTo>
                  <a:lnTo>
                    <a:pt x="89" y="1354"/>
                  </a:lnTo>
                  <a:lnTo>
                    <a:pt x="92" y="1315"/>
                  </a:lnTo>
                  <a:lnTo>
                    <a:pt x="95" y="1279"/>
                  </a:lnTo>
                  <a:lnTo>
                    <a:pt x="100" y="1243"/>
                  </a:lnTo>
                  <a:lnTo>
                    <a:pt x="106" y="1205"/>
                  </a:lnTo>
                  <a:lnTo>
                    <a:pt x="112" y="1171"/>
                  </a:lnTo>
                  <a:lnTo>
                    <a:pt x="119" y="1139"/>
                  </a:lnTo>
                  <a:lnTo>
                    <a:pt x="126" y="1104"/>
                  </a:lnTo>
                  <a:lnTo>
                    <a:pt x="137" y="1058"/>
                  </a:lnTo>
                  <a:lnTo>
                    <a:pt x="146" y="1024"/>
                  </a:lnTo>
                  <a:lnTo>
                    <a:pt x="157" y="991"/>
                  </a:lnTo>
                  <a:lnTo>
                    <a:pt x="167" y="959"/>
                  </a:lnTo>
                  <a:lnTo>
                    <a:pt x="181" y="920"/>
                  </a:lnTo>
                  <a:lnTo>
                    <a:pt x="195" y="885"/>
                  </a:lnTo>
                  <a:lnTo>
                    <a:pt x="210" y="852"/>
                  </a:lnTo>
                  <a:lnTo>
                    <a:pt x="222" y="819"/>
                  </a:lnTo>
                  <a:lnTo>
                    <a:pt x="241" y="783"/>
                  </a:lnTo>
                  <a:lnTo>
                    <a:pt x="258" y="748"/>
                  </a:lnTo>
                  <a:lnTo>
                    <a:pt x="273" y="717"/>
                  </a:lnTo>
                  <a:lnTo>
                    <a:pt x="292" y="686"/>
                  </a:lnTo>
                  <a:lnTo>
                    <a:pt x="309" y="657"/>
                  </a:lnTo>
                  <a:lnTo>
                    <a:pt x="327" y="628"/>
                  </a:lnTo>
                  <a:lnTo>
                    <a:pt x="346" y="599"/>
                  </a:lnTo>
                  <a:lnTo>
                    <a:pt x="367" y="567"/>
                  </a:lnTo>
                  <a:lnTo>
                    <a:pt x="388" y="537"/>
                  </a:lnTo>
                  <a:lnTo>
                    <a:pt x="413" y="508"/>
                  </a:lnTo>
                  <a:lnTo>
                    <a:pt x="435" y="481"/>
                  </a:lnTo>
                  <a:lnTo>
                    <a:pt x="457" y="454"/>
                  </a:lnTo>
                  <a:lnTo>
                    <a:pt x="478" y="430"/>
                  </a:lnTo>
                  <a:lnTo>
                    <a:pt x="498" y="409"/>
                  </a:lnTo>
                  <a:lnTo>
                    <a:pt x="525" y="380"/>
                  </a:lnTo>
                  <a:lnTo>
                    <a:pt x="552" y="356"/>
                  </a:lnTo>
                  <a:lnTo>
                    <a:pt x="574" y="335"/>
                  </a:lnTo>
                  <a:lnTo>
                    <a:pt x="600" y="312"/>
                  </a:lnTo>
                  <a:lnTo>
                    <a:pt x="625" y="289"/>
                  </a:lnTo>
                  <a:lnTo>
                    <a:pt x="654" y="267"/>
                  </a:lnTo>
                  <a:lnTo>
                    <a:pt x="681" y="245"/>
                  </a:lnTo>
                  <a:lnTo>
                    <a:pt x="708" y="225"/>
                  </a:lnTo>
                  <a:lnTo>
                    <a:pt x="736" y="203"/>
                  </a:lnTo>
                  <a:lnTo>
                    <a:pt x="762" y="186"/>
                  </a:lnTo>
                  <a:lnTo>
                    <a:pt x="786" y="169"/>
                  </a:lnTo>
                  <a:lnTo>
                    <a:pt x="804" y="157"/>
                  </a:lnTo>
                  <a:lnTo>
                    <a:pt x="820" y="146"/>
                  </a:lnTo>
                  <a:lnTo>
                    <a:pt x="834" y="136"/>
                  </a:lnTo>
                  <a:lnTo>
                    <a:pt x="847" y="130"/>
                  </a:lnTo>
                  <a:lnTo>
                    <a:pt x="863" y="122"/>
                  </a:lnTo>
                  <a:lnTo>
                    <a:pt x="881" y="113"/>
                  </a:lnTo>
                  <a:lnTo>
                    <a:pt x="899" y="103"/>
                  </a:lnTo>
                  <a:lnTo>
                    <a:pt x="916" y="95"/>
                  </a:lnTo>
                  <a:lnTo>
                    <a:pt x="931" y="86"/>
                  </a:lnTo>
                  <a:lnTo>
                    <a:pt x="948" y="78"/>
                  </a:lnTo>
                  <a:lnTo>
                    <a:pt x="966" y="68"/>
                  </a:lnTo>
                  <a:lnTo>
                    <a:pt x="985" y="61"/>
                  </a:lnTo>
                  <a:lnTo>
                    <a:pt x="1004" y="49"/>
                  </a:lnTo>
                  <a:lnTo>
                    <a:pt x="1021" y="44"/>
                  </a:lnTo>
                  <a:lnTo>
                    <a:pt x="1037" y="36"/>
                  </a:lnTo>
                  <a:lnTo>
                    <a:pt x="1056" y="29"/>
                  </a:lnTo>
                  <a:lnTo>
                    <a:pt x="1074" y="22"/>
                  </a:lnTo>
                  <a:lnTo>
                    <a:pt x="1092" y="15"/>
                  </a:lnTo>
                  <a:lnTo>
                    <a:pt x="1107" y="11"/>
                  </a:lnTo>
                  <a:lnTo>
                    <a:pt x="1122" y="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243320" y="2592360"/>
            <a:ext cx="1382760" cy="1300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 45 Light"/>
              </a:rPr>
              <a:t>Enfoqu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27760" y="1020600"/>
            <a:ext cx="2428200" cy="2529720"/>
            <a:chOff x="2327760" y="1020600"/>
            <a:chExt cx="2428200" cy="2529720"/>
          </a:xfrm>
        </p:grpSpPr>
        <p:sp>
          <p:nvSpPr>
            <p:cNvPr id="174" name=""/>
            <p:cNvSpPr/>
            <p:nvPr/>
          </p:nvSpPr>
          <p:spPr>
            <a:xfrm>
              <a:off x="4063680" y="1952640"/>
              <a:ext cx="692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Finanz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22080" y="2679840"/>
              <a:ext cx="843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7760" y="1270080"/>
              <a:ext cx="115560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operativo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financi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600">
              <a:off x="2842920" y="1143000"/>
              <a:ext cx="1744920" cy="2284560"/>
            </a:xfrm>
            <a:custGeom>
              <a:avLst/>
              <a:gdLst/>
              <a:ahLst/>
              <a:rect l="l" t="t" r="r" b="b"/>
              <a:pathLst>
                <a:path w="1243" h="1776">
                  <a:moveTo>
                    <a:pt x="1122" y="5"/>
                  </a:moveTo>
                  <a:lnTo>
                    <a:pt x="1149" y="0"/>
                  </a:lnTo>
                  <a:lnTo>
                    <a:pt x="1242" y="234"/>
                  </a:lnTo>
                  <a:lnTo>
                    <a:pt x="1216" y="245"/>
                  </a:lnTo>
                  <a:lnTo>
                    <a:pt x="1195" y="251"/>
                  </a:lnTo>
                  <a:lnTo>
                    <a:pt x="1175" y="260"/>
                  </a:lnTo>
                  <a:lnTo>
                    <a:pt x="1149" y="268"/>
                  </a:lnTo>
                  <a:lnTo>
                    <a:pt x="1127" y="278"/>
                  </a:lnTo>
                  <a:lnTo>
                    <a:pt x="1102" y="287"/>
                  </a:lnTo>
                  <a:lnTo>
                    <a:pt x="1084" y="297"/>
                  </a:lnTo>
                  <a:lnTo>
                    <a:pt x="1060" y="306"/>
                  </a:lnTo>
                  <a:lnTo>
                    <a:pt x="1040" y="316"/>
                  </a:lnTo>
                  <a:lnTo>
                    <a:pt x="1017" y="328"/>
                  </a:lnTo>
                  <a:lnTo>
                    <a:pt x="996" y="339"/>
                  </a:lnTo>
                  <a:lnTo>
                    <a:pt x="973" y="353"/>
                  </a:lnTo>
                  <a:lnTo>
                    <a:pt x="953" y="365"/>
                  </a:lnTo>
                  <a:lnTo>
                    <a:pt x="936" y="376"/>
                  </a:lnTo>
                  <a:lnTo>
                    <a:pt x="921" y="387"/>
                  </a:lnTo>
                  <a:lnTo>
                    <a:pt x="901" y="399"/>
                  </a:lnTo>
                  <a:lnTo>
                    <a:pt x="882" y="413"/>
                  </a:lnTo>
                  <a:lnTo>
                    <a:pt x="863" y="427"/>
                  </a:lnTo>
                  <a:lnTo>
                    <a:pt x="844" y="441"/>
                  </a:lnTo>
                  <a:lnTo>
                    <a:pt x="831" y="450"/>
                  </a:lnTo>
                  <a:lnTo>
                    <a:pt x="814" y="463"/>
                  </a:lnTo>
                  <a:lnTo>
                    <a:pt x="794" y="480"/>
                  </a:lnTo>
                  <a:lnTo>
                    <a:pt x="773" y="498"/>
                  </a:lnTo>
                  <a:lnTo>
                    <a:pt x="748" y="520"/>
                  </a:lnTo>
                  <a:lnTo>
                    <a:pt x="725" y="541"/>
                  </a:lnTo>
                  <a:lnTo>
                    <a:pt x="699" y="564"/>
                  </a:lnTo>
                  <a:lnTo>
                    <a:pt x="677" y="588"/>
                  </a:lnTo>
                  <a:lnTo>
                    <a:pt x="654" y="615"/>
                  </a:lnTo>
                  <a:lnTo>
                    <a:pt x="635" y="636"/>
                  </a:lnTo>
                  <a:lnTo>
                    <a:pt x="617" y="662"/>
                  </a:lnTo>
                  <a:lnTo>
                    <a:pt x="597" y="686"/>
                  </a:lnTo>
                  <a:lnTo>
                    <a:pt x="576" y="716"/>
                  </a:lnTo>
                  <a:lnTo>
                    <a:pt x="553" y="746"/>
                  </a:lnTo>
                  <a:lnTo>
                    <a:pt x="535" y="774"/>
                  </a:lnTo>
                  <a:lnTo>
                    <a:pt x="515" y="805"/>
                  </a:lnTo>
                  <a:lnTo>
                    <a:pt x="495" y="839"/>
                  </a:lnTo>
                  <a:lnTo>
                    <a:pt x="479" y="872"/>
                  </a:lnTo>
                  <a:lnTo>
                    <a:pt x="465" y="903"/>
                  </a:lnTo>
                  <a:lnTo>
                    <a:pt x="451" y="932"/>
                  </a:lnTo>
                  <a:lnTo>
                    <a:pt x="438" y="960"/>
                  </a:lnTo>
                  <a:lnTo>
                    <a:pt x="424" y="993"/>
                  </a:lnTo>
                  <a:lnTo>
                    <a:pt x="414" y="1023"/>
                  </a:lnTo>
                  <a:lnTo>
                    <a:pt x="403" y="1054"/>
                  </a:lnTo>
                  <a:lnTo>
                    <a:pt x="393" y="1088"/>
                  </a:lnTo>
                  <a:lnTo>
                    <a:pt x="383" y="1117"/>
                  </a:lnTo>
                  <a:lnTo>
                    <a:pt x="374" y="1152"/>
                  </a:lnTo>
                  <a:lnTo>
                    <a:pt x="364" y="1188"/>
                  </a:lnTo>
                  <a:lnTo>
                    <a:pt x="357" y="1223"/>
                  </a:lnTo>
                  <a:lnTo>
                    <a:pt x="350" y="1260"/>
                  </a:lnTo>
                  <a:lnTo>
                    <a:pt x="344" y="1298"/>
                  </a:lnTo>
                  <a:lnTo>
                    <a:pt x="342" y="1333"/>
                  </a:lnTo>
                  <a:lnTo>
                    <a:pt x="339" y="1368"/>
                  </a:lnTo>
                  <a:lnTo>
                    <a:pt x="337" y="1409"/>
                  </a:lnTo>
                  <a:lnTo>
                    <a:pt x="337" y="1443"/>
                  </a:lnTo>
                  <a:lnTo>
                    <a:pt x="337" y="1485"/>
                  </a:lnTo>
                  <a:lnTo>
                    <a:pt x="424" y="1485"/>
                  </a:lnTo>
                  <a:lnTo>
                    <a:pt x="221" y="1775"/>
                  </a:lnTo>
                  <a:lnTo>
                    <a:pt x="0" y="1485"/>
                  </a:lnTo>
                  <a:lnTo>
                    <a:pt x="85" y="1485"/>
                  </a:lnTo>
                  <a:lnTo>
                    <a:pt x="85" y="1439"/>
                  </a:lnTo>
                  <a:lnTo>
                    <a:pt x="86" y="1398"/>
                  </a:lnTo>
                  <a:lnTo>
                    <a:pt x="89" y="1354"/>
                  </a:lnTo>
                  <a:lnTo>
                    <a:pt x="92" y="1315"/>
                  </a:lnTo>
                  <a:lnTo>
                    <a:pt x="95" y="1279"/>
                  </a:lnTo>
                  <a:lnTo>
                    <a:pt x="100" y="1243"/>
                  </a:lnTo>
                  <a:lnTo>
                    <a:pt x="106" y="1205"/>
                  </a:lnTo>
                  <a:lnTo>
                    <a:pt x="112" y="1171"/>
                  </a:lnTo>
                  <a:lnTo>
                    <a:pt x="119" y="1139"/>
                  </a:lnTo>
                  <a:lnTo>
                    <a:pt x="126" y="1104"/>
                  </a:lnTo>
                  <a:lnTo>
                    <a:pt x="137" y="1058"/>
                  </a:lnTo>
                  <a:lnTo>
                    <a:pt x="146" y="1024"/>
                  </a:lnTo>
                  <a:lnTo>
                    <a:pt x="157" y="991"/>
                  </a:lnTo>
                  <a:lnTo>
                    <a:pt x="167" y="959"/>
                  </a:lnTo>
                  <a:lnTo>
                    <a:pt x="181" y="920"/>
                  </a:lnTo>
                  <a:lnTo>
                    <a:pt x="195" y="885"/>
                  </a:lnTo>
                  <a:lnTo>
                    <a:pt x="210" y="852"/>
                  </a:lnTo>
                  <a:lnTo>
                    <a:pt x="222" y="819"/>
                  </a:lnTo>
                  <a:lnTo>
                    <a:pt x="241" y="783"/>
                  </a:lnTo>
                  <a:lnTo>
                    <a:pt x="258" y="748"/>
                  </a:lnTo>
                  <a:lnTo>
                    <a:pt x="273" y="717"/>
                  </a:lnTo>
                  <a:lnTo>
                    <a:pt x="292" y="686"/>
                  </a:lnTo>
                  <a:lnTo>
                    <a:pt x="309" y="657"/>
                  </a:lnTo>
                  <a:lnTo>
                    <a:pt x="327" y="628"/>
                  </a:lnTo>
                  <a:lnTo>
                    <a:pt x="346" y="599"/>
                  </a:lnTo>
                  <a:lnTo>
                    <a:pt x="367" y="567"/>
                  </a:lnTo>
                  <a:lnTo>
                    <a:pt x="388" y="537"/>
                  </a:lnTo>
                  <a:lnTo>
                    <a:pt x="413" y="508"/>
                  </a:lnTo>
                  <a:lnTo>
                    <a:pt x="435" y="481"/>
                  </a:lnTo>
                  <a:lnTo>
                    <a:pt x="457" y="454"/>
                  </a:lnTo>
                  <a:lnTo>
                    <a:pt x="478" y="430"/>
                  </a:lnTo>
                  <a:lnTo>
                    <a:pt x="498" y="409"/>
                  </a:lnTo>
                  <a:lnTo>
                    <a:pt x="525" y="380"/>
                  </a:lnTo>
                  <a:lnTo>
                    <a:pt x="552" y="356"/>
                  </a:lnTo>
                  <a:lnTo>
                    <a:pt x="574" y="335"/>
                  </a:lnTo>
                  <a:lnTo>
                    <a:pt x="600" y="312"/>
                  </a:lnTo>
                  <a:lnTo>
                    <a:pt x="625" y="289"/>
                  </a:lnTo>
                  <a:lnTo>
                    <a:pt x="654" y="267"/>
                  </a:lnTo>
                  <a:lnTo>
                    <a:pt x="681" y="245"/>
                  </a:lnTo>
                  <a:lnTo>
                    <a:pt x="708" y="225"/>
                  </a:lnTo>
                  <a:lnTo>
                    <a:pt x="736" y="203"/>
                  </a:lnTo>
                  <a:lnTo>
                    <a:pt x="762" y="186"/>
                  </a:lnTo>
                  <a:lnTo>
                    <a:pt x="786" y="169"/>
                  </a:lnTo>
                  <a:lnTo>
                    <a:pt x="804" y="157"/>
                  </a:lnTo>
                  <a:lnTo>
                    <a:pt x="820" y="146"/>
                  </a:lnTo>
                  <a:lnTo>
                    <a:pt x="834" y="136"/>
                  </a:lnTo>
                  <a:lnTo>
                    <a:pt x="847" y="130"/>
                  </a:lnTo>
                  <a:lnTo>
                    <a:pt x="863" y="122"/>
                  </a:lnTo>
                  <a:lnTo>
                    <a:pt x="881" y="113"/>
                  </a:lnTo>
                  <a:lnTo>
                    <a:pt x="899" y="103"/>
                  </a:lnTo>
                  <a:lnTo>
                    <a:pt x="916" y="95"/>
                  </a:lnTo>
                  <a:lnTo>
                    <a:pt x="931" y="86"/>
                  </a:lnTo>
                  <a:lnTo>
                    <a:pt x="948" y="78"/>
                  </a:lnTo>
                  <a:lnTo>
                    <a:pt x="966" y="68"/>
                  </a:lnTo>
                  <a:lnTo>
                    <a:pt x="985" y="61"/>
                  </a:lnTo>
                  <a:lnTo>
                    <a:pt x="1004" y="49"/>
                  </a:lnTo>
                  <a:lnTo>
                    <a:pt x="1021" y="44"/>
                  </a:lnTo>
                  <a:lnTo>
                    <a:pt x="1037" y="36"/>
                  </a:lnTo>
                  <a:lnTo>
                    <a:pt x="1056" y="29"/>
                  </a:lnTo>
                  <a:lnTo>
                    <a:pt x="1074" y="22"/>
                  </a:lnTo>
                  <a:lnTo>
                    <a:pt x="1092" y="15"/>
                  </a:lnTo>
                  <a:lnTo>
                    <a:pt x="1107" y="11"/>
                  </a:lnTo>
                  <a:lnTo>
                    <a:pt x="1122" y="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672800" y="1104480"/>
            <a:ext cx="2582640" cy="1964520"/>
            <a:chOff x="4672800" y="1104480"/>
            <a:chExt cx="2582640" cy="1964520"/>
          </a:xfrm>
        </p:grpSpPr>
        <p:sp>
          <p:nvSpPr>
            <p:cNvPr id="179" name=""/>
            <p:cNvSpPr/>
            <p:nvPr/>
          </p:nvSpPr>
          <p:spPr>
            <a:xfrm>
              <a:off x="5174640" y="1881360"/>
              <a:ext cx="631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Gest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cultu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27520" y="2508120"/>
              <a:ext cx="1030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Comunicación interna y exte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52920" y="1320840"/>
              <a:ext cx="8784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ultu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443400">
              <a:off x="4770000" y="1251000"/>
              <a:ext cx="2387520" cy="1671480"/>
            </a:xfrm>
            <a:custGeom>
              <a:avLst/>
              <a:gdLst/>
              <a:ahLst/>
              <a:rect l="l" t="t" r="r" b="b"/>
              <a:pathLst>
                <a:path w="1700" h="1300">
                  <a:moveTo>
                    <a:pt x="1699" y="1223"/>
                  </a:moveTo>
                  <a:lnTo>
                    <a:pt x="1454" y="1299"/>
                  </a:lnTo>
                  <a:lnTo>
                    <a:pt x="1448" y="1278"/>
                  </a:lnTo>
                  <a:lnTo>
                    <a:pt x="1442" y="1258"/>
                  </a:lnTo>
                  <a:lnTo>
                    <a:pt x="1434" y="1232"/>
                  </a:lnTo>
                  <a:lnTo>
                    <a:pt x="1428" y="1207"/>
                  </a:lnTo>
                  <a:lnTo>
                    <a:pt x="1419" y="1184"/>
                  </a:lnTo>
                  <a:lnTo>
                    <a:pt x="1412" y="1165"/>
                  </a:lnTo>
                  <a:lnTo>
                    <a:pt x="1402" y="1140"/>
                  </a:lnTo>
                  <a:lnTo>
                    <a:pt x="1395" y="1119"/>
                  </a:lnTo>
                  <a:lnTo>
                    <a:pt x="1384" y="1094"/>
                  </a:lnTo>
                  <a:lnTo>
                    <a:pt x="1376" y="1072"/>
                  </a:lnTo>
                  <a:lnTo>
                    <a:pt x="1363" y="1050"/>
                  </a:lnTo>
                  <a:lnTo>
                    <a:pt x="1352" y="1029"/>
                  </a:lnTo>
                  <a:lnTo>
                    <a:pt x="1343" y="1012"/>
                  </a:lnTo>
                  <a:lnTo>
                    <a:pt x="1333" y="994"/>
                  </a:lnTo>
                  <a:lnTo>
                    <a:pt x="1322" y="975"/>
                  </a:lnTo>
                  <a:lnTo>
                    <a:pt x="1310" y="955"/>
                  </a:lnTo>
                  <a:lnTo>
                    <a:pt x="1297" y="934"/>
                  </a:lnTo>
                  <a:lnTo>
                    <a:pt x="1284" y="915"/>
                  </a:lnTo>
                  <a:lnTo>
                    <a:pt x="1277" y="900"/>
                  </a:lnTo>
                  <a:lnTo>
                    <a:pt x="1265" y="882"/>
                  </a:lnTo>
                  <a:lnTo>
                    <a:pt x="1250" y="861"/>
                  </a:lnTo>
                  <a:lnTo>
                    <a:pt x="1233" y="840"/>
                  </a:lnTo>
                  <a:lnTo>
                    <a:pt x="1213" y="813"/>
                  </a:lnTo>
                  <a:lnTo>
                    <a:pt x="1194" y="788"/>
                  </a:lnTo>
                  <a:lnTo>
                    <a:pt x="1172" y="762"/>
                  </a:lnTo>
                  <a:lnTo>
                    <a:pt x="1150" y="738"/>
                  </a:lnTo>
                  <a:lnTo>
                    <a:pt x="1125" y="713"/>
                  </a:lnTo>
                  <a:lnTo>
                    <a:pt x="1104" y="693"/>
                  </a:lnTo>
                  <a:lnTo>
                    <a:pt x="1082" y="673"/>
                  </a:lnTo>
                  <a:lnTo>
                    <a:pt x="1059" y="650"/>
                  </a:lnTo>
                  <a:lnTo>
                    <a:pt x="1030" y="627"/>
                  </a:lnTo>
                  <a:lnTo>
                    <a:pt x="1001" y="603"/>
                  </a:lnTo>
                  <a:lnTo>
                    <a:pt x="975" y="583"/>
                  </a:lnTo>
                  <a:lnTo>
                    <a:pt x="944" y="561"/>
                  </a:lnTo>
                  <a:lnTo>
                    <a:pt x="911" y="538"/>
                  </a:lnTo>
                  <a:lnTo>
                    <a:pt x="881" y="521"/>
                  </a:lnTo>
                  <a:lnTo>
                    <a:pt x="851" y="503"/>
                  </a:lnTo>
                  <a:lnTo>
                    <a:pt x="823" y="487"/>
                  </a:lnTo>
                  <a:lnTo>
                    <a:pt x="796" y="473"/>
                  </a:lnTo>
                  <a:lnTo>
                    <a:pt x="765" y="457"/>
                  </a:lnTo>
                  <a:lnTo>
                    <a:pt x="735" y="443"/>
                  </a:lnTo>
                  <a:lnTo>
                    <a:pt x="706" y="431"/>
                  </a:lnTo>
                  <a:lnTo>
                    <a:pt x="672" y="418"/>
                  </a:lnTo>
                  <a:lnTo>
                    <a:pt x="643" y="407"/>
                  </a:lnTo>
                  <a:lnTo>
                    <a:pt x="609" y="395"/>
                  </a:lnTo>
                  <a:lnTo>
                    <a:pt x="574" y="384"/>
                  </a:lnTo>
                  <a:lnTo>
                    <a:pt x="539" y="373"/>
                  </a:lnTo>
                  <a:lnTo>
                    <a:pt x="503" y="365"/>
                  </a:lnTo>
                  <a:lnTo>
                    <a:pt x="465" y="356"/>
                  </a:lnTo>
                  <a:lnTo>
                    <a:pt x="431" y="351"/>
                  </a:lnTo>
                  <a:lnTo>
                    <a:pt x="398" y="344"/>
                  </a:lnTo>
                  <a:lnTo>
                    <a:pt x="355" y="340"/>
                  </a:lnTo>
                  <a:lnTo>
                    <a:pt x="321" y="338"/>
                  </a:lnTo>
                  <a:lnTo>
                    <a:pt x="280" y="335"/>
                  </a:lnTo>
                  <a:lnTo>
                    <a:pt x="274" y="423"/>
                  </a:lnTo>
                  <a:lnTo>
                    <a:pt x="0" y="200"/>
                  </a:lnTo>
                  <a:lnTo>
                    <a:pt x="304" y="0"/>
                  </a:lnTo>
                  <a:lnTo>
                    <a:pt x="298" y="84"/>
                  </a:lnTo>
                  <a:lnTo>
                    <a:pt x="344" y="87"/>
                  </a:lnTo>
                  <a:lnTo>
                    <a:pt x="385" y="91"/>
                  </a:lnTo>
                  <a:lnTo>
                    <a:pt x="428" y="97"/>
                  </a:lnTo>
                  <a:lnTo>
                    <a:pt x="466" y="103"/>
                  </a:lnTo>
                  <a:lnTo>
                    <a:pt x="502" y="108"/>
                  </a:lnTo>
                  <a:lnTo>
                    <a:pt x="537" y="115"/>
                  </a:lnTo>
                  <a:lnTo>
                    <a:pt x="575" y="125"/>
                  </a:lnTo>
                  <a:lnTo>
                    <a:pt x="608" y="133"/>
                  </a:lnTo>
                  <a:lnTo>
                    <a:pt x="641" y="141"/>
                  </a:lnTo>
                  <a:lnTo>
                    <a:pt x="675" y="152"/>
                  </a:lnTo>
                  <a:lnTo>
                    <a:pt x="719" y="165"/>
                  </a:lnTo>
                  <a:lnTo>
                    <a:pt x="752" y="177"/>
                  </a:lnTo>
                  <a:lnTo>
                    <a:pt x="785" y="189"/>
                  </a:lnTo>
                  <a:lnTo>
                    <a:pt x="817" y="203"/>
                  </a:lnTo>
                  <a:lnTo>
                    <a:pt x="854" y="220"/>
                  </a:lnTo>
                  <a:lnTo>
                    <a:pt x="888" y="236"/>
                  </a:lnTo>
                  <a:lnTo>
                    <a:pt x="920" y="251"/>
                  </a:lnTo>
                  <a:lnTo>
                    <a:pt x="950" y="268"/>
                  </a:lnTo>
                  <a:lnTo>
                    <a:pt x="986" y="289"/>
                  </a:lnTo>
                  <a:lnTo>
                    <a:pt x="1018" y="308"/>
                  </a:lnTo>
                  <a:lnTo>
                    <a:pt x="1050" y="326"/>
                  </a:lnTo>
                  <a:lnTo>
                    <a:pt x="1080" y="347"/>
                  </a:lnTo>
                  <a:lnTo>
                    <a:pt x="1107" y="364"/>
                  </a:lnTo>
                  <a:lnTo>
                    <a:pt x="1135" y="386"/>
                  </a:lnTo>
                  <a:lnTo>
                    <a:pt x="1161" y="406"/>
                  </a:lnTo>
                  <a:lnTo>
                    <a:pt x="1192" y="430"/>
                  </a:lnTo>
                  <a:lnTo>
                    <a:pt x="1222" y="453"/>
                  </a:lnTo>
                  <a:lnTo>
                    <a:pt x="1247" y="478"/>
                  </a:lnTo>
                  <a:lnTo>
                    <a:pt x="1273" y="504"/>
                  </a:lnTo>
                  <a:lnTo>
                    <a:pt x="1297" y="527"/>
                  </a:lnTo>
                  <a:lnTo>
                    <a:pt x="1321" y="550"/>
                  </a:lnTo>
                  <a:lnTo>
                    <a:pt x="1341" y="571"/>
                  </a:lnTo>
                  <a:lnTo>
                    <a:pt x="1366" y="599"/>
                  </a:lnTo>
                  <a:lnTo>
                    <a:pt x="1390" y="629"/>
                  </a:lnTo>
                  <a:lnTo>
                    <a:pt x="1410" y="652"/>
                  </a:lnTo>
                  <a:lnTo>
                    <a:pt x="1430" y="680"/>
                  </a:lnTo>
                  <a:lnTo>
                    <a:pt x="1450" y="707"/>
                  </a:lnTo>
                  <a:lnTo>
                    <a:pt x="1472" y="737"/>
                  </a:lnTo>
                  <a:lnTo>
                    <a:pt x="1491" y="766"/>
                  </a:lnTo>
                  <a:lnTo>
                    <a:pt x="1509" y="793"/>
                  </a:lnTo>
                  <a:lnTo>
                    <a:pt x="1530" y="824"/>
                  </a:lnTo>
                  <a:lnTo>
                    <a:pt x="1545" y="849"/>
                  </a:lnTo>
                  <a:lnTo>
                    <a:pt x="1560" y="876"/>
                  </a:lnTo>
                  <a:lnTo>
                    <a:pt x="1569" y="894"/>
                  </a:lnTo>
                  <a:lnTo>
                    <a:pt x="1580" y="911"/>
                  </a:lnTo>
                  <a:lnTo>
                    <a:pt x="1589" y="925"/>
                  </a:lnTo>
                  <a:lnTo>
                    <a:pt x="1594" y="939"/>
                  </a:lnTo>
                  <a:lnTo>
                    <a:pt x="1601" y="956"/>
                  </a:lnTo>
                  <a:lnTo>
                    <a:pt x="1609" y="975"/>
                  </a:lnTo>
                  <a:lnTo>
                    <a:pt x="1616" y="994"/>
                  </a:lnTo>
                  <a:lnTo>
                    <a:pt x="1625" y="1010"/>
                  </a:lnTo>
                  <a:lnTo>
                    <a:pt x="1631" y="1025"/>
                  </a:lnTo>
                  <a:lnTo>
                    <a:pt x="1639" y="1044"/>
                  </a:lnTo>
                  <a:lnTo>
                    <a:pt x="1647" y="1063"/>
                  </a:lnTo>
                  <a:lnTo>
                    <a:pt x="1654" y="1082"/>
                  </a:lnTo>
                  <a:lnTo>
                    <a:pt x="1662" y="1102"/>
                  </a:lnTo>
                  <a:lnTo>
                    <a:pt x="1668" y="1120"/>
                  </a:lnTo>
                  <a:lnTo>
                    <a:pt x="1674" y="1135"/>
                  </a:lnTo>
                  <a:lnTo>
                    <a:pt x="1679" y="1153"/>
                  </a:lnTo>
                  <a:lnTo>
                    <a:pt x="1686" y="1172"/>
                  </a:lnTo>
                  <a:lnTo>
                    <a:pt x="1690" y="1191"/>
                  </a:lnTo>
                  <a:lnTo>
                    <a:pt x="1693" y="1206"/>
                  </a:lnTo>
                  <a:lnTo>
                    <a:pt x="1699" y="122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971600" y="2895840"/>
            <a:ext cx="2626560" cy="2527560"/>
            <a:chOff x="4971600" y="2895840"/>
            <a:chExt cx="2626560" cy="2527560"/>
          </a:xfrm>
        </p:grpSpPr>
        <p:sp>
          <p:nvSpPr>
            <p:cNvPr id="184" name=""/>
            <p:cNvSpPr/>
            <p:nvPr/>
          </p:nvSpPr>
          <p:spPr>
            <a:xfrm rot="11260200">
              <a:off x="5127120" y="3017520"/>
              <a:ext cx="1976400" cy="2284200"/>
            </a:xfrm>
            <a:custGeom>
              <a:avLst/>
              <a:gdLst/>
              <a:ahLst/>
              <a:rect l="l" t="t" r="r" b="b"/>
              <a:pathLst>
                <a:path w="1243" h="1776">
                  <a:moveTo>
                    <a:pt x="1122" y="5"/>
                  </a:moveTo>
                  <a:lnTo>
                    <a:pt x="1149" y="0"/>
                  </a:lnTo>
                  <a:lnTo>
                    <a:pt x="1242" y="234"/>
                  </a:lnTo>
                  <a:lnTo>
                    <a:pt x="1216" y="245"/>
                  </a:lnTo>
                  <a:lnTo>
                    <a:pt x="1195" y="251"/>
                  </a:lnTo>
                  <a:lnTo>
                    <a:pt x="1175" y="260"/>
                  </a:lnTo>
                  <a:lnTo>
                    <a:pt x="1149" y="268"/>
                  </a:lnTo>
                  <a:lnTo>
                    <a:pt x="1127" y="278"/>
                  </a:lnTo>
                  <a:lnTo>
                    <a:pt x="1102" y="287"/>
                  </a:lnTo>
                  <a:lnTo>
                    <a:pt x="1084" y="297"/>
                  </a:lnTo>
                  <a:lnTo>
                    <a:pt x="1060" y="306"/>
                  </a:lnTo>
                  <a:lnTo>
                    <a:pt x="1040" y="316"/>
                  </a:lnTo>
                  <a:lnTo>
                    <a:pt x="1017" y="328"/>
                  </a:lnTo>
                  <a:lnTo>
                    <a:pt x="996" y="339"/>
                  </a:lnTo>
                  <a:lnTo>
                    <a:pt x="973" y="353"/>
                  </a:lnTo>
                  <a:lnTo>
                    <a:pt x="953" y="365"/>
                  </a:lnTo>
                  <a:lnTo>
                    <a:pt x="936" y="376"/>
                  </a:lnTo>
                  <a:lnTo>
                    <a:pt x="921" y="387"/>
                  </a:lnTo>
                  <a:lnTo>
                    <a:pt x="901" y="399"/>
                  </a:lnTo>
                  <a:lnTo>
                    <a:pt x="882" y="413"/>
                  </a:lnTo>
                  <a:lnTo>
                    <a:pt x="863" y="427"/>
                  </a:lnTo>
                  <a:lnTo>
                    <a:pt x="844" y="441"/>
                  </a:lnTo>
                  <a:lnTo>
                    <a:pt x="831" y="450"/>
                  </a:lnTo>
                  <a:lnTo>
                    <a:pt x="814" y="463"/>
                  </a:lnTo>
                  <a:lnTo>
                    <a:pt x="794" y="480"/>
                  </a:lnTo>
                  <a:lnTo>
                    <a:pt x="773" y="498"/>
                  </a:lnTo>
                  <a:lnTo>
                    <a:pt x="748" y="520"/>
                  </a:lnTo>
                  <a:lnTo>
                    <a:pt x="725" y="541"/>
                  </a:lnTo>
                  <a:lnTo>
                    <a:pt x="699" y="564"/>
                  </a:lnTo>
                  <a:lnTo>
                    <a:pt x="677" y="588"/>
                  </a:lnTo>
                  <a:lnTo>
                    <a:pt x="654" y="615"/>
                  </a:lnTo>
                  <a:lnTo>
                    <a:pt x="635" y="636"/>
                  </a:lnTo>
                  <a:lnTo>
                    <a:pt x="617" y="662"/>
                  </a:lnTo>
                  <a:lnTo>
                    <a:pt x="597" y="686"/>
                  </a:lnTo>
                  <a:lnTo>
                    <a:pt x="576" y="716"/>
                  </a:lnTo>
                  <a:lnTo>
                    <a:pt x="553" y="746"/>
                  </a:lnTo>
                  <a:lnTo>
                    <a:pt x="535" y="774"/>
                  </a:lnTo>
                  <a:lnTo>
                    <a:pt x="515" y="805"/>
                  </a:lnTo>
                  <a:lnTo>
                    <a:pt x="495" y="839"/>
                  </a:lnTo>
                  <a:lnTo>
                    <a:pt x="479" y="872"/>
                  </a:lnTo>
                  <a:lnTo>
                    <a:pt x="465" y="903"/>
                  </a:lnTo>
                  <a:lnTo>
                    <a:pt x="451" y="932"/>
                  </a:lnTo>
                  <a:lnTo>
                    <a:pt x="438" y="960"/>
                  </a:lnTo>
                  <a:lnTo>
                    <a:pt x="424" y="993"/>
                  </a:lnTo>
                  <a:lnTo>
                    <a:pt x="414" y="1023"/>
                  </a:lnTo>
                  <a:lnTo>
                    <a:pt x="403" y="1054"/>
                  </a:lnTo>
                  <a:lnTo>
                    <a:pt x="393" y="1088"/>
                  </a:lnTo>
                  <a:lnTo>
                    <a:pt x="383" y="1117"/>
                  </a:lnTo>
                  <a:lnTo>
                    <a:pt x="374" y="1152"/>
                  </a:lnTo>
                  <a:lnTo>
                    <a:pt x="364" y="1188"/>
                  </a:lnTo>
                  <a:lnTo>
                    <a:pt x="357" y="1223"/>
                  </a:lnTo>
                  <a:lnTo>
                    <a:pt x="350" y="1260"/>
                  </a:lnTo>
                  <a:lnTo>
                    <a:pt x="344" y="1298"/>
                  </a:lnTo>
                  <a:lnTo>
                    <a:pt x="342" y="1333"/>
                  </a:lnTo>
                  <a:lnTo>
                    <a:pt x="339" y="1368"/>
                  </a:lnTo>
                  <a:lnTo>
                    <a:pt x="337" y="1409"/>
                  </a:lnTo>
                  <a:lnTo>
                    <a:pt x="337" y="1443"/>
                  </a:lnTo>
                  <a:lnTo>
                    <a:pt x="337" y="1485"/>
                  </a:lnTo>
                  <a:lnTo>
                    <a:pt x="424" y="1485"/>
                  </a:lnTo>
                  <a:lnTo>
                    <a:pt x="221" y="1775"/>
                  </a:lnTo>
                  <a:lnTo>
                    <a:pt x="0" y="1485"/>
                  </a:lnTo>
                  <a:lnTo>
                    <a:pt x="85" y="1485"/>
                  </a:lnTo>
                  <a:lnTo>
                    <a:pt x="85" y="1439"/>
                  </a:lnTo>
                  <a:lnTo>
                    <a:pt x="86" y="1398"/>
                  </a:lnTo>
                  <a:lnTo>
                    <a:pt x="89" y="1354"/>
                  </a:lnTo>
                  <a:lnTo>
                    <a:pt x="92" y="1315"/>
                  </a:lnTo>
                  <a:lnTo>
                    <a:pt x="95" y="1279"/>
                  </a:lnTo>
                  <a:lnTo>
                    <a:pt x="100" y="1243"/>
                  </a:lnTo>
                  <a:lnTo>
                    <a:pt x="106" y="1205"/>
                  </a:lnTo>
                  <a:lnTo>
                    <a:pt x="112" y="1171"/>
                  </a:lnTo>
                  <a:lnTo>
                    <a:pt x="119" y="1139"/>
                  </a:lnTo>
                  <a:lnTo>
                    <a:pt x="126" y="1104"/>
                  </a:lnTo>
                  <a:lnTo>
                    <a:pt x="137" y="1058"/>
                  </a:lnTo>
                  <a:lnTo>
                    <a:pt x="146" y="1024"/>
                  </a:lnTo>
                  <a:lnTo>
                    <a:pt x="157" y="991"/>
                  </a:lnTo>
                  <a:lnTo>
                    <a:pt x="167" y="959"/>
                  </a:lnTo>
                  <a:lnTo>
                    <a:pt x="181" y="920"/>
                  </a:lnTo>
                  <a:lnTo>
                    <a:pt x="195" y="885"/>
                  </a:lnTo>
                  <a:lnTo>
                    <a:pt x="210" y="852"/>
                  </a:lnTo>
                  <a:lnTo>
                    <a:pt x="222" y="819"/>
                  </a:lnTo>
                  <a:lnTo>
                    <a:pt x="241" y="783"/>
                  </a:lnTo>
                  <a:lnTo>
                    <a:pt x="258" y="748"/>
                  </a:lnTo>
                  <a:lnTo>
                    <a:pt x="273" y="717"/>
                  </a:lnTo>
                  <a:lnTo>
                    <a:pt x="292" y="686"/>
                  </a:lnTo>
                  <a:lnTo>
                    <a:pt x="309" y="657"/>
                  </a:lnTo>
                  <a:lnTo>
                    <a:pt x="327" y="628"/>
                  </a:lnTo>
                  <a:lnTo>
                    <a:pt x="346" y="599"/>
                  </a:lnTo>
                  <a:lnTo>
                    <a:pt x="367" y="567"/>
                  </a:lnTo>
                  <a:lnTo>
                    <a:pt x="388" y="537"/>
                  </a:lnTo>
                  <a:lnTo>
                    <a:pt x="413" y="508"/>
                  </a:lnTo>
                  <a:lnTo>
                    <a:pt x="435" y="481"/>
                  </a:lnTo>
                  <a:lnTo>
                    <a:pt x="457" y="454"/>
                  </a:lnTo>
                  <a:lnTo>
                    <a:pt x="478" y="430"/>
                  </a:lnTo>
                  <a:lnTo>
                    <a:pt x="498" y="409"/>
                  </a:lnTo>
                  <a:lnTo>
                    <a:pt x="525" y="380"/>
                  </a:lnTo>
                  <a:lnTo>
                    <a:pt x="552" y="356"/>
                  </a:lnTo>
                  <a:lnTo>
                    <a:pt x="574" y="335"/>
                  </a:lnTo>
                  <a:lnTo>
                    <a:pt x="600" y="312"/>
                  </a:lnTo>
                  <a:lnTo>
                    <a:pt x="625" y="289"/>
                  </a:lnTo>
                  <a:lnTo>
                    <a:pt x="654" y="267"/>
                  </a:lnTo>
                  <a:lnTo>
                    <a:pt x="681" y="245"/>
                  </a:lnTo>
                  <a:lnTo>
                    <a:pt x="708" y="225"/>
                  </a:lnTo>
                  <a:lnTo>
                    <a:pt x="736" y="203"/>
                  </a:lnTo>
                  <a:lnTo>
                    <a:pt x="762" y="186"/>
                  </a:lnTo>
                  <a:lnTo>
                    <a:pt x="786" y="169"/>
                  </a:lnTo>
                  <a:lnTo>
                    <a:pt x="804" y="157"/>
                  </a:lnTo>
                  <a:lnTo>
                    <a:pt x="820" y="146"/>
                  </a:lnTo>
                  <a:lnTo>
                    <a:pt x="834" y="136"/>
                  </a:lnTo>
                  <a:lnTo>
                    <a:pt x="847" y="130"/>
                  </a:lnTo>
                  <a:lnTo>
                    <a:pt x="863" y="122"/>
                  </a:lnTo>
                  <a:lnTo>
                    <a:pt x="881" y="113"/>
                  </a:lnTo>
                  <a:lnTo>
                    <a:pt x="899" y="103"/>
                  </a:lnTo>
                  <a:lnTo>
                    <a:pt x="916" y="95"/>
                  </a:lnTo>
                  <a:lnTo>
                    <a:pt x="931" y="86"/>
                  </a:lnTo>
                  <a:lnTo>
                    <a:pt x="948" y="78"/>
                  </a:lnTo>
                  <a:lnTo>
                    <a:pt x="966" y="68"/>
                  </a:lnTo>
                  <a:lnTo>
                    <a:pt x="985" y="61"/>
                  </a:lnTo>
                  <a:lnTo>
                    <a:pt x="1004" y="49"/>
                  </a:lnTo>
                  <a:lnTo>
                    <a:pt x="1021" y="44"/>
                  </a:lnTo>
                  <a:lnTo>
                    <a:pt x="1037" y="36"/>
                  </a:lnTo>
                  <a:lnTo>
                    <a:pt x="1056" y="29"/>
                  </a:lnTo>
                  <a:lnTo>
                    <a:pt x="1074" y="22"/>
                  </a:lnTo>
                  <a:lnTo>
                    <a:pt x="1092" y="15"/>
                  </a:lnTo>
                  <a:lnTo>
                    <a:pt x="1107" y="11"/>
                  </a:lnTo>
                  <a:lnTo>
                    <a:pt x="1122" y="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66"/>
                </a:gs>
              </a:gsLst>
              <a:lin ang="10800000"/>
            </a:gra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64680" y="3187800"/>
              <a:ext cx="8719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marL="109440"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Univers 45 Light"/>
                </a:rPr>
                <a:t>Recursos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Univers 45 Light"/>
                </a:rPr>
                <a:t>Productos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Univers 45 Light"/>
                </a:rPr>
                <a:t>Merc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93400" y="3884760"/>
              <a:ext cx="615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Visión 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Val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1600" y="4160880"/>
              <a:ext cx="7167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Planea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miento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Univers 45 Light"/>
                </a:rPr>
                <a:t>dire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10520" y="4502160"/>
              <a:ext cx="11876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Ámb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estraté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09320"/>
            <a:ext cx="9902880" cy="609480"/>
          </a:xfrm>
          <a:prstGeom prst="rect">
            <a:avLst/>
          </a:prstGeom>
          <a:noFill/>
          <a:ln w="0">
            <a:noFill/>
          </a:ln>
        </p:spPr>
        <p:txBody>
          <a:bodyPr lIns="914400" rIns="9144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Univers 55"/>
              </a:rPr>
              <a:t>Cómo lograr el reposicionamiento de la empresa en el mercado</a:t>
            </a:r>
            <a:endParaRPr b="1" lang="en-US" sz="24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190" name=""/>
          <p:cNvSpPr/>
          <p:nvPr/>
        </p:nvSpPr>
        <p:spPr>
          <a:xfrm>
            <a:off x="1270080" y="5578560"/>
            <a:ext cx="7997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Univers 55"/>
              </a:rPr>
              <a:t>Se logra el reposicionamiento en el mercado mediante el desarrollo de estrategias competitivas y de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4720" y="5456160"/>
            <a:ext cx="4269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78040" y="961920"/>
            <a:ext cx="5046480" cy="1233720"/>
            <a:chOff x="2678040" y="961920"/>
            <a:chExt cx="5046480" cy="1233720"/>
          </a:xfrm>
        </p:grpSpPr>
        <p:sp>
          <p:nvSpPr>
            <p:cNvPr id="193" name=""/>
            <p:cNvSpPr/>
            <p:nvPr/>
          </p:nvSpPr>
          <p:spPr>
            <a:xfrm flipV="1">
              <a:off x="3989520" y="1292400"/>
              <a:ext cx="1928160" cy="720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25120" y="1065240"/>
              <a:ext cx="1131480" cy="113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78040" y="1111320"/>
              <a:ext cx="132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Innovació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Diversif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5200" y="961920"/>
              <a:ext cx="220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oncentración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centr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968280" y="2265480"/>
            <a:ext cx="2010240" cy="1686240"/>
            <a:chOff x="3968280" y="2265480"/>
            <a:chExt cx="2010240" cy="1686240"/>
          </a:xfrm>
        </p:grpSpPr>
        <p:sp>
          <p:nvSpPr>
            <p:cNvPr id="198" name=""/>
            <p:cNvSpPr/>
            <p:nvPr/>
          </p:nvSpPr>
          <p:spPr>
            <a:xfrm>
              <a:off x="4991040" y="2265480"/>
              <a:ext cx="0" cy="565200"/>
            </a:xfrm>
            <a:prstGeom prst="line">
              <a:avLst/>
            </a:prstGeom>
            <a:ln w="3492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68280" y="3668400"/>
              <a:ext cx="491040" cy="283320"/>
            </a:xfrm>
            <a:prstGeom prst="line">
              <a:avLst/>
            </a:prstGeom>
            <a:ln w="3492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8920" y="3638880"/>
              <a:ext cx="489600" cy="282600"/>
            </a:xfrm>
            <a:prstGeom prst="line">
              <a:avLst/>
            </a:prstGeom>
            <a:ln w="3492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91080" y="2141280"/>
            <a:ext cx="2601360" cy="2149560"/>
            <a:chOff x="3691080" y="2141280"/>
            <a:chExt cx="2601360" cy="2149560"/>
          </a:xfrm>
        </p:grpSpPr>
        <p:sp>
          <p:nvSpPr>
            <p:cNvPr id="202" name=""/>
            <p:cNvSpPr/>
            <p:nvPr/>
          </p:nvSpPr>
          <p:spPr>
            <a:xfrm flipV="1">
              <a:off x="3691080" y="2141280"/>
              <a:ext cx="1017360" cy="163836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74760" y="4290840"/>
              <a:ext cx="1977840" cy="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5273640" y="2141280"/>
              <a:ext cx="1018800" cy="163836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271760" y="2792520"/>
            <a:ext cx="1461240" cy="1199520"/>
            <a:chOff x="4271760" y="2792520"/>
            <a:chExt cx="1461240" cy="1199520"/>
          </a:xfrm>
        </p:grpSpPr>
        <p:sp>
          <p:nvSpPr>
            <p:cNvPr id="206" name=""/>
            <p:cNvSpPr/>
            <p:nvPr/>
          </p:nvSpPr>
          <p:spPr>
            <a:xfrm>
              <a:off x="4570560" y="2895480"/>
              <a:ext cx="904680" cy="90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59480" y="3205080"/>
              <a:ext cx="76176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4665600" y="3048120"/>
              <a:ext cx="762120" cy="608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798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Estrategia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21582000">
              <a:off x="4757400" y="3619080"/>
              <a:ext cx="455760" cy="371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55257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irigir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3502800">
              <a:off x="5088960" y="2989800"/>
              <a:ext cx="654120" cy="341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464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lanear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7917800">
              <a:off x="4244040" y="3020040"/>
              <a:ext cx="676080" cy="338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464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Controlar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803920" y="3416400"/>
            <a:ext cx="3542760" cy="2161440"/>
            <a:chOff x="5803920" y="3416400"/>
            <a:chExt cx="3542760" cy="2161440"/>
          </a:xfrm>
        </p:grpSpPr>
        <p:sp>
          <p:nvSpPr>
            <p:cNvPr id="213" name=""/>
            <p:cNvSpPr/>
            <p:nvPr/>
          </p:nvSpPr>
          <p:spPr>
            <a:xfrm flipV="1">
              <a:off x="6164640" y="3686040"/>
              <a:ext cx="1120320" cy="144900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52960" y="3726000"/>
              <a:ext cx="1131120" cy="113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al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66800" y="3416400"/>
              <a:ext cx="227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alor para los accionis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(„shareholder value“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03920" y="505764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Valor para los interes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(„stakeholder value“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23640" y="3540240"/>
            <a:ext cx="3381120" cy="1886400"/>
            <a:chOff x="1223640" y="3540240"/>
            <a:chExt cx="3381120" cy="1886400"/>
          </a:xfrm>
        </p:grpSpPr>
        <p:sp>
          <p:nvSpPr>
            <p:cNvPr id="218" name=""/>
            <p:cNvSpPr/>
            <p:nvPr/>
          </p:nvSpPr>
          <p:spPr>
            <a:xfrm flipH="1" flipV="1">
              <a:off x="2619360" y="3706560"/>
              <a:ext cx="1120680" cy="1449000"/>
            </a:xfrm>
            <a:prstGeom prst="line">
              <a:avLst/>
            </a:prstGeom>
            <a:ln w="69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4000" y="3726000"/>
              <a:ext cx="1131120" cy="113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Mercado, Producto, 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7680" y="5119560"/>
              <a:ext cx="192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Liderazgo de co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3640" y="3540240"/>
              <a:ext cx="147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Univers 45 Light"/>
                </a:rPr>
                <a:t>Diferenci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Atilio Figueiras</cp:lastModifiedBy>
  <cp:lastPrinted>2001-08-21T14:43:35Z</cp:lastPrinted>
  <dcterms:modified xsi:type="dcterms:W3CDTF">2001-08-21T14:44:26Z</dcterms:modified>
  <cp:revision>683</cp:revision>
  <dc:subject/>
  <dc:title>Plan de Marketing - Coporate Recovery - Resumen -</dc:title>
</cp:coreProperties>
</file>