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8AB2-2B91-4F40-BCC4-66ED997E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0A2F-2ECB-4BD0-9C13-DCB6EE4E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474-CBD7-44B8-9A9D-14A590BA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6D59-A9C4-44A4-B610-6ACA39AD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1224-41F2-4D7D-92E5-050B001F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A396-2605-4A34-94C7-AF69F0B6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9E21-9E5A-4E87-97C1-369CEE28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4D39-285E-46E2-A60E-AFEF8B5A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B5C-9C93-4BF5-99B3-1E4EF33B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D851-B2D6-473C-8F76-CB6F5877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B692-02FC-4406-B5D9-6AB6D1FB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49C6-9D72-4463-A9D8-9AE9E1F8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4C71-4D4C-4ADD-88AC-000A7D4E4C58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987640" y="2997360"/>
            <a:ext cx="4248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ARANTIZAR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0" y="3860640"/>
            <a:ext cx="32115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Sociedad de Garantía Recíproca</a:t>
            </a:r>
            <a:endParaRPr b="1" lang="en-US" sz="16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8360" y="2708280"/>
            <a:ext cx="4324320" cy="1866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381720"/>
            <a:ext cx="3529080" cy="476280"/>
          </a:xfrm>
          <a:prstGeom prst="rect">
            <a:avLst/>
          </a:prstGeom>
          <a:gradFill rotWithShape="0">
            <a:gsLst>
              <a:gs pos="0">
                <a:srgbClr val="004b58"/>
              </a:gs>
              <a:gs pos="100000">
                <a:srgbClr val="024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"/>
              </a:rPr>
              <a:t>FIDICOMISOS FINANCIEROS CON OFERTA PUBLICA REALIZADOS EN LOS ULTIMOS 12 MES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42920" y="1773360"/>
          <a:ext cx="8821800" cy="4497120"/>
        </p:xfrm>
        <a:graphic>
          <a:graphicData uri="http://schemas.openxmlformats.org/drawingml/2006/table">
            <a:tbl>
              <a:tblPr/>
              <a:tblGrid>
                <a:gridCol w="1117440"/>
                <a:gridCol w="1727280"/>
                <a:gridCol w="2016000"/>
                <a:gridCol w="1873440"/>
                <a:gridCol w="2087640"/>
              </a:tblGrid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ec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y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Monto u$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ant. Producto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Fecha integración V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roduc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5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/12/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ro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I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/04/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ot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II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85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/10/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echa Grues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IV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12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/11/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ro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V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671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/02/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oto, Soja y Maíz Pisingall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718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403280" y="2205000"/>
            <a:ext cx="5977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entury"/>
              </a:rPr>
              <a:t>FIDEICOMISOS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entury"/>
              <a:ea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entury"/>
              </a:rPr>
              <a:t>FINANCIEROS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entury"/>
              <a:ea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entury"/>
              </a:rPr>
              <a:t>EN DESARROLLO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236000" y="6378480"/>
            <a:ext cx="1834920" cy="47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8002440" cy="56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ffff66"/>
                </a:solidFill>
                <a:latin typeface="Arial"/>
              </a:rPr>
              <a:t>Productores d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Cosecha Fi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Engorde de Novil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M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Cosecha Grue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Lim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Taba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Fru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Arro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ff66"/>
                </a:solidFill>
                <a:latin typeface="Arial"/>
              </a:rPr>
              <a:t>Adquisición de bienes de capit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236000" y="6359400"/>
            <a:ext cx="190800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987640" y="2997360"/>
            <a:ext cx="4248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ARANTIZAR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0" y="3860640"/>
            <a:ext cx="32115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Sociedad de Garantía Recíproca</a:t>
            </a:r>
            <a:endParaRPr b="1" lang="en-US" sz="16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8360" y="2708280"/>
            <a:ext cx="4324320" cy="1866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6381720"/>
            <a:ext cx="3529080" cy="476280"/>
          </a:xfrm>
          <a:prstGeom prst="rect">
            <a:avLst/>
          </a:prstGeom>
          <a:gradFill rotWithShape="0">
            <a:gsLst>
              <a:gs pos="0">
                <a:srgbClr val="004b58"/>
              </a:gs>
              <a:gs pos="100000">
                <a:srgbClr val="024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763640" y="1916280"/>
            <a:ext cx="5256360" cy="9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SECUPYME V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763640" y="3176640"/>
            <a:ext cx="5256360" cy="9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entury"/>
              </a:rPr>
              <a:t>FIDEICOMISO FINANCIERO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236000" y="6378480"/>
            <a:ext cx="1834920" cy="47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260280"/>
            <a:ext cx="7993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FINANCIA A PYMES PRODUCTORES DE POROTO, SOJA Y MAIZ PISINGALLO DESDE EL PERIODO DE SIEMBRA HASTA LA COSECHA Y SU POSTERIOR INDUSTRIALIZACION Y COMERCIALIZACION EN EL EXTERIOR, A TRAVES DE UN EXPORTADOR HABITU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93080" y="6340320"/>
            <a:ext cx="1977840" cy="5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2960"/>
            <a:ext cx="788508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ORGANIZADOR y OPERADOR TECN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66"/>
                </a:solidFill>
                <a:latin typeface="Arial"/>
              </a:rPr>
              <a:t>Garantizar S.G.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FIDUCIARIO FINANCI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66"/>
                </a:solidFill>
                <a:latin typeface="Arial"/>
              </a:rPr>
              <a:t>Banco de Valores S.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ESTRUCTURACION E IMPLEMENTACION COMER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66"/>
                </a:solidFill>
                <a:latin typeface="Arial"/>
              </a:rPr>
              <a:t>Pereyra Zorraquín, Ichaso &amp; Asoci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ASESOR LEGAL DEL ORGANIZ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66"/>
                </a:solidFill>
                <a:latin typeface="Arial"/>
              </a:rPr>
              <a:t>Estudio Alchouron, Beriso, Bradyalet &amp; Fernández Pelay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93080" y="6340320"/>
            <a:ext cx="1977840" cy="5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36360" y="333360"/>
            <a:ext cx="813564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ORGANIZADOR DE LA COLOCAC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66"/>
                </a:solidFill>
                <a:latin typeface="Arial"/>
              </a:rPr>
              <a:t>Banco de Valores S.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COLOCADORES PRINCIP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66"/>
                </a:solidFill>
                <a:latin typeface="Arial"/>
              </a:rPr>
              <a:t>Nación Bursatil Sociedad de Bolsa S.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66"/>
                </a:solidFill>
                <a:latin typeface="Arial"/>
              </a:rPr>
              <a:t>Mercado de Valores del Litoral S.A. y sus Ag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AUDITORES ASESORES IMPOSI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66"/>
                </a:solidFill>
                <a:latin typeface="Arial"/>
              </a:rPr>
              <a:t>Bértora &amp; Asoci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CALIFICADORA DE RIES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66"/>
                </a:solidFill>
                <a:latin typeface="Arial"/>
              </a:rPr>
              <a:t>Moody’s Latin America S.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AVA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66"/>
                </a:solidFill>
                <a:latin typeface="Arial"/>
              </a:rPr>
              <a:t>Garantizar S.G.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236000" y="6378480"/>
            <a:ext cx="1834920" cy="47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24000" y="115920"/>
          <a:ext cx="8496000" cy="6378480"/>
        </p:xfrm>
        <a:graphic>
          <a:graphicData uri="http://schemas.openxmlformats.org/drawingml/2006/table">
            <a:tbl>
              <a:tblPr/>
              <a:tblGrid>
                <a:gridCol w="3749400"/>
                <a:gridCol w="4746600"/>
              </a:tblGrid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ULOS EMITID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lores representativos de deu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LOR NOMINAL DE EMI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R HASTA VN u$s 2.671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ZO DE AMORTIZAC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0 días fecha de emisió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SA DE INTE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,5% anual vencida (sobre un divisor de 360) pagadero sobre el saldo de capital en cada fecha de liquidación (4,15% anual según precio de emisión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IO DE EMI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1.8929  (Sobre la par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294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IENES FIDEICOMITID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s-MX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etras de cambio a la vista avaladas y aceptadas por Garantizar S.G.R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rechos de cobro s/ boletos de compra – venta de cereales de poroto, soja y maiz pisingallo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rechos s/ las cobranzas de futuras exportaciones cedidas por el exportador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garé librado por el exportador a favor del Fiduciario en el momento de recibir el producto comprometido en los boletos de compravent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LIFICACION DE TITULOS EMITID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“</a:t>
                      </a:r>
                      <a:r>
                        <a:rPr b="1" lang="es-MX" sz="17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A 1”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236000" y="6378480"/>
            <a:ext cx="1834920" cy="47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-1137240" y="46026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404640"/>
          <a:ext cx="6994440" cy="5715000"/>
        </p:xfrm>
        <a:graphic>
          <a:graphicData uri="http://schemas.openxmlformats.org/drawingml/2006/table">
            <a:tbl>
              <a:tblPr/>
              <a:tblGrid>
                <a:gridCol w="3498840"/>
                <a:gridCol w="3495600"/>
              </a:tblGrid>
              <a:tr h="85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LOR NOMINAL INTEG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.N. u$s 2.671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TIZACION DE TITU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lsa de Comercio de Buenos 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lsa de Comercio de Santa 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ECHA DE INTEGRAC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 de febrero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94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ECHA DE ADQUISICIÓN DE LETRAS DE CAMB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 de febrero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96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YMES SELECCION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PORT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erros S.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upo Cremer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165800" y="6350040"/>
            <a:ext cx="1943280" cy="50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24000" y="620640"/>
          <a:ext cx="8064360" cy="5645160"/>
        </p:xfrm>
        <a:graphic>
          <a:graphicData uri="http://schemas.openxmlformats.org/drawingml/2006/table">
            <a:tbl>
              <a:tblPr/>
              <a:tblGrid>
                <a:gridCol w="3558960"/>
                <a:gridCol w="4505400"/>
              </a:tblGrid>
              <a:tr h="647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ULTADO DE LA COLOCAC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TODO DE COLOCAC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r licitación de tasa de interés sistema holandés (dutch auc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84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FERTAS TOTALES RECIBID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r u$s 8.810.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O DE LA EMIS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$s 2.671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122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IO DE EMIS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1.8929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SA DE INTERÉS LICITAD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,15% Anu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236000" y="6378480"/>
            <a:ext cx="1834920" cy="47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21044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ffffff"/>
                </a:solidFill>
                <a:latin typeface="Arial"/>
              </a:rPr>
              <a:t>UBICACIÓN GEOGRÁFICA DE LAS PYMES SELECCIONADA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236000" y="6378480"/>
            <a:ext cx="1834920" cy="479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68360" y="1612800"/>
            <a:ext cx="7561080" cy="38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66"/>
                </a:solidFill>
                <a:latin typeface="Arial"/>
              </a:rPr>
              <a:t>Sal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66"/>
                </a:solidFill>
                <a:latin typeface="Arial"/>
              </a:rPr>
              <a:t>Juju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66"/>
                </a:solidFill>
                <a:latin typeface="Arial"/>
              </a:rPr>
              <a:t>Buenos Ai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66"/>
                </a:solidFill>
                <a:latin typeface="Arial"/>
              </a:rPr>
              <a:t>Catamar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66"/>
                </a:solidFill>
                <a:latin typeface="Arial"/>
              </a:rPr>
              <a:t>Córdo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antidad de PyMes:</a:t>
            </a:r>
            <a:r>
              <a:rPr b="1" lang="es-ES" sz="2600" spc="-1" strike="noStrike">
                <a:solidFill>
                  <a:srgbClr val="ffff66"/>
                </a:solidFill>
                <a:latin typeface="Arial"/>
              </a:rPr>
              <a:t> 2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Importe Financiado: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ffff66"/>
                </a:solidFill>
                <a:latin typeface="Arial"/>
              </a:rPr>
              <a:t>u$s 2.671.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9T14:21:11Z</dcterms:created>
  <dc:creator>Marcela Festa</dc:creator>
  <dc:description/>
  <dc:language>en-US</dc:language>
  <cp:lastModifiedBy>Dr. Marcelo Artana</cp:lastModifiedBy>
  <dcterms:modified xsi:type="dcterms:W3CDTF">2004-05-24T15:37:13Z</dcterms:modified>
  <cp:revision>161</cp:revision>
  <dc:subject/>
  <dc:title>Secupyme V</dc:title>
</cp:coreProperties>
</file>