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439-CF8E-4E0D-BC1E-FBE8881E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937-CFA3-4DDC-B1AE-9A46E385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245-2B0B-4A5B-B1C3-7CD70B14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2BB-2525-483B-91D2-D4087377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DEC-8A9C-4D24-9D1D-3F858941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03E-2B02-4CF5-A98B-6018782C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4BF-4693-4186-82DD-27F3B30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87BF-55CC-4817-966B-DA369A7C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623-F71B-4D16-8923-2EE92A69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016-1DD1-4DF4-AFA2-988F40E5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703-4322-4D4E-BBCA-A9BEF0CD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6F0-86A1-4A10-8D8C-70E6678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9BE1-2CF0-4B0A-BC1F-88BC5A3A898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imera Jornada sobre Mercado de Capitales</a:t>
            </a:r>
            <a:br>
              <a:rPr sz="40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turos, Opciones y Nuevos Instrumentos de Nego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món Altkorn Mo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korn@ciudad.com.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 de may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ituación en Latinoamé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BM&amp;F de San Pablo sigue creciendo y consolida su clearinghouse para negocios financieros, cambiarios, agropecuarios y sobre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xder de México, a punto de quebrar, se convierte luego en la segunda bolsa de derivados de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bas tienen como principal producto subyacente a la tasa de interés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n muy de cerca los cambios e innovaciones de los mercados inter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ituación en Argen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mercado está segme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ltan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corporación de estructuras del O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nfrenta un nuevo proceso binario: la constitución de un gran mercado, con integridad financiera, liquidez y multiplicidad de productos, o la coexistencia de pequeñas unidades sin masa crí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inúa el riesgo de que el mercado de productos argentinos sea absorbido por alguna bolsa inter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entajas de tener un mercado de derivados lo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o de coberturas integrales para las empresas, sobre múltiples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ustria de servicios sofisticada, con grandes efectos multiplicadores sobre la economía real y sobre el sector financi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lida los procesos de entrada de capital, genera mayor rotación de recursos financieros internos, y provee de un marco de financiamiento anticíc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troalimenta al mercado de capitales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 de mejora crediticia para el sector privado y pú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dice de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ificación de los productos deriv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istoria y evolución en los mercados inter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s productos para cubrir las necesidades de cobertura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tuación actual en Latinoamérica y en la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jas de tener un mercado local de deriv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istintos tipos de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4880" y="2232000"/>
          <a:ext cx="7886520" cy="56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232000"/>
                    <a:ext cx="788652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848 se funda la Chicago Board of Trade (CB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 principio se negociaban sólo productos agríco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1903 son las primeras discusiones para armar una Clearinghouse centr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36 se crea la Commodity Exchange Authority, quien prohibe la negociación de opciones agrícolas por más de 50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67 se devalúa la libra, que pasa de 2,80 a 2,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1968 la CBOT plantea la negociaci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ón del índice Dow Jones Industrial Average.  Fracasa en el int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1 cae el acuerdo de Bretton Woods.  El oro deja de venderse a $35 la onza.  Fin de los tipos de cambio fi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yo de 1972.  La CME introduce los futuros sobre divi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4 la NYMEX lista su primer contrato sobre petró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5 comienza la negociación de futuros sobre oro, y la CBOT lanza el primer contrato mundial sobre tasas de interés (GNM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77 la CBOT habilita futuros sobre los T-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octubre de 1979 Paul Volcker anuncia que la Fed se focalizará en la oferta monetaria, no en la tasa de interés para bajar la inf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1 se lanza el Eurodollar, primer contrato de tasa de interés sin entrega fí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istoria de los product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2 se lista el futuro sobre S&amp;P 500 en C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4 se firma acuerdo entre la CME y la bolsa de Singapur (SIMEX): comienza la globalización de derivado.   También se autorizan las opciones agríco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87 la CME y Reuters anuncian el desarrollo de Globex (plataforma electró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0 nace la bolsa de futuros de Alemania (DTB).  Dará luego lugar al Eurex, actual líder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7 la bolsa de Sydney decide eliminar totalmente la negociación a viva voz, mientras la CBOT abre el mayor piso de la his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n 1999 LIFFE cierra su piso y se vuelve 100% electr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Situaciones rec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hicago y Frankfurt se pelean por el mercado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e desarrollan los futuros energéticos y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 el proceso de fusión de bolsas y clearingho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inua la incorporación en bolsa de productos over the cou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negociación electrónica ganó la ba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e creciendo el volumen negociado y la cantidad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vez hay más productos estructu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Antes y ahora en los Deriv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berturas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iso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embres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 viva 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 entreg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i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uedas o co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Bol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uturos co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nejo integral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Negociación electr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rechos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ociedades for 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asamient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iquidación por 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ic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.C.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.C.N.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istintos productos para cubrir las necesidades empresa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s de interés de corto y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nedas y cross 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es y subíndices bursá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i todos los commodities agrarios y pec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(petróleo, gas, electric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nómenos de la naturaleza (lluvia, terremotos, temperatu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s indicadores de evolución de pre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ss entre inflación, tasa de interés y tipo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20:07:31Z</dcterms:created>
  <dc:creator>x</dc:creator>
  <dc:description/>
  <dc:language>en-US</dc:language>
  <cp:lastModifiedBy>pagina</cp:lastModifiedBy>
  <dcterms:modified xsi:type="dcterms:W3CDTF">2004-05-26T13:29:01Z</dcterms:modified>
  <cp:revision>33</cp:revision>
  <dc:subject/>
  <dc:title>Seminario sobre Futuros y Opciones Herramientas financieras para el manejo empresario</dc:title>
</cp:coreProperties>
</file>