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BEE0-7C68-42E7-AE10-7340EA2E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E022-23F5-438A-89C0-2DB89E86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5886-78AF-4DE1-A54C-94766830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D680-21A6-4ECA-B719-FC90B54E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B9A-D012-4021-B5CE-4CDA55A0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079-0358-433C-BC8F-1C063E1C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E7A-C895-4A2B-B7B4-39FC3AFB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0E91-1232-4B78-A0E3-3708FDFA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735-3B06-4DCD-A9D1-A56663E7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01E0-0EFC-4115-93C7-308EFE3C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C939-BFAD-45A3-BBA9-4E362231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D9E5-C79C-4B5C-BB61-D0BE07B1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0B93-0788-4B5B-8020-0344CDE75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3864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981080"/>
          <a:ext cx="79246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9246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33864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11430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1009800"/>
            <a:ext cx="76197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n caso de verificarse un evento de incumplimiento en el pago del MTM diario MAE procede a utilizar las garantías que acordaron  las par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n caso de utilizarse las garantías se procede a bloquear al agente incumplidor hasta la reposición de las garant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l agente incumplidor debe reponer la garantía hasta las 12hs. del día hábil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Se admite la cancelación anticipada a voluntad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7320" y="22860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ADMINISTRACIÓN DE GARANT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33864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54160"/>
            <a:ext cx="8686800" cy="66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3300"/>
                </a:solidFill>
                <a:latin typeface="Times New Roman"/>
              </a:rPr>
              <a:t>Disposiciones del BCRA</a:t>
            </a:r>
            <a:r>
              <a:rPr b="1" lang="es-AR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Registros contables de las operaciones: Comunicación “A” 41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l importe correspondiente al valor nocional del activo subyacente se registra en cuentas de orden. Los depósitos en la Cuenta OCT MAE Garantía se registran en cuentas patrimon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fectación de Activos en Garantía: Las Entidades deberán ajustarse a lo dispuesto en la Comunicación “A” 4083 y 41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osición Global Neta en moneda extranjera (PGN): Comunicación “A” 4135  si la PGN es - entran dentro del 30% de la RPC del mes anterior. Si es + el importe no puede superar el 30% anterior o los recursos propios líquidos, de los el menor e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Fraccionamiento de riesgo crediticio ( </a:t>
            </a:r>
            <a:r>
              <a:rPr b="0" lang="es-AR" sz="1600" spc="-1" strike="noStrike">
                <a:solidFill>
                  <a:srgbClr val="ffffff"/>
                </a:solidFill>
                <a:latin typeface="Times New Roman"/>
              </a:rPr>
              <a:t>en función de la RPC)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y graduación del crédito </a:t>
            </a:r>
            <a:r>
              <a:rPr b="0" lang="es-AR" sz="1600" spc="-1" strike="noStrike">
                <a:solidFill>
                  <a:srgbClr val="ffffff"/>
                </a:solidFill>
                <a:latin typeface="Times New Roman"/>
              </a:rPr>
              <a:t>( en función de la contraparte):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Comunicación “A”41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2286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1219320"/>
            <a:ext cx="5867280" cy="39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ff3300"/>
                </a:solidFill>
                <a:latin typeface="Arial Black"/>
              </a:rPr>
              <a:t>O</a:t>
            </a:r>
            <a:r>
              <a:rPr b="0" lang="es-AR" sz="4000" spc="-1" strike="noStrike">
                <a:solidFill>
                  <a:srgbClr val="ffffff"/>
                </a:solidFill>
                <a:latin typeface="Arial Black"/>
              </a:rPr>
              <a:t>PERACION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C</a:t>
            </a:r>
            <a:r>
              <a:rPr b="0" lang="es-AR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OMPENSADA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T</a:t>
            </a:r>
            <a:r>
              <a:rPr b="0" lang="es-AR" sz="4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RM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 </a:t>
            </a:r>
            <a:r>
              <a:rPr b="0" lang="es-AR" sz="60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MA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600"/>
            <a:ext cx="8534160" cy="9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rear un producto de cobertura exclusivamente para 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ntidades financieras : Contratos de Divisas, Contratos de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Tasa,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l producto se asimila a los contratos </a:t>
            </a:r>
            <a:r>
              <a:rPr b="1" i="1" lang="es-AR" sz="2400" spc="-1" strike="noStrike">
                <a:solidFill>
                  <a:srgbClr val="ffffff"/>
                </a:solidFill>
                <a:latin typeface="Times New Roman"/>
              </a:rPr>
              <a:t>NDF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: se negocia a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una fecha futura un contrato de divisa y se liquida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or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ompensación en pesos la diferencia entre el valor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actado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y el valor spot del activo subyacente sin entrega del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valor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negociad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La negociación es bilateral entre las entidades participantes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del sistema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l riesgo de crédito es bilateral entre las entidades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articip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33864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37160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"/>
            <a:ext cx="762012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Esquema bás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No se negociacian contratos standariz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Las relaciones legales entre los participantes se realizan a través de la firma de un Acuerdo Marco bilateral que se registra en M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Se puede trabajar con o sin garantía a voluntad de las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artes y forma parte del Acuerdo Mar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Se registra en MAE los acuerdos de gara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ancelación anticipada por eventos de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incumplimien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dicionalmente a los acuerdos de garantía se trabaja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on líneas de crédito que acuerdan los participantes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n el sistema de 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46280" y="879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762120"/>
            <a:ext cx="6934320" cy="38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MARCO LEG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cuerdo Marco bilateral entre los participantes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gentes M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Reglamento Operativo de OCT M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ontrato de Fideicomiso para la cuenta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fiduciaria de garantía y para la cuenta M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51814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3300"/>
                </a:solidFill>
                <a:latin typeface="Times New Roman"/>
              </a:rPr>
              <a:t>El Marco Legal está aprobado por el Banco Central de la República Argentina y la Comisión nacional de Val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609480"/>
            <a:ext cx="8153280" cy="56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FUNCIONES DE MA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Suministra el ámbito de negociación y registro de las operaciones de compra-venta a términoa 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meses de plazo:</a:t>
            </a: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SIO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Realiza el MTM diario de las posiciones bilaterales y multilaterales netas de las ent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Liquida diariamente la posición deudora o acreedora multilateral en la cuenta M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dministra las garantías que las entidades financieras pactaron bilater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omunica a la contraparte, al resto del mercado y a las autoridades de contralor los eventos de incumpl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04920"/>
            <a:ext cx="838188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MODELO OPERA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Negociación por trading por pantallas ciega con verificación de línes de crédito y garantía bi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n una primera etapa se negociará el producto Contrato de Divisa ( dólares –euro-real) y se trabajará con  plazos correspondiente a tres settlements: mes corriente y los siguientes dos 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Operación mínima de u$s 100.000 y múltiplos de u$s 100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osición de cada agente MAE 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</a:rPr>
              <a:t>on line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acumulada en términos brutos y netos por contraparte, por plazo y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3880" y="228600"/>
            <a:ext cx="6400800" cy="63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MARK TO MAR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ricing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Determinación del precio de cierre por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Determinación de la posición neta bilateral diaria de cada agente por contraparte, por plazo y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osición neta multilateral dia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ago de los saldos deudores en la cuenta fiduciaria M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ubiertos los saldos deudores MAE procede a transferir los fondos a los agentes con saldos netos acr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457200"/>
            <a:ext cx="8382240" cy="61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3300"/>
                </a:solidFill>
                <a:latin typeface="Times New Roman"/>
              </a:rPr>
              <a:t>ADMINISTRACIÓN DE GARANT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Las operaciones no tienen garantía de liquidación de MA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l riesgo de crédito es bilateral entre los particip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Garantías bilaterales entre los ag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Se admite trabajar sin garantías a riesgo de contrapa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Las garantías pueden depositarse antes de operar o por el neto operado al finalizar la rueda antes del vencimiento del MTM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02:44:40Z</dcterms:created>
  <dc:creator>..</dc:creator>
  <dc:description/>
  <dc:language>en-US</dc:language>
  <cp:lastModifiedBy>pagina</cp:lastModifiedBy>
  <dcterms:modified xsi:type="dcterms:W3CDTF">2004-05-26T13:29:50Z</dcterms:modified>
  <cp:revision>25</cp:revision>
  <dc:subject/>
  <dc:title>Sin título de diapositiva</dc:title>
</cp:coreProperties>
</file>