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133-3045-4C75-9C4A-D819B130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FAE-097E-4BB3-9BA4-C96327FB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927-E507-40E9-8611-B4CB68A9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895-853D-4F2E-B849-D902F0AF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A39-216B-4DAE-A58D-404DBE71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8B1-C760-42A1-81A7-33A3D4B7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F2D-39FA-4DCE-8436-FE26B4A1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94D-4AE5-46C8-8AAE-71861B46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36A2-EAAE-4343-B112-FB03A616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C4D-B1CB-4CE6-9B0A-F86439A4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303-F405-434F-AF70-B65E70AC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BFC-D46A-45C6-8516-D2D3F198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F844-8C55-4896-BD53-FD8D799401C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hen.com.ar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0666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DMINISTRACION DE CART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35053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NTRODUCCION A HERRAMIENTAS DISPONIBLES EN EL MERCADO ARGEN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58672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00"/>
                </a:solidFill>
                <a:latin typeface="Times New Roman"/>
              </a:rPr>
              <a:t>Expositor: Cdor. Alfredo C. Ferrar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93680" y="457200"/>
            <a:ext cx="28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NewRoman"/>
              </a:rPr>
              <a:t>Ventas en Co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05720" y="3139920"/>
            <a:ext cx="65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TimesNewRoman,Bold"/>
              </a:rPr>
              <a:t>Negociación a Plazo del Indice Mer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22960" y="182880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NewRoman"/>
              </a:rPr>
              <a:t>CED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64120" y="4800600"/>
            <a:ext cx="59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NewRoman"/>
              </a:rPr>
              <a:t>Letras y Notas del BCRA lic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15080" cy="33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419720" cy="389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1828800"/>
            <a:ext cx="363852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281480" cy="3182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09680" y="685800"/>
            <a:ext cx="45054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34000" cy="3487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8120" y="762120"/>
            <a:ext cx="308592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05120" y="10666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inks de inter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438280"/>
            <a:ext cx="6858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merval.sba.com.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merval-indol.com.ar/index-indol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iamc.sba.com.ar/informes/im_anuario_2003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merval-indol.com.ar/index-indol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BCBA.SBA.COM.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bolsar.com/principal/contenido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imes New Roman"/>
              </a:rPr>
              <a:t>http://www.garantizar.com.ar/home/index.htm</a:t>
            </a:r>
            <a:r>
              <a:rPr b="0" lang="es-MX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om.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cc33"/>
                </a:solidFill>
                <a:latin typeface="Times New Roman"/>
              </a:rPr>
              <a:t>www.cohen.com.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cc33"/>
                </a:solidFill>
                <a:latin typeface="Times New Roman"/>
              </a:rPr>
              <a:t>acferrarini@cohen.com.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ÍTULOS DE RENTA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BLIGACIONES NEGO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VALORES CON COT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dears FCI Valores de cort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f31b5"/>
                </a:solidFill>
                <a:latin typeface="Times New Roman"/>
              </a:rPr>
              <a:t>EN PESOS, DÓLARES Y DÓLARES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981080" y="1676520"/>
            <a:ext cx="5220720" cy="3369960"/>
            <a:chOff x="1981080" y="1676520"/>
            <a:chExt cx="5220720" cy="3369960"/>
          </a:xfrm>
        </p:grpSpPr>
        <p:grpSp>
          <p:nvGrpSpPr>
            <p:cNvPr id="47" name=""/>
            <p:cNvGrpSpPr/>
            <p:nvPr/>
          </p:nvGrpSpPr>
          <p:grpSpPr>
            <a:xfrm>
              <a:off x="1990440" y="1684080"/>
              <a:ext cx="5199120" cy="3353400"/>
              <a:chOff x="1990440" y="1684080"/>
              <a:chExt cx="5199120" cy="33534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1990440" y="1684080"/>
                <a:ext cx="5199120" cy="991800"/>
                <a:chOff x="1990440" y="1684080"/>
                <a:chExt cx="5199120" cy="99180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1990440" y="1684080"/>
                  <a:ext cx="5199120" cy="99180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Verdana"/>
                      <a:ea typeface="Times New Roman"/>
                    </a:rPr>
                    <a:t>CONTADO</a:t>
                  </a:r>
                  <a:r>
                    <a:rPr b="1" lang="en-US" sz="1400" spc="-1" strike="noStrike">
                      <a:solidFill>
                        <a:srgbClr val="ff3300"/>
                      </a:solidFill>
                      <a:latin typeface="Verdana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990440" y="1684080"/>
                  <a:ext cx="5199120" cy="99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1990440" y="2676240"/>
                <a:ext cx="1605240" cy="2361240"/>
                <a:chOff x="1990440" y="2676240"/>
                <a:chExt cx="1605240" cy="23612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990440" y="2676240"/>
                  <a:ext cx="1605240" cy="23612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" name=""/>
                <p:cNvGrpSpPr/>
                <p:nvPr/>
              </p:nvGrpSpPr>
              <p:grpSpPr>
                <a:xfrm>
                  <a:off x="1990440" y="2676240"/>
                  <a:ext cx="1604520" cy="2360880"/>
                  <a:chOff x="1990440" y="2676240"/>
                  <a:chExt cx="1604520" cy="236088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1990440" y="2676240"/>
                    <a:ext cx="1604520" cy="23608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cc3300"/>
                        </a:solidFill>
                        <a:latin typeface="Verdana"/>
                        <a:ea typeface="Times New Roman"/>
                      </a:rPr>
                      <a:t>PLAZ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1990440" y="2676240"/>
                    <a:ext cx="1604520" cy="2360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" name=""/>
              <p:cNvGrpSpPr/>
              <p:nvPr/>
            </p:nvGrpSpPr>
            <p:grpSpPr>
              <a:xfrm>
                <a:off x="3596400" y="2676240"/>
                <a:ext cx="3593160" cy="2361240"/>
                <a:chOff x="3596400" y="2676240"/>
                <a:chExt cx="3593160" cy="236124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3596400" y="2676240"/>
                  <a:ext cx="3593160" cy="2361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3596400" y="2676240"/>
                  <a:ext cx="3592440" cy="2360880"/>
                  <a:chOff x="3596400" y="2676240"/>
                  <a:chExt cx="3592440" cy="236088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3596400" y="2676240"/>
                    <a:ext cx="3592440" cy="23608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PLAZO FIRME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PASE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CAUCION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OPCIONES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INDICES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PRESTAMO DE VALORES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3333ff"/>
                        </a:solidFill>
                        <a:latin typeface="Verdana"/>
                        <a:ea typeface="Times New Roman"/>
                      </a:rPr>
                      <a:t>VENTAS EN CORT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3596400" y="2676240"/>
                    <a:ext cx="3592440" cy="2360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1" name=""/>
            <p:cNvSpPr/>
            <p:nvPr/>
          </p:nvSpPr>
          <p:spPr>
            <a:xfrm>
              <a:off x="1981080" y="1676520"/>
              <a:ext cx="5220720" cy="33699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162920" cy="511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3505320"/>
            <a:ext cx="601992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4314600" cy="247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00400" y="152280"/>
            <a:ext cx="2438280" cy="509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514600" y="3886200"/>
            <a:ext cx="3505320" cy="274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00400" y="3505320"/>
            <a:ext cx="251460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8024760" cy="356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56102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8001000" cy="3589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14600" y="914400"/>
            <a:ext cx="487692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28800" y="3429000"/>
            <a:ext cx="5151240" cy="1523880"/>
            <a:chOff x="1828800" y="3429000"/>
            <a:chExt cx="5151240" cy="1523880"/>
          </a:xfrm>
        </p:grpSpPr>
        <p:sp>
          <p:nvSpPr>
            <p:cNvPr id="74" name=""/>
            <p:cNvSpPr/>
            <p:nvPr/>
          </p:nvSpPr>
          <p:spPr>
            <a:xfrm>
              <a:off x="1828800" y="3429000"/>
              <a:ext cx="515124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828800" y="3429000"/>
              <a:ext cx="5150880" cy="1310400"/>
              <a:chOff x="1828800" y="3429000"/>
              <a:chExt cx="5150880" cy="1310400"/>
            </a:xfrm>
          </p:grpSpPr>
          <p:sp>
            <p:nvSpPr>
              <p:cNvPr id="76" name=""/>
              <p:cNvSpPr/>
              <p:nvPr/>
            </p:nvSpPr>
            <p:spPr>
              <a:xfrm>
                <a:off x="1828800" y="3429000"/>
                <a:ext cx="5150880" cy="131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28800" y="3429000"/>
                <a:ext cx="5150880" cy="106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Negociación de Cheques GARANTIZADO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" name=""/>
          <p:cNvGrpSpPr/>
          <p:nvPr/>
        </p:nvGrpSpPr>
        <p:grpSpPr>
          <a:xfrm>
            <a:off x="1828800" y="838080"/>
            <a:ext cx="5151240" cy="1522080"/>
            <a:chOff x="1828800" y="838080"/>
            <a:chExt cx="5151240" cy="1522080"/>
          </a:xfrm>
        </p:grpSpPr>
        <p:sp>
          <p:nvSpPr>
            <p:cNvPr id="79" name=""/>
            <p:cNvSpPr/>
            <p:nvPr/>
          </p:nvSpPr>
          <p:spPr>
            <a:xfrm>
              <a:off x="1828800" y="838080"/>
              <a:ext cx="5151240" cy="152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828800" y="838080"/>
              <a:ext cx="5150880" cy="1308960"/>
              <a:chOff x="1828800" y="838080"/>
              <a:chExt cx="5150880" cy="1308960"/>
            </a:xfrm>
          </p:grpSpPr>
          <p:sp>
            <p:nvSpPr>
              <p:cNvPr id="81" name=""/>
              <p:cNvSpPr/>
              <p:nvPr/>
            </p:nvSpPr>
            <p:spPr>
              <a:xfrm>
                <a:off x="1828800" y="838080"/>
                <a:ext cx="5150880" cy="130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28800" y="838080"/>
                <a:ext cx="5150880" cy="106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Negociación de Cheques PATROCINADO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752480" y="762120"/>
            <a:ext cx="5151240" cy="3993480"/>
            <a:chOff x="1752480" y="762120"/>
            <a:chExt cx="5151240" cy="3993480"/>
          </a:xfrm>
        </p:grpSpPr>
        <p:sp>
          <p:nvSpPr>
            <p:cNvPr id="84" name=""/>
            <p:cNvSpPr/>
            <p:nvPr/>
          </p:nvSpPr>
          <p:spPr>
            <a:xfrm>
              <a:off x="1752480" y="762120"/>
              <a:ext cx="5151240" cy="152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752480" y="762120"/>
              <a:ext cx="5150880" cy="3993480"/>
              <a:chOff x="1752480" y="762120"/>
              <a:chExt cx="5150880" cy="3993480"/>
            </a:xfrm>
          </p:grpSpPr>
          <p:sp>
            <p:nvSpPr>
              <p:cNvPr id="86" name=""/>
              <p:cNvSpPr/>
              <p:nvPr/>
            </p:nvSpPr>
            <p:spPr>
              <a:xfrm>
                <a:off x="1752480" y="762120"/>
                <a:ext cx="5150880" cy="1311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52480" y="762120"/>
                <a:ext cx="5150880" cy="399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Garantizados</a:t>
                </a:r>
                <a:br>
                  <a:rPr sz="3200"/>
                </a:b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SOCIEDA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DE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GARANTIA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Verdana"/>
                  </a:rPr>
                  <a:t>RECIPROC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14:19:32Z</dcterms:created>
  <dc:creator>Cohen</dc:creator>
  <dc:description/>
  <dc:language>en-US</dc:language>
  <cp:lastModifiedBy>pagina</cp:lastModifiedBy>
  <dcterms:modified xsi:type="dcterms:W3CDTF">2004-05-26T13:32:07Z</dcterms:modified>
  <cp:revision>12</cp:revision>
  <dc:subject/>
  <dc:title>Presentación de PowerPoint</dc:title>
</cp:coreProperties>
</file>