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92EC-0438-44C3-86CB-EA88C1A8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12F5-096C-4517-B46F-4D78B9F8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5EC2-2F2E-49BB-B41F-07AB05FB4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10D8-AD42-4EFD-B3D8-21F51217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80F8-8AB7-4F17-A3C9-4F304C83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AA20-B3D8-4CA1-BE50-0C07BE74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8BB9-35F7-4F56-993A-AF9B9AEB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703A-BCBA-4462-BC0E-BCC66CF1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09D4-A44E-4259-B76D-C6355A53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81C9-5667-4203-9BEC-645765BD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F65A-B110-4D19-83E7-D1496DBC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0F54-B61B-43E3-88B1-B1FCC542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FA67-A72A-42BD-A862-9031F65B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B70D-F18D-44A6-B912-415CC09E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A6C2-6F63-4C2C-B326-FA5129D2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8ED6-0029-48A3-A195-7E4028F3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AF1C-B582-46BA-9A93-B474B765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36E3-2761-41FC-AFBE-EB66F430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EEAF-E571-44DB-ACC7-41F03074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C152-1AAB-42F6-97FB-119EAFFE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6754-BECA-46C9-9A63-8958227A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CB6-C9E7-49EA-B1EE-7EB23A32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BF3F-CC5A-4586-AB23-F8E9C892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205-CC1B-4C03-84F3-ACF32749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E8EC-DA6C-4029-8D30-8BCEB7ED28D3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B40B-184B-40E8-BDBE-D20CB2C4E66A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Nuevas estrategias y oportunidades de financiamiento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4479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Mercado de capit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Estructuras teóricas para la securitización de activos ilíquid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sset backed securit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ay-throug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ass-throug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52880" y="2057040"/>
            <a:ext cx="3733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bligaciones negociab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n garantía re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70000"/>
              </a:lnSpc>
              <a:spcBef>
                <a:spcPts val="601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bligaciones negociables con recurso limita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50000"/>
              </a:lnSpc>
              <a:spcBef>
                <a:spcPts val="601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bligación negocia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iduciari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70000"/>
              </a:lnSpc>
              <a:spcBef>
                <a:spcPts val="601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ondos Comunes Cerrad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70000"/>
              </a:lnSpc>
              <a:spcBef>
                <a:spcPts val="799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99"/>
                </a:solidFill>
                <a:latin typeface="Times New Roman"/>
              </a:rPr>
              <a:t>Fideicomisos Financier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>
            <a:hlinkClick r:id="rId1" action="ppaction://hlinksldjump"/>
          </p:cNvPr>
          <p:cNvSpPr/>
          <p:nvPr/>
        </p:nvSpPr>
        <p:spPr>
          <a:xfrm>
            <a:off x="769608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Fideicomi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8105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Definición Legal ( Art. 1 Ley 24.441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Habrá fideicomiso cuando una persona (fiduciante) transmite uno o más bienes en propiedad fiduciaria a otra parte (fiduciario) quien se obliga a ejercerla en beneficio de quien se designe en el acto respectivo (beneficiario), y a transmitirlo, al cumplimiento de un plazo o condición, al fiduciante, al beneficiario o al fideicomisari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>
            <a:hlinkClick r:id="rId1" action="ppaction://hlinksldjump"/>
          </p:cNvPr>
          <p:cNvSpPr/>
          <p:nvPr/>
        </p:nvSpPr>
        <p:spPr>
          <a:xfrm>
            <a:off x="7696080" y="624852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3794"/>
                </a:moveTo>
                <a:lnTo>
                  <a:pt x="24293" y="10800"/>
                </a:lnTo>
                <a:lnTo>
                  <a:pt x="10280" y="17806"/>
                </a:lnTo>
                <a:close/>
              </a:path>
            </a:pathLst>
          </a:cu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asificación de Fideicomiso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280" y="2133360"/>
            <a:ext cx="83343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or existencia o no de titulización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Comú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Financier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933480" indent="-196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Fiduciarios Financieros: Autorizados por CNV ( Registro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933480" indent="-196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Patrimonio: $ 1 mill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or objeto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garantí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762120" cy="357120"/>
          </a:xfrm>
          <a:custGeom>
            <a:avLst/>
            <a:gdLst>
              <a:gd name="textAreaLeft" fmla="*/ 23040 w 762120"/>
              <a:gd name="textAreaRight" fmla="*/ 739080 w 762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6071" h="21600">
                <a:moveTo>
                  <a:pt x="0" y="0"/>
                </a:moveTo>
                <a:lnTo>
                  <a:pt x="46071" y="0"/>
                </a:lnTo>
                <a:lnTo>
                  <a:pt x="46071" y="21600"/>
                </a:lnTo>
                <a:lnTo>
                  <a:pt x="0" y="21600"/>
                </a:lnTo>
                <a:close/>
              </a:path>
              <a:path fill="lightenLess" w="46071" h="21600">
                <a:moveTo>
                  <a:pt x="0" y="0"/>
                </a:moveTo>
                <a:lnTo>
                  <a:pt x="46071" y="0"/>
                </a:lnTo>
                <a:lnTo>
                  <a:pt x="44671" y="1400"/>
                </a:lnTo>
                <a:lnTo>
                  <a:pt x="1400" y="1400"/>
                </a:lnTo>
                <a:close/>
              </a:path>
              <a:path fill="darken" w="46071" h="21600">
                <a:moveTo>
                  <a:pt x="46071" y="0"/>
                </a:moveTo>
                <a:lnTo>
                  <a:pt x="46071" y="21600"/>
                </a:lnTo>
                <a:lnTo>
                  <a:pt x="44671" y="20200"/>
                </a:lnTo>
                <a:lnTo>
                  <a:pt x="44671" y="1400"/>
                </a:lnTo>
                <a:close/>
              </a:path>
              <a:path fill="darkenLess" w="46071" h="21600">
                <a:moveTo>
                  <a:pt x="46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71" y="20200"/>
                </a:lnTo>
                <a:close/>
              </a:path>
              <a:path fill="lighten" w="46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71" h="21600">
                <a:moveTo>
                  <a:pt x="16029" y="3794"/>
                </a:moveTo>
                <a:lnTo>
                  <a:pt x="30042" y="10800"/>
                </a:lnTo>
                <a:lnTo>
                  <a:pt x="16029" y="17806"/>
                </a:lnTo>
                <a:close/>
              </a:path>
            </a:pathLst>
          </a:cu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28600" y="3200400"/>
            <a:ext cx="1752480" cy="1676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Fiduciante/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29200" y="47520"/>
            <a:ext cx="619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10280" y="3124080"/>
            <a:ext cx="1600200" cy="1676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Beneficiar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05320" y="3200400"/>
            <a:ext cx="1600200" cy="1676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iduciar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inancier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52480" y="3048120"/>
            <a:ext cx="2133720" cy="45720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05520" y="3124080"/>
            <a:ext cx="2286000" cy="38124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0440" y="-11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95280" y="91440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Introducción a una Operación Estructurada con FF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127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57400" y="3429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AI; FFF; P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5485680" y="3352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TD y/o CP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1828800"/>
            <a:ext cx="2971800" cy="68580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Originante o generador de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los activos ilíquid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1600200" y="4267080"/>
            <a:ext cx="1905120" cy="533520"/>
          </a:xfrm>
          <a:custGeom>
            <a:avLst/>
            <a:gdLst>
              <a:gd name="textAreaLeft" fmla="*/ 333720 w 1905120"/>
              <a:gd name="textAreaRight" fmla="*/ 1381680 w 19051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5028480" y="4190400"/>
            <a:ext cx="1981080" cy="60948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43000" y="2514600"/>
            <a:ext cx="0" cy="60948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43400" y="2819520"/>
            <a:ext cx="0" cy="45720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581280" y="2057400"/>
            <a:ext cx="4038840" cy="68580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18080" y="1981080"/>
            <a:ext cx="394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Ingeniería para transformarlos  e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Valores negociabl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67280" y="4267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010280" y="4572000"/>
            <a:ext cx="1905120" cy="15238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ideicomisari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Beneficiari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Residua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Mecanismos de </a:t>
            </a:r>
            <a:br>
              <a:rPr sz="4400"/>
            </a:b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Credit Enhance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Interno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Activos elegibl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Estructura lega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Sobrecolaterizaci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Subordinación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Fondo de reserva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Activos en reserva para reemplazo por mor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Externo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Garantías de terceros: SGR; Fondos de Garantí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Cartas de crédit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Seguros ( Hipotecas: ley 24.626 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plicación a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royectos de Invers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2286000"/>
            <a:ext cx="1981080" cy="18288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vers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pietari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47520"/>
            <a:ext cx="619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2362320"/>
            <a:ext cx="1981080" cy="19047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vers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pietari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352680" y="2209680"/>
            <a:ext cx="2743200" cy="19814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ehículo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CC/ F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Explot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diversificad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76520" y="2209680"/>
            <a:ext cx="2286000" cy="533520"/>
          </a:xfrm>
          <a:custGeom>
            <a:avLst/>
            <a:gdLst>
              <a:gd name="textAreaLeft" fmla="*/ 404640 w 2286000"/>
              <a:gd name="textAreaRight" fmla="*/ 1652760 w 22860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50" hR="21600" stAng="10800000" swAng="5400000"/>
                <a:lnTo>
                  <a:pt x="11790" y="0"/>
                </a:lnTo>
                <a:arcTo wR="7650" hR="21600" stAng="-5400000" swAng="2702979"/>
                <a:lnTo>
                  <a:pt x="21162" y="14400"/>
                </a:lnTo>
                <a:lnTo>
                  <a:pt x="17370" y="21600"/>
                </a:lnTo>
                <a:lnTo>
                  <a:pt x="12702" y="14400"/>
                </a:lnTo>
                <a:lnTo>
                  <a:pt x="14862" y="14400"/>
                </a:lnTo>
                <a:arcTo wR="7650" hR="21600" stAng="-2697021" swAng="-2361886"/>
                <a:lnTo>
                  <a:pt x="9720" y="806"/>
                </a:lnTo>
                <a:arcTo wR="7650" hR="21600" stAng="-5741093" swAng="-5058907"/>
                <a:close/>
              </a:path>
              <a:path fill="darkenLess" w="21600" h="21600">
                <a:moveTo>
                  <a:pt x="0" y="21600"/>
                </a:moveTo>
                <a:arcTo wR="7650" hR="21600" stAng="10800000" swAng="5400000"/>
                <a:lnTo>
                  <a:pt x="7650" y="0"/>
                </a:lnTo>
                <a:arcTo wR="7650" hR="21600" stAng="-5400000" swAng="341093"/>
                <a:lnTo>
                  <a:pt x="9720" y="806"/>
                </a:lnTo>
                <a:arcTo wR="7650" hR="21600" stAng="-5741093" swAng="-5058907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280" y="2743200"/>
            <a:ext cx="990720" cy="304920"/>
          </a:xfrm>
          <a:custGeom>
            <a:avLst/>
            <a:gdLst>
              <a:gd name="textAreaLeft" fmla="*/ 173160 w 990720"/>
              <a:gd name="textAreaRight" fmla="*/ 718200 w 9907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0440" y="-11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27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676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Camp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Bienes de uso, etc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5638680" y="190512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Resultado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del negocio $$$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371600" y="4191120"/>
            <a:ext cx="3429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ertificados de participación en el negoc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1523160" y="3581280"/>
            <a:ext cx="2057400" cy="609840"/>
          </a:xfrm>
          <a:custGeom>
            <a:avLst/>
            <a:gdLst>
              <a:gd name="textAreaLeft" fmla="*/ 359640 w 2057400"/>
              <a:gd name="textAreaRight" fmla="*/ 1491480 w 205740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657600" y="380880"/>
            <a:ext cx="21528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YECTO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715000" y="380880"/>
            <a:ext cx="32241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grario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anadero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mobiliario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estale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08" name=""/>
          <p:cNvSpPr/>
          <p:nvPr/>
        </p:nvSpPr>
        <p:spPr>
          <a:xfrm>
            <a:off x="4267080" y="4267080"/>
            <a:ext cx="563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3366"/>
                </a:solidFill>
                <a:latin typeface="Times New Roman"/>
              </a:rPr>
              <a:t>Participantes</a:t>
            </a: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: fiduciarios, operadores, organizadores, agentes colocadores, asesores legales, auditores externos, asesores impositivos, CNV, mercados autoregulados, calificador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ndos de inversión direc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61760" y="21333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ey 24441 ( modifica a la 24083 de FCI) ...Fondos con objetos especiales de invers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rt. 14 de la Res. 271/97 de la CNV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ueden ser comprados por AFJP. Presentación del plan de inversión, producción y estrategia, antecedentes técnicos y empresarios de los participantes del proyect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rt.21 decreto 133/99 de marzo´99 : definición de FID sobre la base legal de un FCC o F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ndos de inversión direc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bjetivo: instrumento moderno para lograr un esquema de financiación eficiente para impulsar procesos de inversió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Ventajas: posibilita potenciar la producción y rentabilidad de productores independientes; libera el proyecto de la carga por financiamiento; permite hacer líquida la inversión  antes de la maduración del proyect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FID: participant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Propietario (fiduciante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ede los activos al FID por  un tiempo determina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Transcurrido el plazo recupera el pleno dominio de lo cedi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Recibe Certificados de Participación de una de las Series, a través de los cuales participa de los beneficios del patrimonio fideicomiti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09480" y="1676520"/>
            <a:ext cx="243864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+ $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1676520"/>
            <a:ext cx="243864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- $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3733920"/>
            <a:ext cx="2286000" cy="53316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termediari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98560" y="293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1523880"/>
            <a:ext cx="2819520" cy="1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124080" y="2819520"/>
            <a:ext cx="2819520" cy="1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86000" y="103176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lujo de fond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13160" y="278460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alores Negociab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4308480"/>
            <a:ext cx="2895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ercado primar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ercado secundar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Liquidez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315200" y="4343400"/>
            <a:ext cx="1440" cy="914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4267080"/>
            <a:ext cx="1440" cy="914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48769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entabilid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613560" y="5222880"/>
            <a:ext cx="2149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iesgo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Del emiso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De la emisi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8120" y="5562720"/>
            <a:ext cx="3504960" cy="144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>
            <a:hlinkClick r:id="rId1" action="ppaction://hlinksldjump"/>
          </p:cNvPr>
          <p:cNvSpPr/>
          <p:nvPr/>
        </p:nvSpPr>
        <p:spPr>
          <a:xfrm>
            <a:off x="5562720" y="28954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>
            <a:hlinkClick r:id="rId2" action="ppaction://hlinksldjump"/>
          </p:cNvPr>
          <p:cNvSpPr/>
          <p:nvPr/>
        </p:nvSpPr>
        <p:spPr>
          <a:xfrm>
            <a:off x="6019920" y="44956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>
            <a:hlinkClick r:id="rId3" action="ppaction://hlinksldjump"/>
          </p:cNvPr>
          <p:cNvSpPr/>
          <p:nvPr/>
        </p:nvSpPr>
        <p:spPr>
          <a:xfrm>
            <a:off x="8381880" y="56386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3794"/>
                </a:moveTo>
                <a:lnTo>
                  <a:pt x="33981" y="10800"/>
                </a:lnTo>
                <a:lnTo>
                  <a:pt x="19968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2895480"/>
            <a:ext cx="2667240" cy="152424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versore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Particular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Institucionales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AFJP, FC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Cías de Seguro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145800" y="28195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461880" y="244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72200" y="3048120"/>
            <a:ext cx="2971800" cy="152388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Emisore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Estado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Entidades Financier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Empresas Primera Líne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Empresas Pym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ercado de Capitales y Economía Re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5562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FID: participant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duciario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sarrollo del fondo ( regla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itularidad fiduciaria de los activ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jecuta el proyec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dministra los bie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stados contables y valuación de activ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formación actualizad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rvicio de caj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estigio profesion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71240" y="761760"/>
            <a:ext cx="480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FID: participant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305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Inversores (Beneficiarios)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mpradores de los certificados de particip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Obtienen seguridad y liquidez al participar en el proyec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Tienen una participación proporcional en las utilidades a través de los certificados  de participació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alificadoras de riesg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alificación trimestr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uditoría extern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uditoría técn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D: pas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valuación de viabilidad del proyec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tudio de comercializ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quema operativo del FI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stitución del FF o FC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dacción del prospec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stitución del FI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utorización O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alific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asificación de 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Valores Negocia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1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imes New Roman"/>
              </a:rPr>
              <a:t>Primarios: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ccio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ítulos de deuda privada ( ON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structurados: FCC y FF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3366"/>
                </a:solidFill>
                <a:latin typeface="Times New Roman"/>
              </a:rPr>
              <a:t>Derivados: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Futur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Opcio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Forwa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Swap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57600" y="42670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99160" y="575640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5105520"/>
            <a:ext cx="3200400" cy="7617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inanciamien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00400" y="5638680"/>
            <a:ext cx="2438280" cy="533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iquidez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4120" y="4952880"/>
            <a:ext cx="3352680" cy="990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bertura de riesg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8229600" y="617220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medi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ercado primar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ntidades especializad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sesoramiento integr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locación de los títulos valo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367160" y="2214360"/>
            <a:ext cx="4213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Mercado secundar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egoci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Bursátiles o públ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Extrabursátiles (OTC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3429000" y="56386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3794"/>
                </a:moveTo>
                <a:lnTo>
                  <a:pt x="22116" y="10800"/>
                </a:lnTo>
                <a:lnTo>
                  <a:pt x="810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>
            <a:hlinkClick r:id="rId2" action="ppaction://hlinksldjump"/>
          </p:cNvPr>
          <p:cNvSpPr/>
          <p:nvPr/>
        </p:nvSpPr>
        <p:spPr>
          <a:xfrm>
            <a:off x="77724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tratos de coloc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Underwri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Underwriting stand b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Best effor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7620120" y="594360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Instrumentos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533520" y="4267080"/>
            <a:ext cx="1600200" cy="1676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47520"/>
            <a:ext cx="619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0280" y="4267080"/>
            <a:ext cx="1600200" cy="1676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vers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4267080"/>
            <a:ext cx="1600200" cy="1676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ehícul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05120" y="4191120"/>
            <a:ext cx="2057400" cy="45720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4267080"/>
            <a:ext cx="1981440" cy="38124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750657"/>
                <a:lnTo>
                  <a:pt x="21478" y="17730"/>
                </a:lnTo>
                <a:lnTo>
                  <a:pt x="17280" y="21600"/>
                </a:lnTo>
                <a:lnTo>
                  <a:pt x="12838" y="17730"/>
                </a:lnTo>
                <a:lnTo>
                  <a:pt x="14998" y="17730"/>
                </a:lnTo>
                <a:arcTo wR="7560" hR="21600" stAng="-1649343" swAng="-339322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0440" y="-11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762120"/>
            <a:ext cx="442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Times New Roman"/>
              </a:rPr>
              <a:t>Emisiones Clásicas: “on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962520" y="2664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$$$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248520" y="6019920"/>
            <a:ext cx="8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$$$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81080" y="3733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I, FFF,PI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33920" y="91440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Valores Negociables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ON; Accion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1752480" y="5562000"/>
            <a:ext cx="1981440" cy="60948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5104800" y="5410080"/>
            <a:ext cx="1981080" cy="60984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0200" y="1676520"/>
            <a:ext cx="1600200" cy="16761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86400" y="1676520"/>
            <a:ext cx="1600200" cy="16761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vers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352680" y="1600200"/>
            <a:ext cx="2057400" cy="45720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494034"/>
                <a:lnTo>
                  <a:pt x="21428" y="17025"/>
                </a:lnTo>
                <a:lnTo>
                  <a:pt x="17280" y="21600"/>
                </a:lnTo>
                <a:lnTo>
                  <a:pt x="12788" y="17025"/>
                </a:lnTo>
                <a:lnTo>
                  <a:pt x="14948" y="17025"/>
                </a:lnTo>
                <a:arcTo wR="7560" hR="21600" stAng="-1905966" swAng="-3136599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3276000" y="2590200"/>
            <a:ext cx="1981080" cy="60948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980360" y="6019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$$$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572000" y="358128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Valores Negociables: Títulos de deuda; Certificados de Participaci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-1800" y="3200400"/>
            <a:ext cx="462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Times New Roman"/>
              </a:rPr>
              <a:t>Emisiones Estructuradas: “off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7772400" y="62485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16745" y="3794"/>
                </a:moveTo>
                <a:lnTo>
                  <a:pt x="30758" y="10800"/>
                </a:lnTo>
                <a:lnTo>
                  <a:pt x="16745" y="17806"/>
                </a:lnTo>
                <a:close/>
              </a:path>
            </a:pathLst>
          </a:cu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Estructurados</a:t>
            </a:r>
            <a:br>
              <a:rPr sz="4000"/>
            </a:b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3366"/>
                </a:solidFill>
                <a:latin typeface="Times New Roman"/>
              </a:rPr>
              <a:t>Emisiones off balance sheet</a:t>
            </a: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Titulización: concep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ransformación de activos inmovilizados en activos líquid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lujo de fondos predecible; Estandarización de origen, administración y recupero; Análisis de flujo de información  (seguimiento después de la colocación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ctivos reales (recursos forestales, mineros, cultivos, ganado, inmueble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ctivos financieros (hipotecas, prendas, facturas, contratos de suministro, warrants, contratos de leasing, letras de cambio, cupones de tarjetas de crédito, títulos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6-04-20T07:06:24Z</dcterms:created>
  <dc:creator>MERVAL</dc:creator>
  <dc:description/>
  <dc:language>en-US</dc:language>
  <cp:lastModifiedBy>pagina</cp:lastModifiedBy>
  <cp:lastPrinted>2001-10-01T20:28:03Z</cp:lastPrinted>
  <dcterms:modified xsi:type="dcterms:W3CDTF">2004-05-26T13:31:07Z</dcterms:modified>
  <cp:revision>53</cp:revision>
  <dc:subject/>
  <dc:title>DINAMICA DEL  MERCADO DE CAPITALES</dc:title>
</cp:coreProperties>
</file>