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A7D-F639-4D25-89DA-5B6E2135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9D0-77FC-46DF-9078-2C500CED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600-748B-46AB-A28F-C1E8DDB2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EBF-0F38-4F36-85D3-60044411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196-4070-4530-AFDA-C98353CD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6D9-D9DD-4630-86E0-363C0C7E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574-EDCC-4A3F-8DDD-69D3CA40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A00-03F1-4BAD-A116-E73C674D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5F1-8AD0-4D48-9147-01F48609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604-760D-4F4A-91A7-F8FF2CF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1AE-0E14-4E32-9469-0AB84FE4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8C5-DD7B-4AC2-8334-73C30928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4996-1590-464A-BE89-6B122411DB3A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6600" y="838080"/>
            <a:ext cx="79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UNIVERSIDAD NACIONAL DEL S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44520" y="2787480"/>
            <a:ext cx="48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Lic. FABIO ROT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9200" y="45720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frotstein@uns.edu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03B-B9C1-49BD-8D90-D9BE958C16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640080"/>
            <a:ext cx="8497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Según HAX y MAJLU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La estrategia </a:t>
            </a:r>
            <a:r>
              <a:rPr b="1" lang="es-AR" sz="1800" spc="-1" strike="noStrike">
                <a:solidFill>
                  <a:srgbClr val="0000cc"/>
                </a:solidFill>
                <a:latin typeface="Tahoma"/>
              </a:rPr>
              <a:t>[en general]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1.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Determina y revela el propósito organizativo en términos de objetivos a largo plazo, programas de acción y prioridades de asign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2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Selecciona los negocios en los que participa o debe participar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396-1AE0-4A27-9199-9928D036C8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574920"/>
            <a:ext cx="84978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3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ntenta alcanzar una ventaja sostenible de largo plazo en cada uno de sus negocios, respondiendo en forma apropiada a las oportunidades y amenazas provenientes del medio en el que actúa la empresa y a los puntos fuertes y débiles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4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dentifica las tareas de gestión específicas en los niveles corporativos, de negocios y 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FB8-3B77-4B03-A1C1-19AB560F2B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939600"/>
            <a:ext cx="8642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5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Constituye un patrón de decisiones unificador e integ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6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Define la naturaleza de las contribuciones económicas y no económicas que pretende hacer a sus “stakeholders”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7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Es una expresión del propósito estratégico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4B7-F84D-4412-977D-2654FF3D91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789120"/>
            <a:ext cx="864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8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Apunta a desarrollar y fomentar las competencias centrales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9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Es un medio para invertir selectivamente en recursos tangibles e intangibles a fin de desarrollar las capacidades que garanticen una ventaja competitiva sostenib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54E-4A17-4CCE-9E26-7EC6F735DB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54600" y="549360"/>
            <a:ext cx="47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ARACTERÍSTICAS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2130120"/>
            <a:ext cx="86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ESTAR RELACIONADAS CON LOS OBJETIVOS A LARGO PLAZO DE UNA ORGANIZACIÓN. POR LO TANTO, SE REQUIERE UNA VISIÓN DE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669-3A93-45C9-9B01-6EFBF6FF8D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26240" y="54936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62432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CREAR VALOR, LO QUE IMPLICA EL CRECIMIENTO DE LAS ORGANIZACIONES. EL CRECIMIENTO IMPLICA MAYORES NECESIDADES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CFE-A311-4D85-BAAB-51C7A29201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1557360"/>
            <a:ext cx="86421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CRECIMIENTO REQUIERE CREATIVIDAD E INNOVACIÓN; AL MENOS EN ALGÚN SENTIDO: FINANZAS, MARKETING, PRODUCCIÓN, PRODUCTOS Y/O SERVICIOS, TECNOLOGÍA DE LOS PRODUCTOS, DE LOS PROCESOS Y DE LA INFORMACIÓN, ADMINISTRACIÓN DEL CAPITAL INTELECTUAL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549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37F-243F-4CEB-B650-4B6B0A724E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907920"/>
            <a:ext cx="8642520" cy="52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NOVACIÓN Y LA CREATIVIDAD NO SIEMPRE REQUIEREN DE LA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NVENCIÓN DE LA PÓLVOR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 PUEDEN SER MUCHAS VECES COMO LA PIMIENTA: UNA PEQUEÑA DOSIS ES SUFICIENTE PARA REALZAR Y SABORIZAR LAS COMIDAS. LA MÁS DE LAS VECES, TAMPOCO REQUIEREN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SENTARSE A PENSAR HASTA QUE SE PRENDA LA LAMPARIT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, SINO MÁS BIEN NECESITAN DE UN ESTUDIO SISTEMÁTICO DE LOS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260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674-213B-4BDE-B30F-4DD925EF2B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343160"/>
            <a:ext cx="8713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EN FINANZAS DEBEN CUMPLIR CON EL OBJETIVO DE MAXIMIZAR EL VALOR ACTUAL DEL PATRIMONIO NETO A VALORES DE MERCADO. PERO SI ÉSTE NO SE CUMPLE, REALMENTE NO HABRÍA CREA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620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C0A-17B0-4B86-A4A3-B6AF124EE3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1498680"/>
            <a:ext cx="87138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FINANZAS DE LA EMPRESA, COMO DISCIPLINA, DEBEN DESARROLLAR MÉTODOS Y HERRAMIENTAS PARA MEDIR LA CREACIÓN DE VALOR. LA EFICACIA DE LAS ESTRATEGIAS SE DEBE M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549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E20-BBD2-4A50-BBB9-B93F920262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68280"/>
            <a:ext cx="8642160" cy="256284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ahoma"/>
              </a:rPr>
              <a:t>FORMULACIÓN DE ESTRATEGIAS FINANCIERAS EN CONTEX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ahoma"/>
              </a:rPr>
              <a:t>DE ALTA INCERTIDUMBRE</a:t>
            </a:r>
            <a:r>
              <a:rPr b="1" lang="es-AR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45920" y="4148640"/>
            <a:ext cx="5804280" cy="4597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EL FINANCIAMIENTO EN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789-784E-4554-91FD-0F9FC8AA4B6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155304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ADECUARSE AL ENTORNO EN EL QUE OPERA LA ORGANIZACIÓN, PERO VISTO CON UNA ÓPTICA PROSPECTIVA. ES EL AJUSTE ESTRATÉGICO NO DEL PRESENTE, SINO DEL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556-41AF-46E4-BF7F-328D3A6DFE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142596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N EL MUNDO MODERNO, EL ENTORNO EN EL QUE OPERAN LAS ORGANIZACIONES ES ALTAMENTE COMPETITIVO; Y LOS COMPETIDORES TIENEN UNA ALTA CAPACIDAD DE IM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620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D6B-E950-4822-9EC2-D621F26D97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1409040"/>
            <a:ext cx="8785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AMBIÉN PUEDEN SURGIR IMITADORES ILEGALES. LAS ESTRATEGIAS PERSIGUEN LA OBTENCIÓN DE VENTAJAS ESTRATÉGICAS; QUE SON VERDADERA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0"/>
          <a:ext cx="9144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E51-238B-4211-A581-72CF6CBBBA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1829520"/>
            <a:ext cx="87854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CREAR OPORTUNIDADES, Y/O CAPITALIZAR LAS QUE EXISTAN, TRATANDO DE SOSLAYAR LAS AMENAZAS. DEBEN APROVECHAR LAS FORTALEZAS DE LA ORGANIZACIÓN Y SUPERAR LAS DE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470-0287-40DC-A5E1-7D349DEA2F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365120"/>
            <a:ext cx="87138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Resumen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SON CONJUNTOS DE POLÍTICAS, DECISIONES Y ACCIONES QUE LLEVAN A LAS ORGANIZACIONES DE UN ESTADIO ACTUAL DETERMINADO A UN ESTADIO FUTURO QUE MAXIMICE LA RIQUEZA DE SUS PROPIE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D39-5E5A-40E9-8498-050A8D10AE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23520" cy="3624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4000" y="49417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BEMOS ACOTAR QUE LA ALTA INCERTIDUMBRE ATENTA CONTRA LAS ESTRATEGIAS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563-CA0B-43D5-A694-9D220650CD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03640" y="1268280"/>
            <a:ext cx="27352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149720"/>
            <a:ext cx="2158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149720"/>
            <a:ext cx="1726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149720"/>
            <a:ext cx="1942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899800">
            <a:off x="3142080" y="2166120"/>
            <a:ext cx="431640" cy="2376360"/>
          </a:xfrm>
          <a:prstGeom prst="downArrow">
            <a:avLst>
              <a:gd name="adj1" fmla="val 50000"/>
              <a:gd name="adj2" fmla="val 137636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481200">
            <a:off x="5771520" y="2056320"/>
            <a:ext cx="431640" cy="2592360"/>
          </a:xfrm>
          <a:prstGeom prst="downArrow">
            <a:avLst>
              <a:gd name="adj1" fmla="val 50000"/>
              <a:gd name="adj2" fmla="val 150146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2492280"/>
            <a:ext cx="432000" cy="1584360"/>
          </a:xfrm>
          <a:prstGeom prst="downArrow">
            <a:avLst>
              <a:gd name="adj1" fmla="val 50000"/>
              <a:gd name="adj2" fmla="val 91688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F8B-4722-4518-BCB7-5CE694A536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8040" y="260280"/>
            <a:ext cx="73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MODELOS FINANCIERO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96600" cy="4092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4A6-54C6-4162-A1DE-2D5722CCD1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42240" cy="6037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F89-3610-4610-AB23-9F350BC3B0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85080" cy="60404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899-A199-4F54-87D7-5548B43A10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705760"/>
            <a:ext cx="8209080" cy="192276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DINERO SE INMOVILIZA CON LA ESPERANZA DE SU RECUPERACIÓN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476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B1D-0802-4F97-9DE7-4B12335DC74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00360" y="26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 B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052640"/>
            <a:ext cx="7632720" cy="8254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FINANCIAMIENTO A MEDIANO Y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 TRAVÉS DEL MERCADO DE CAP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852640"/>
            <a:ext cx="3168720" cy="180036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IC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852640"/>
            <a:ext cx="3527640" cy="17272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HARRY MARKOV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WILLIAM SHAR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516640"/>
            <a:ext cx="5184720" cy="93672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29560" y="5589720"/>
            <a:ext cx="49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PREMIOS NOBEL EN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3908400">
            <a:off x="3309120" y="1564560"/>
            <a:ext cx="288720" cy="1728720"/>
          </a:xfrm>
          <a:prstGeom prst="downArrow">
            <a:avLst>
              <a:gd name="adj1" fmla="val 50000"/>
              <a:gd name="adj2" fmla="val 149688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7731200">
            <a:off x="5607000" y="1528560"/>
            <a:ext cx="304560" cy="1800360"/>
          </a:xfrm>
          <a:prstGeom prst="downArrow">
            <a:avLst>
              <a:gd name="adj1" fmla="val 50000"/>
              <a:gd name="adj2" fmla="val 147784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7709600">
            <a:off x="3267720" y="4229280"/>
            <a:ext cx="304920" cy="1728720"/>
          </a:xfrm>
          <a:prstGeom prst="downArrow">
            <a:avLst>
              <a:gd name="adj1" fmla="val 50000"/>
              <a:gd name="adj2" fmla="val 141736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3756600">
            <a:off x="5543280" y="4186080"/>
            <a:ext cx="289080" cy="1800000"/>
          </a:xfrm>
          <a:prstGeom prst="downArrow">
            <a:avLst>
              <a:gd name="adj1" fmla="val 50000"/>
              <a:gd name="adj2" fmla="val 155666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8E7-37F4-49ED-ADA1-330238E739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04760"/>
            <a:ext cx="5329080" cy="66643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012000" y="2133720"/>
            <a:ext cx="2793960" cy="28972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EQU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FB8-8016-458A-B74A-13799E626A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95640" y="76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SUPUESTOS “MUY”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23560" y="1773360"/>
            <a:ext cx="50835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MERCADO DE CAP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AZONABLEMENTE 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IVERSIFICACIÓ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CTIVOS FINANCIEROS </a:t>
            </a:r>
            <a:r>
              <a:rPr b="1" lang="es-AR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ver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IVERSIFICACIÓ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CTIVOS REALES </a:t>
            </a:r>
            <a:r>
              <a:rPr b="1" lang="es-AR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C6C-C2A2-46E5-B202-D7385277FD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29480" y="765000"/>
            <a:ext cx="64656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IORIDADES EN EL FINANCI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UTOFINANCI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3933720"/>
            <a:ext cx="6912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UCTURA DE FINANCI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UCTURA FINANCIERA ÓP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61F-A212-4E82-98D0-C580310A1B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39280" y="4762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00" y="1557360"/>
            <a:ext cx="80247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1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PRINCIPAL Y AG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EFICIENCIA DEL A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 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MONITOR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DIFERENCIA DE O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MONITOR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LAN DE INCEN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2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ACREEDORES Y ACCIONI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MANIPULEO DEL VALOR DE LOS B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MAYOR RIESGO PARA LOS ACREE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F0D-4A6B-4471-9BAC-ADF9A653D5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96560" y="1557360"/>
            <a:ext cx="69062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3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CLIENTE Y EMPR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DUDAS RESPECTO AL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L SERVICIO DE POSV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USO DEL PRODUCTO ADQUIR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fotocopias ileg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pia ilegal de C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pia ilegal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4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 GENERAL 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NTRATADOS Y CONTRA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476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C2F-6845-4FEB-A2C2-FD7C386A18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2600" y="404640"/>
            <a:ext cx="60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SIMETRÍA DE LA INFORMACIÓN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9480" y="99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3120" y="1712880"/>
            <a:ext cx="765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FORMACIÓN ASIMÉTRICA OCURRE CUANDO UN GRUPO DE PARTICIPANTES TIENE MEJOR INFORMACIÓN O MÁS OPORTUNA, QUE LA DE OTR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725-BA25-4A7A-951B-D5E13601C8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84464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FORMACIÓN ASIMÉTRICA ES EL CONOCI-MIENTO SUPERIOR QUE TIENEN LOS ADMINIS-TRADORES ACERCA DE   LAS PERSPECTIVAS DE LA FIRMA, MIENTRAS QUE LOS INVERSORES EN LA MISMA FORMAN PARTE DEL GRUPO DESINFOR-M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404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SIMETRÍA DE LA INFORMACIÓN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AA5-1DEB-47E3-B5E8-E3AEA2C8EE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79480" y="99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3120" y="1712880"/>
            <a:ext cx="765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2421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UNA SEÑAL ES UNA ACCIÓN TOMADA POR LOS MÁS INFORMADOS, PROVEYENDO INFORMACIÓN CREÍBLE A LOS MENOS INFORM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549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SEÑ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615-3D2D-49FB-9C83-D8CD9120B4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6000" y="2349360"/>
            <a:ext cx="6912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TEORÍA DE LA AGENCIA DERIVA DEL HECHO DE QUE LAS DECISIONES DENTRO DE LA FIRMA SON TOMADAS POR LOS ADMINISTRADORES, QUE SON AGENTES DE LOS INVER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476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CEC-A7F4-4888-B885-0CB15AD9E2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509120"/>
            <a:ext cx="8729640" cy="43909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LO SE MANIFIESTA EN UN CONTEXTO DINÁMICO, INCIERTO Y BAJO CONDICIONES DE RIESGO; DONDE SE ENTRELAZA LO ECONÓMICO CON LO POLÍTICO Y LO SOCIAL, TANTO A NIVEL NACIONAL COMO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476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357-667C-441C-9124-CC254DB9976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42920" y="2060640"/>
            <a:ext cx="705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CONFLICTO DE INTERESES ENTR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DMINISTRADORES Y LOS INVER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UEDE CONDUCIR A UNA SUBOPTIMIZ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IÓN EN LA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NTRO DE LA FI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76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903-0314-4097-942A-DB5E8ED250E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692280"/>
            <a:ext cx="7416720" cy="42087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LAS OPCIONES REAL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EL VALOR ACTUAL N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Y LA INCERTIDU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39D-ED4D-414E-9925-DD44224F3D0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056240"/>
            <a:ext cx="78501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VALOR ACTUAL NET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VOLUCRA EN SU ANÁLISIS A LA INCERTIDUMBRE, AL DESCON-TAR EL FLUJO DE FONDOS ESPERADO A UNA TASA DE COSTO DE CAPITAL, QUE INCLUYE UN CIERTO PREMIO POR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ERO UNA VEZ TOMADA LA DECISIÓN EN BASE A ESE CRITERIO, LA CUESTIÓN SE TORNA </a:t>
            </a:r>
            <a:r>
              <a:rPr b="1" lang="es-AR" sz="2400" spc="-1" strike="noStrike" u="sng">
                <a:solidFill>
                  <a:srgbClr val="ff3300"/>
                </a:solidFill>
                <a:uFillTx/>
                <a:latin typeface="Tahoma"/>
              </a:rPr>
              <a:t>DETERMINIST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B6D-1F37-4A6C-8899-F4A1371853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19232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VALOR ACTUAL NET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NO PERMITE SEGUIR LA EVOLUCIÓN DEL PROCESO DE INVERSIÓN EN EL TIEMPO: LA MODIFICACIÓN DE INGRESOS, DESEM-BOLSOS Y TASAS, ASÍ COMO EL AGREGADO DE NUEVA INFORMACIÓN; TODO LO CUAL –ENTRE OTRAS CUESTIONES– LE AGREGARÍA REALMENTE FLEXIBILIDAD Y LO CONVERTIRÍA EN UNA VERDA-DERA HERRAMIENTA ESTRATÉGICA.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5C9-F36A-4119-96F2-D0ADCD9B21B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15598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OPCIONES REALES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PERMITEN UN MEJOR MANEJO ESTRATÉGICO Y UNA FLEXIBILIDAD MÁS CONDUCENTE EN SITUACIONES DE INCERTID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A FLEXIBILIDAD RESULTA MÁS IMPORTANTE AÚN EN CONTEXTOS DE ALTA INCERTID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318-E896-4114-89EC-95C42B4E29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213012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EXPANSIÓN O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CON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ABAND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EXTENSIÓN DE LA VID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DIFERIMIENTO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62064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OPCION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LGUNAS APLICACIONES TÍ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F32-4AC0-4C2C-A7F2-DF9E2AB9B42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933840"/>
            <a:ext cx="734364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SIGUIENDO A </a:t>
            </a:r>
            <a:r>
              <a:rPr b="1" i="1" lang="es-ES" sz="2400" spc="-1" strike="noStrike">
                <a:solidFill>
                  <a:srgbClr val="0000ff"/>
                </a:solidFill>
                <a:latin typeface="Tahoma"/>
              </a:rPr>
              <a:t>ALBERTO MARCEL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, DIGAMOS, QU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“… 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L VALOR DE LA FLEXIBILIDAD ES MAYOR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XISTE UN ALTO NIVEL DE INCERTI-DUMBRE SOBRE EL FUTU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3CF-12AF-49FC-B205-1EAF8A64B9E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63332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9280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… 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CUAN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S PROBABLE ADQUIRIR NUEVA INFOR-MACIÓN SOBRE LA EVOLUCIÓN FUTURA CON EL TRANSCURSO DEL TIEMP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084-6C7C-4DA3-B9F1-5CE0E2840DE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42920" y="1488600"/>
            <a:ext cx="70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… 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CUAN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LA GERENCIA TIENE CAPACIDAD DE MA-NIOBRA Y AGILIDAD PARA RESPONDER ADECUADAMENTE AL RECIBIR NUEVA INFORMACIÓN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24A-020A-41DD-89DE-DA542E5761D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08000" y="1268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VALOR ACTUAL N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1628640"/>
            <a:ext cx="4896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3429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OPCIONE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98900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689-AF14-423F-BE1D-51D94D17615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144520"/>
            <a:ext cx="8353440" cy="320220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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E PROCESO DEBE CREAR VALOR. POR LO TANTO SE REQUIERE LA APLICACIÓN DE ESTRATEGIAS DE NEGOCIOS Y DE ESTRATEGIAS FINANCI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20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0B3-8982-402B-BA17-9A08FFED89D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87280" y="549360"/>
            <a:ext cx="6769440" cy="459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 </a:t>
            </a:r>
            <a:r>
              <a:rPr b="1" lang="es-A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DECISIONES A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989000"/>
            <a:ext cx="8642160" cy="1015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ALTA INCERTIDUMBRE INHIBE EL PEN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ÉGICO Y EL PLANEAMIENTO A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4005360"/>
            <a:ext cx="5400720" cy="21283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 REQUIERE EL APOY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ÁCTICAS FINANCI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INNOVACIÓN Y CREA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125360"/>
            <a:ext cx="358920" cy="790920"/>
          </a:xfrm>
          <a:prstGeom prst="downArrow">
            <a:avLst>
              <a:gd name="adj1" fmla="val 50000"/>
              <a:gd name="adj2" fmla="val 55090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3141720"/>
            <a:ext cx="358920" cy="792000"/>
          </a:xfrm>
          <a:prstGeom prst="downArrow">
            <a:avLst>
              <a:gd name="adj1" fmla="val 50000"/>
              <a:gd name="adj2" fmla="val 55165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9C4-4BC9-429A-B34B-D220F12883F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42920" y="1341360"/>
            <a:ext cx="7058160" cy="1373760"/>
          </a:xfrm>
          <a:prstGeom prst="rect">
            <a:avLst/>
          </a:prstGeom>
          <a:solidFill>
            <a:srgbClr val="66ff99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A MAYOR INCERTIDU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3789360"/>
            <a:ext cx="7705440" cy="1373760"/>
          </a:xfrm>
          <a:prstGeom prst="rect">
            <a:avLst/>
          </a:prstGeom>
          <a:solidFill>
            <a:srgbClr val="66ff99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MÁS Y MEJORES ESTRATEG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492280"/>
            <a:ext cx="358560" cy="1224000"/>
          </a:xfrm>
          <a:prstGeom prst="downArrow">
            <a:avLst>
              <a:gd name="adj1" fmla="val 50000"/>
              <a:gd name="adj2" fmla="val 85341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FD7-F1AC-4C15-9388-86DDDC74490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059200" y="310824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frotstein@uns.edu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AD1-2A3A-406E-90C3-B1072B0CFB5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570320"/>
            <a:ext cx="8729640" cy="44827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OBJETIVO FINANCIERO DE LAS ORGANIZACIONES MODERNAS ES LA MAXIMIZACIÓN DEL VALOR ACTUAL DEL PATRIMONIO NETO, A VALORES DE MERCADO. SI ELLO SE CUMPLE, SE PUEDE AFIRMAR QUE LAS DECISIONES TOMADAS EN LA ORGANIZACIÓN CREARON VALOR. EN CASO CONTRARIO, NO SE PUEDE HACER TAL AFI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62064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542-49BC-4135-8ADB-6E46A84836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63640" y="2493360"/>
            <a:ext cx="554508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VALOR TIEMPO DEL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OYECCIONE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HERRAMIENTAS DE MED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DE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42480" y="47628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41300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ENDREMOS EN FORMA CONJ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UESTIONES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3A6-77F3-4E0B-9C1C-032DE2D5E4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32000" y="2417760"/>
            <a:ext cx="640872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REATIVIDAD E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VALUACIÓN DE LA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Y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IMPREVISIBILIDA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42480" y="62064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628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ENDREMOS EN FORMA CONJ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UESTIONES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4C4-9626-4064-BED8-59AB0D4D57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79760" y="836640"/>
            <a:ext cx="579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INCERTIDUMBRE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No se puede prever el futu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NTEXTOS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MBIANTE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TURBULENT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FLACIONARI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AÓTIC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+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GLOB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0E9-7AA8-4922-98EF-5AD8B7EB99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6:30:23Z</dcterms:created>
  <dc:creator>Fabio Rotstein</dc:creator>
  <dc:description/>
  <dc:language>en-US</dc:language>
  <cp:lastModifiedBy>C.P.C.E.C.A.B.A.</cp:lastModifiedBy>
  <dcterms:modified xsi:type="dcterms:W3CDTF">2004-09-24T15:28:28Z</dcterms:modified>
  <cp:revision>203</cp:revision>
  <dc:subject/>
  <dc:title>Diapositiva 1</dc:title>
</cp:coreProperties>
</file>