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8AA2-81A4-49A4-833D-4208E73F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120-F569-45AB-9F5A-5E9A3A77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539-3A68-44C9-BC40-D342F884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171B-77B6-4748-9071-43EDF668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ED0B-6744-4E41-AA64-072B0DF6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4D4-CAD0-41C9-B15C-B59C6737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FF2C-C3DE-4DF2-8E7B-A80F88D9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211-AE32-43B4-BE3C-9EAAEB7E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40B1-602E-4C93-8DC7-7899580D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232B-ED13-4400-A4E0-8BBC5279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CCAF-B05A-4632-A0D5-19E8B8D3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E15-E00F-4B59-A10F-BA8F9161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2CB3-B288-42D7-9DA0-DBEBC0DB09D8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6919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STRUMENTOS FINANCIEROS DEL MERCADO DE DINERO Y SU INTERACCION CON LOS MERCADOS DE: CAMBIOS, CAPITALES Y DE DERIVAD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6080" y="2060280"/>
            <a:ext cx="70675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mer Congreso Nacional e Internacional de Finanzas de 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Ricardo Pascale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fesor de Economía Financier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Universidad de la República, 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ta:  Estas notas son para utilizarse como una guía para una exposición oral, no son por tanto, un registro completo de la discu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uenos Aires, Setiembre de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0F4-3D4A-42CD-9F2E-CCF40710A4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95320" y="1341360"/>
            <a:ext cx="234144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22880" y="1341360"/>
            <a:ext cx="234000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12880" y="3933720"/>
            <a:ext cx="187164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52640" y="1773360"/>
            <a:ext cx="20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Institución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78400" y="1773360"/>
            <a:ext cx="202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liente Inver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68760" y="4076640"/>
            <a:ext cx="148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uenta Custodia en la Inst. Fci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25720" y="2276640"/>
            <a:ext cx="343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56520" y="2276640"/>
            <a:ext cx="1014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70640" y="2276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70640" y="249228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484160" y="4149720"/>
            <a:ext cx="288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236400" y="1773360"/>
            <a:ext cx="288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059600" y="76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378160" y="765000"/>
            <a:ext cx="46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78160" y="76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112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5960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57560" y="1989000"/>
            <a:ext cx="28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Venta Contado de Títulos Val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62640" y="4221000"/>
            <a:ext cx="288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Depósito en Custodia de Títulos Valores vendidos hasta el vencimiento de la trans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14880" y="1341360"/>
            <a:ext cx="28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ago de Compra de títulos valores o Inversión ML 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01840" y="189000"/>
            <a:ext cx="4757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acto de Recompra Simultáneo a la operación contado, con diferencial de precios de los títulos, equivalentes al retorno de la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27360" y="4653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27360" y="5805360"/>
            <a:ext cx="56944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321840" y="2060640"/>
            <a:ext cx="0" cy="3744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8385120" y="206064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994160" y="2060640"/>
            <a:ext cx="390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994520" y="1483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94520" y="1484280"/>
            <a:ext cx="164016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634680" y="1484280"/>
            <a:ext cx="0" cy="4753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895320" y="6237360"/>
            <a:ext cx="873936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895320" y="2133360"/>
            <a:ext cx="0" cy="41036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44880" y="249228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44880" y="3213000"/>
            <a:ext cx="49147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059600" y="249228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17960" y="5373720"/>
            <a:ext cx="413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de los Títulos Valores al Vencimiento de la Inversión a precio pa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57360" y="2852640"/>
            <a:ext cx="389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la Venta de los títulos valores al vencimiento de la inversión al precio pa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8760" y="6524640"/>
            <a:ext cx="117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6381720"/>
            <a:ext cx="1714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al momento de la Inver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2880" y="6524640"/>
            <a:ext cx="109224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5120" y="6381720"/>
            <a:ext cx="202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al momento del vencimiento de la invers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92880" y="189000"/>
            <a:ext cx="2341800" cy="39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ecio de Recompra menos Precio de Venta = Retorno sobre inver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148E-D54A-4110-A229-D15C8879D2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95320" y="1341360"/>
            <a:ext cx="234144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52640" y="1773360"/>
            <a:ext cx="20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Institución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2880" y="1341360"/>
            <a:ext cx="234000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78400" y="1773360"/>
            <a:ext cx="202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liente Prestat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12880" y="3933720"/>
            <a:ext cx="187164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68760" y="4076640"/>
            <a:ext cx="148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uenta Custodia en la Inst. Fci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079800" y="2205000"/>
            <a:ext cx="312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600200" y="2205000"/>
            <a:ext cx="140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205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2421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4292640"/>
            <a:ext cx="101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57560" y="1916280"/>
            <a:ext cx="28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Venta Contado de Títulos Val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-268560" y="3432960"/>
            <a:ext cx="266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Depósito en Custodia de Títulos Valores vendidos hasta el vencimiento de la trans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46520" y="1484280"/>
            <a:ext cx="358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03480" y="1052640"/>
            <a:ext cx="335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ago de Compra de títulos valores equivalente a financiación en ML 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49600" y="4653000"/>
            <a:ext cx="0" cy="1368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07600" y="6021360"/>
            <a:ext cx="304164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7960" y="1915920"/>
            <a:ext cx="0" cy="4105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5736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57360" y="2924280"/>
            <a:ext cx="475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21512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457360" y="2491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55920" y="2852640"/>
            <a:ext cx="475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acto de Recompra Simultáneo a la operación contado, con diferencial de precios de los títulos, equivalentes al costo del financi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7960" y="1916280"/>
            <a:ext cx="38736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95320" y="1916280"/>
            <a:ext cx="235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130400" y="1557000"/>
            <a:ext cx="0" cy="3589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130400" y="83664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30400" y="836640"/>
            <a:ext cx="5929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59600" y="83664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7960" y="6021360"/>
            <a:ext cx="413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de los Títulos Valores al Vencimiento de la transacción a precio pactado en el pacto de Recompra 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761240" y="2492280"/>
            <a:ext cx="0" cy="1152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144520" y="3645000"/>
            <a:ext cx="561636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144880" y="2492280"/>
            <a:ext cx="0" cy="1152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05120" y="3645000"/>
            <a:ext cx="389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la Compra de los títulos valores al vencimiento de la transacción, al precio pa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59000" y="6524640"/>
            <a:ext cx="11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30800" y="6381720"/>
            <a:ext cx="171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al momento de la Inver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5280" y="6524640"/>
            <a:ext cx="10918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07160" y="6381720"/>
            <a:ext cx="202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al momento del vencimiento de la invers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76760" y="5013360"/>
            <a:ext cx="3510000" cy="39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ecio de Recompra menos Precio de Venta = Costo del financi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0A3-C477-4F42-A561-9C29B42B62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74880" y="1197000"/>
            <a:ext cx="218412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95320" y="3141720"/>
            <a:ext cx="210816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13480" y="3213000"/>
            <a:ext cx="210672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57360" y="5589720"/>
            <a:ext cx="16369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52640" y="1592280"/>
            <a:ext cx="19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 Off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74880" y="3284640"/>
            <a:ext cx="19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 On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91240" y="3544920"/>
            <a:ext cx="195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Prestat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12880" y="5589720"/>
            <a:ext cx="132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ustodia de Valores en Inst. On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79800" y="1557360"/>
            <a:ext cx="4525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05720" y="1557360"/>
            <a:ext cx="0" cy="165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70400" y="1197000"/>
            <a:ext cx="33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éstamo normal de Mercado de dinero con tasa de inter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79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676520" y="4365720"/>
            <a:ext cx="585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676520" y="400500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27360" y="4336920"/>
            <a:ext cx="390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compra contado de títulos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25720" y="342900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25720" y="3068640"/>
            <a:ext cx="358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trega de Títulos Valores Vendidos al Cliente Prest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7527960" y="3213000"/>
            <a:ext cx="7776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676520" y="3141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676520" y="2421000"/>
            <a:ext cx="15696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54280" y="2565360"/>
            <a:ext cx="366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olocación de fondos en igual moneda, plazo y tasa de interés que préstamo de Offshore a Cliente Prestat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91856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222640" y="5013360"/>
            <a:ext cx="569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22264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222640" y="3789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22640" y="3789360"/>
            <a:ext cx="623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46520" y="3789360"/>
            <a:ext cx="6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70400" y="3789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003120" y="3645000"/>
            <a:ext cx="155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62640" y="3645000"/>
            <a:ext cx="1950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12880" y="3645000"/>
            <a:ext cx="436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acto de Recompra Simultáneo a la operación contado, con diferencial de precios de los títulos, equivalentes al costo del financi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38760" y="5013360"/>
            <a:ext cx="28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Venta Contado de Títulos Val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69000" y="3429000"/>
            <a:ext cx="12495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918560" y="3429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63680" y="393372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63680" y="6381720"/>
            <a:ext cx="694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307360" y="393372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62640" y="5950080"/>
            <a:ext cx="335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ago de Compra de títulos valores equivalente a financiación en ML 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833480" y="1557360"/>
            <a:ext cx="117000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818640" y="5877000"/>
            <a:ext cx="1638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19000" y="364500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19000" y="3645000"/>
            <a:ext cx="311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1130400" y="3284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130400" y="2420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61680" y="2421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62040" y="69228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2040" y="69228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86760" y="692280"/>
            <a:ext cx="0" cy="2665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8307000" y="3357720"/>
            <a:ext cx="7794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8307000" y="335772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46520" y="333360"/>
            <a:ext cx="413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de los Títulos Valores al Vencimiento de la transacción a precio pactado en el pacto de Recompra 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1000" y="3860640"/>
            <a:ext cx="0" cy="2737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1000" y="6597720"/>
            <a:ext cx="87357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9086760" y="3645000"/>
            <a:ext cx="0" cy="295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7596000" y="4670280"/>
            <a:ext cx="359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la Compra de los títulos valores al vencimiento de la transacción, al precio pa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8620200" y="3645000"/>
            <a:ext cx="4665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51000" y="3860640"/>
            <a:ext cx="8586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8071920" y="3357720"/>
            <a:ext cx="235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8072280" y="907560"/>
            <a:ext cx="0" cy="2449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51000" y="907920"/>
            <a:ext cx="7721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1000" y="907920"/>
            <a:ext cx="0" cy="2592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1000" y="3500280"/>
            <a:ext cx="5443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7583040" y="2295360"/>
            <a:ext cx="144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Contado Spot de los títulos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9000" y="3500280"/>
            <a:ext cx="2184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003480" y="2421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03480" y="2421000"/>
            <a:ext cx="3743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46760" y="2421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27360" y="2205000"/>
            <a:ext cx="26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Sport de Compra de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46760" y="3357720"/>
            <a:ext cx="623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7370640" y="1989000"/>
            <a:ext cx="0" cy="136872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158640" y="1989000"/>
            <a:ext cx="4211640" cy="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60640" y="1773360"/>
            <a:ext cx="319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pago de Préstamo Offshore más intere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363320" y="1989000"/>
            <a:ext cx="1716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63680" y="198900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63680" y="227664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6200000">
            <a:off x="286560" y="244008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pago de Colo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1440" y="189000"/>
            <a:ext cx="85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09600" y="88920"/>
            <a:ext cx="16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Offahore 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79800" y="18900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94280" y="4428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Onshore 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811840" y="189000"/>
            <a:ext cx="7016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15280" y="44280"/>
            <a:ext cx="163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Onshore al V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151840" y="189000"/>
            <a:ext cx="779400" cy="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072280" y="1602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Offshore al V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C15-4744-4B45-8837-10471A38AF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136520" y="2349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5240" y="2816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60520" y="2349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05240" y="2781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40160" y="2349360"/>
            <a:ext cx="1512720" cy="144000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728880" y="2852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92520" y="1916280"/>
            <a:ext cx="216072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68880" y="284004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334280" y="793800"/>
            <a:ext cx="2011320" cy="1266840"/>
          </a:xfrm>
          <a:prstGeom prst="borderCallout2">
            <a:avLst>
              <a:gd name="adj1" fmla="val 18750"/>
              <a:gd name="adj2" fmla="val -8333"/>
              <a:gd name="adj3" fmla="val 9023"/>
              <a:gd name="adj4" fmla="val -63537"/>
              <a:gd name="adj5" fmla="val 88597"/>
              <a:gd name="adj6" fmla="val -12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473960" y="981000"/>
            <a:ext cx="17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La política cambiaria y monetaria en interrelación con el mercado de din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619-0489-492F-ADA3-E3CA88FCCC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967360" y="1341360"/>
            <a:ext cx="3587760" cy="489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754280" y="1197000"/>
            <a:ext cx="249696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3645000"/>
            <a:ext cx="249696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746760" y="1916280"/>
            <a:ext cx="21844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746760" y="3213000"/>
            <a:ext cx="21844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4724280" y="339660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ERCADO DE DIN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4080" y="2205000"/>
            <a:ext cx="17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MDA. 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80400" y="3573360"/>
            <a:ext cx="17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MDA.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46760" y="4510080"/>
            <a:ext cx="21844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80400" y="4724280"/>
            <a:ext cx="17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FINANC. EX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911240" y="1557360"/>
            <a:ext cx="218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UTORIDAD MONET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54280" y="4121280"/>
            <a:ext cx="218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ON INTERVIN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5264280" y="2205000"/>
            <a:ext cx="14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64280" y="2205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172040" y="4149720"/>
            <a:ext cx="109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846520" y="4149720"/>
            <a:ext cx="1325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846520" y="3645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846520" y="2205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36760" y="2205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36760" y="364500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36760" y="3933720"/>
            <a:ext cx="781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17960" y="3933720"/>
            <a:ext cx="27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562280" y="5157720"/>
            <a:ext cx="218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562640" y="4149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931240" y="3860640"/>
            <a:ext cx="781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9712440" y="4046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527960" y="404640"/>
            <a:ext cx="218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36760" y="404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36760" y="1197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846520" y="1197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41240" y="333360"/>
            <a:ext cx="179388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846520" y="62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534760" y="620640"/>
            <a:ext cx="311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95320" y="404640"/>
            <a:ext cx="156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plicaciones de Reser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76760" y="189000"/>
            <a:ext cx="19512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76760" y="693720"/>
            <a:ext cx="19512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734080" y="376200"/>
            <a:ext cx="15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Títulos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34080" y="808200"/>
            <a:ext cx="15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mi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576760" y="404640"/>
            <a:ext cx="1951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236760" y="404640"/>
            <a:ext cx="23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874760" y="907920"/>
            <a:ext cx="70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875120" y="40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63680" y="90792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63680" y="1700280"/>
            <a:ext cx="3906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754280" y="1700280"/>
            <a:ext cx="390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144880" y="1700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144880" y="206064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44880" y="371628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44880" y="458136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144880" y="5300640"/>
            <a:ext cx="210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251240" y="2565360"/>
            <a:ext cx="0" cy="2735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251240" y="2565360"/>
            <a:ext cx="24955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931240" y="4149720"/>
            <a:ext cx="623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9555120" y="4149720"/>
            <a:ext cx="1573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712440" y="4149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741240" y="6669000"/>
            <a:ext cx="8971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41240" y="4076280"/>
            <a:ext cx="0" cy="2592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41240" y="4076640"/>
            <a:ext cx="8589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076640"/>
            <a:ext cx="311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1911240" y="386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911240" y="1988640"/>
            <a:ext cx="0" cy="18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1911240" y="148428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11240" y="1484280"/>
            <a:ext cx="2183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094280" y="33300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94280" y="333360"/>
            <a:ext cx="1482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576760" y="333360"/>
            <a:ext cx="1951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527960" y="333360"/>
            <a:ext cx="1793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321840" y="33336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321840" y="2565360"/>
            <a:ext cx="0" cy="93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8930880" y="3500280"/>
            <a:ext cx="3906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3676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52640" y="623736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11240" y="60930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314880" y="62373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29000" y="60930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3470400" y="2204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70400" y="28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16200000">
            <a:off x="2883240" y="287172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ontrato de Sw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74880" y="5589720"/>
            <a:ext cx="538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or el contrato de Swap, la Autoridad Monetaria se compromete a la entrega de la ME vendida o entregada al inicio por el interviniente, recibiendo en contrapartida la MN equivalente al importe en ME por un Tipo de Cambio acordado e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6566-15F2-4793-A543-6DCB8628F9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40160" y="1341360"/>
            <a:ext cx="1512720" cy="144000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0852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961240" y="907920"/>
            <a:ext cx="2160360" cy="25923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2592360"/>
              <a:gd name="textAreaBottom" fmla="*/ 259236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537240" y="1773360"/>
            <a:ext cx="136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4969800">
            <a:off x="6465600" y="3500280"/>
            <a:ext cx="2590560" cy="20890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13600" y="4005360"/>
            <a:ext cx="1368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Interacción de mercado de cambios y mercado de dinero, sin riesgo de camb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556C-C2D9-47DE-81F4-FAE1DD4CA2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278400" y="1052640"/>
            <a:ext cx="2497320" cy="93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63680" y="2492280"/>
            <a:ext cx="249696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60640" y="4365720"/>
            <a:ext cx="257508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9000" y="1268280"/>
            <a:ext cx="22608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521000" y="2781360"/>
            <a:ext cx="218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35720" y="1341360"/>
            <a:ext cx="218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inversor en 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016520" y="4437000"/>
            <a:ext cx="23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pósito en Garantía en ME en la Institución Financiera devengando o sin devengar intere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9000" y="1413000"/>
            <a:ext cx="218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Usos en ML de la Institu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49600" y="3284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49600" y="3716280"/>
            <a:ext cx="475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8307360" y="191628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8307360" y="15570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307360" y="155736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775720" y="155736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244080" y="155736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435360" y="472428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27960" y="1989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860280" y="2997360"/>
            <a:ext cx="366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753920" y="2997360"/>
            <a:ext cx="2106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754280" y="2636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1754280" y="1844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938760" y="3429000"/>
            <a:ext cx="351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Contado de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356520" y="4365720"/>
            <a:ext cx="351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onstitución de este depósito por importe equivalente a la venta contado de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329000" y="2752560"/>
            <a:ext cx="304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Contado de ML contrapa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16200000">
            <a:off x="61200" y="269316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plicación de los recursos 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690640" y="2060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690640" y="2060640"/>
            <a:ext cx="421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904080" y="1915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69064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314880" y="1700280"/>
            <a:ext cx="288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ontrato de Cambio Futuro Compra ME para la Inst. Ficiera. Y Compra futura MN para el cl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987200" y="4724280"/>
            <a:ext cx="1873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1987560" y="3357720"/>
            <a:ext cx="0" cy="13665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987560" y="321300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87560" y="3213000"/>
            <a:ext cx="1639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627360" y="3213000"/>
            <a:ext cx="4291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7918560" y="198900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7918560" y="1125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7918560" y="691920"/>
            <a:ext cx="0" cy="433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350640" y="692280"/>
            <a:ext cx="75675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1000" y="69228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51000" y="3860640"/>
            <a:ext cx="1482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1833480" y="3357360"/>
            <a:ext cx="0" cy="502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44880" y="184464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44880" y="24922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44880" y="2781360"/>
            <a:ext cx="1560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705120" y="2781360"/>
            <a:ext cx="3510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7215120" y="198864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42880" y="443700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trega de Saldo de Depósito a cl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094280" y="2997360"/>
            <a:ext cx="25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trega de Saldo de Depósito a cl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90640" y="476280"/>
            <a:ext cx="413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trega de ME en cumplimiento de contrato futu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627360" y="2492280"/>
            <a:ext cx="335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trega de MN en cumplimiento de contrato futu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52640" y="623736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11240" y="60930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314880" y="62373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29000" y="60930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71440" y="5300640"/>
            <a:ext cx="9283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or el Contrato de Cambio Futuro Compra ME, la Indt. Fciera. Se compromete a entregar la moneda nacional equivalente al monto en ME vendido al contado, por un tipo de cambio acordado al inici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DE31-BE16-442F-B588-D35D5F3ED4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1521000" y="620640"/>
            <a:ext cx="257328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521000" y="4510080"/>
            <a:ext cx="257328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513480" y="2565360"/>
            <a:ext cx="257328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54280" y="4840200"/>
            <a:ext cx="21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 On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54280" y="907920"/>
            <a:ext cx="21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 Off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746760" y="2852640"/>
            <a:ext cx="210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Prestatario On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052640" y="642456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911240" y="62802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314880" y="64245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329000" y="62802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71440" y="5769000"/>
            <a:ext cx="9283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or el Contrato de Cambio Futuro Venta  ME, la Indt. Fciera. Se compromete a entregar la moneda extranjera equivalente al monto en ML  vendido al contado, por un tipo de cambio acordado al inici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094280" y="981000"/>
            <a:ext cx="30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137360" y="98100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137360" y="2637000"/>
            <a:ext cx="0" cy="144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6668640" y="278136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079800" y="2781360"/>
            <a:ext cx="35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079800" y="278136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094280" y="508464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839000" y="342864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7839000" y="2565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7839000" y="1773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83480" y="1268280"/>
            <a:ext cx="15606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605720" y="1341360"/>
            <a:ext cx="155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plicación de los recursos en M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79800" y="45086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2534760" y="4724280"/>
            <a:ext cx="5446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2535120" y="4508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535120" y="148392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2535120" y="1197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535120" y="1197000"/>
            <a:ext cx="1325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860640" y="981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60640" y="981000"/>
            <a:ext cx="233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51240" y="76500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éstamo normal en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16200000">
            <a:off x="990360" y="29091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pósito Rentable en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314880" y="253692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de ME al Con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172040" y="4840200"/>
            <a:ext cx="32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de ML al Con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186520" y="3357360"/>
            <a:ext cx="187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3704760" y="4005360"/>
            <a:ext cx="14814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20191200">
            <a:off x="3470400" y="3679920"/>
            <a:ext cx="2886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ontrato Futuro de Cambio a Término, pactando  tipo de cambio futu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819000" y="1052640"/>
            <a:ext cx="702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19000" y="1052640"/>
            <a:ext cx="0" cy="4105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5157720"/>
            <a:ext cx="2262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938760" y="5157720"/>
            <a:ext cx="444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5120" y="3357720"/>
            <a:ext cx="0" cy="180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8385120" y="2637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385120" y="2637000"/>
            <a:ext cx="13273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9712440" y="620280"/>
            <a:ext cx="0" cy="201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860280" y="620640"/>
            <a:ext cx="5851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3705120" y="620640"/>
            <a:ext cx="1555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7370280" y="155736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846520" y="3284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19000" y="5157720"/>
            <a:ext cx="781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370640" y="15573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370640" y="256536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6746400" y="3284640"/>
            <a:ext cx="623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846520" y="3284640"/>
            <a:ext cx="39002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177-CF60-4709-A063-777C0131A6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440160" y="1341360"/>
            <a:ext cx="1512720" cy="144000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0852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96124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03252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040520" y="981000"/>
            <a:ext cx="1873440" cy="244800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400880" y="190332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10032600">
            <a:off x="5368680" y="3638520"/>
            <a:ext cx="4032000" cy="2160720"/>
          </a:xfrm>
          <a:prstGeom prst="cloudCallout">
            <a:avLst>
              <a:gd name="adj1" fmla="val -36833"/>
              <a:gd name="adj2" fmla="val 585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392880" y="4076640"/>
            <a:ext cx="2448000" cy="13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sh Management como obje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Base de cl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dquisición de client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idelización de client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Seguimiento del flujo de fondos de la econom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E810-4BCB-4E05-B54D-1157DC572C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081240" y="1268280"/>
            <a:ext cx="3432240" cy="10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03480" y="5013360"/>
            <a:ext cx="3430800" cy="10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833480" y="3141720"/>
            <a:ext cx="592776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470400" y="1628640"/>
            <a:ext cx="26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Corporativo o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079800" y="3500280"/>
            <a:ext cx="33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oveedores del Cliente Corporativo o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079800" y="5489640"/>
            <a:ext cx="33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719600" y="2349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110200" y="2349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110200" y="3141720"/>
            <a:ext cx="0" cy="93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1020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64184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110200" y="501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10200" y="5373720"/>
            <a:ext cx="116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278400" y="5373720"/>
            <a:ext cx="202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8307360" y="1844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6435360" y="1844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003480" y="184464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363320" y="1844640"/>
            <a:ext cx="163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363680" y="184464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363680" y="5516640"/>
            <a:ext cx="163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03480" y="5516640"/>
            <a:ext cx="1638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4641840" y="5013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16200000">
            <a:off x="3606840" y="261936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actu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4277880" y="262404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cepta Factu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275000"/>
            <a:ext cx="1951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ede 100% factura menos impue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06920" y="4508640"/>
            <a:ext cx="101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A de factu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5400000">
            <a:off x="7583040" y="395604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Notifica Ce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16200000">
            <a:off x="132480" y="3989520"/>
            <a:ext cx="20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Sin Oposición a la Ce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4795920" y="765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95920" y="765000"/>
            <a:ext cx="40575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853480" y="765000"/>
            <a:ext cx="0" cy="4969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6278040" y="5734080"/>
            <a:ext cx="2575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5400000">
            <a:off x="7669080" y="35589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la factura a su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52640" y="642456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911240" y="62802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14880" y="64245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329000" y="62802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0593-212F-4611-B74F-E819F7733C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86080" y="0"/>
            <a:ext cx="77882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u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troducción y Gener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volución de los productos en el mercado de di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oductos Pasivos Prim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oductos Activos Prim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ertificados de Depósitos Transferibles y “Trade Certificate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rtas de Créditos domés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rtas de Crédito Stan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ceptaciones Banc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inanciación de exportaciones – Pre y P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l mercado de Dinero y el mercado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l mercado de Dinero y el mercado de Deriv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6E1-A722-44CA-9396-236762C5BA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911240" y="1268280"/>
            <a:ext cx="273060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562640" y="3068640"/>
            <a:ext cx="350964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911240" y="4653000"/>
            <a:ext cx="273060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144880" y="1557360"/>
            <a:ext cx="23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Corporativo o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44880" y="4941720"/>
            <a:ext cx="23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110200" y="3213000"/>
            <a:ext cx="234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istribuidores o “Dealers” del cliente corporativo o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641840" y="1700280"/>
            <a:ext cx="163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78400" y="1700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6746760" y="14839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4406760" y="1484280"/>
            <a:ext cx="23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066760" y="1484280"/>
            <a:ext cx="2340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974520" y="1484280"/>
            <a:ext cx="10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74880" y="1484280"/>
            <a:ext cx="0" cy="37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974880" y="5229360"/>
            <a:ext cx="101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87560" y="5229360"/>
            <a:ext cx="2575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562640" y="522936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5500800" y="371592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500800" y="3573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719600" y="3573360"/>
            <a:ext cx="781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71960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562640" y="4941720"/>
            <a:ext cx="15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378160" y="21337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052640" y="642456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911240" y="62802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314880" y="64245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329000" y="628020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875120" y="1700280"/>
            <a:ext cx="124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actu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rot="5400000">
            <a:off x="5880600" y="208188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cepta Factu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rot="16200000">
            <a:off x="-329040" y="312660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esión de Factu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rot="5400000">
            <a:off x="4740480" y="449316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nuncia Ce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rot="16200000">
            <a:off x="3529080" y="4168800"/>
            <a:ext cx="21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No opone ce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16200000">
            <a:off x="639720" y="3193560"/>
            <a:ext cx="30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scuenta  o Compra Facturas (Forfiting o Factor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904080" y="378936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236400" y="5950080"/>
            <a:ext cx="36673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3236760" y="5589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5400000">
            <a:off x="6233040" y="4777560"/>
            <a:ext cx="180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ncelación de Facturas al 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018A-B243-4726-AABF-35428B4D31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136520" y="3213000"/>
            <a:ext cx="1944720" cy="208764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496880" y="393372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2547600">
            <a:off x="2936520" y="3789360"/>
            <a:ext cx="3211560" cy="2382840"/>
          </a:xfrm>
          <a:prstGeom prst="cloudCallout">
            <a:avLst>
              <a:gd name="adj1" fmla="val -41787"/>
              <a:gd name="adj2" fmla="val 6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224160" y="4292640"/>
            <a:ext cx="252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El inversor asume la administración y fijación de su ubicación con respecto a la frontera de eficiencia, riesgo / reto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5600880" y="2781360"/>
            <a:ext cx="2089080" cy="19778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6972480" y="4869000"/>
            <a:ext cx="2589120" cy="174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F2B-E064-4424-8DD6-3722AC6BD6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3314880" y="3068640"/>
            <a:ext cx="296352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92640" y="1197000"/>
            <a:ext cx="296532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314880" y="4869000"/>
            <a:ext cx="296352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627360" y="1484280"/>
            <a:ext cx="241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Prestat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549600" y="3357720"/>
            <a:ext cx="241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 Intervin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627360" y="5272200"/>
            <a:ext cx="241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Inver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406760" y="2060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952880" y="2060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84280" y="4292640"/>
            <a:ext cx="1638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62040" y="4365720"/>
            <a:ext cx="14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uenta Custodia del Doc.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406760" y="314172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406760" y="393372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06760" y="486900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3392280" y="5157720"/>
            <a:ext cx="1014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1285920" y="5157720"/>
            <a:ext cx="210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285920" y="479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1285920" y="4365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85920" y="436572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222640" y="4365720"/>
            <a:ext cx="163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86064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79592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278400" y="5300640"/>
            <a:ext cx="109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7370640" y="357336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6278400" y="3573360"/>
            <a:ext cx="109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5888160" y="3573360"/>
            <a:ext cx="390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5888160" y="335736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888160" y="3357720"/>
            <a:ext cx="234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122880" y="3357720"/>
            <a:ext cx="12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7370640" y="170028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6356160" y="1700280"/>
            <a:ext cx="10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428400" y="3500280"/>
            <a:ext cx="288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28760" y="3500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8760" y="5445000"/>
            <a:ext cx="296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16200000">
            <a:off x="3348720" y="2400840"/>
            <a:ext cx="165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irma de Documento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3898800" y="2436480"/>
            <a:ext cx="172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ontrato de Comisión = Tasa Act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3206520" y="423972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Doc.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943080" y="4275000"/>
            <a:ext cx="20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ontrato de Comisión = Tasa Pas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521000" y="4941720"/>
            <a:ext cx="163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pósito en Custo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144880" y="4149720"/>
            <a:ext cx="163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ertificado de Custo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51000" y="3141720"/>
            <a:ext cx="288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misión de Opción de Venta / Put Option, fecha y precio defin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6200000">
            <a:off x="6186240" y="4420440"/>
            <a:ext cx="20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6200000">
            <a:off x="6217560" y="2548080"/>
            <a:ext cx="20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343480" y="206064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343480" y="3933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811840" y="386064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811840" y="198900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rot="16200000">
            <a:off x="4440960" y="244008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5400000">
            <a:off x="4622040" y="424080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pago de Inver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5400000">
            <a:off x="5087520" y="251604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Comi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5400000">
            <a:off x="5087520" y="438768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Comi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875120" y="573408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875120" y="6093000"/>
            <a:ext cx="36673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542440" y="3500280"/>
            <a:ext cx="0" cy="259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278040" y="3500280"/>
            <a:ext cx="22640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576760" y="587700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jecuta Opción de Venta- 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84520" y="573408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819000" y="6093000"/>
            <a:ext cx="36655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819000" y="486900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85920" y="5877000"/>
            <a:ext cx="23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uelve Certificado de Custo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819000" y="4292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819000" y="177336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19000" y="1773360"/>
            <a:ext cx="25736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819000" y="386064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19000" y="3860640"/>
            <a:ext cx="2963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3782880" y="321264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819000" y="2997360"/>
            <a:ext cx="2963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782880" y="299736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19000" y="3645000"/>
            <a:ext cx="241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ncelación de Custo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95320" y="2781360"/>
            <a:ext cx="24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uelve documento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052640" y="649764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911240" y="635328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314880" y="649764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329000" y="635328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0303-235B-417E-AD06-061B99AAC6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136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208160" y="3500280"/>
            <a:ext cx="158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432160" y="2924280"/>
            <a:ext cx="1800000" cy="18000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792520" y="3429000"/>
            <a:ext cx="122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CARTAS DE CRÉDITO DOMÉ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3504000">
            <a:off x="4340160" y="3814560"/>
            <a:ext cx="3079800" cy="2952720"/>
          </a:xfrm>
          <a:prstGeom prst="cloudCallout">
            <a:avLst>
              <a:gd name="adj1" fmla="val -48231"/>
              <a:gd name="adj2" fmla="val 33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025960" y="4076640"/>
            <a:ext cx="165600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Generación de Contingenci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ducción de Ac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cremento de Retorno sobre Ac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ontingencia de liquidez, brindando servicio a clientes con relacion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ide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mpliación de base de client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5B9E-C2B9-453B-9039-DFBE3082A6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819000" y="765000"/>
            <a:ext cx="2417760" cy="79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95320" y="4724280"/>
            <a:ext cx="2419560" cy="79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343480" y="2133720"/>
            <a:ext cx="241776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343480" y="4005360"/>
            <a:ext cx="241776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08160" y="934920"/>
            <a:ext cx="187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 del Cliente Corporativo o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209600" y="4797360"/>
            <a:ext cx="187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itución Financiera del Cliente Dealer o Distribuidor del cliente corporativo o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576760" y="4149720"/>
            <a:ext cx="1951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istribuidor o Dealer del cliente corporativo o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576760" y="2311560"/>
            <a:ext cx="187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Corporativo o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144880" y="551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144880" y="6237360"/>
            <a:ext cx="46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746760" y="486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535120" y="6021360"/>
            <a:ext cx="390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pertura de Carta de Crédito doméstico/ Vista o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285920" y="148392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6200000">
            <a:off x="-52560" y="3305880"/>
            <a:ext cx="23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visa Carta de 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079800" y="981000"/>
            <a:ext cx="351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591240" y="981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159000" y="765000"/>
            <a:ext cx="249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visa Carta de 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1285920" y="981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285920" y="981000"/>
            <a:ext cx="17175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122880" y="1341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3158640" y="1341360"/>
            <a:ext cx="296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314880" y="1125360"/>
            <a:ext cx="24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actura y Rem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2690280" y="134136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690640" y="1341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690640" y="148428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1430640" y="3305160"/>
            <a:ext cx="23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mite Document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68760" y="544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768760" y="5877000"/>
            <a:ext cx="33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122880" y="4797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549600" y="5632560"/>
            <a:ext cx="17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trega doc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811840" y="4724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4484160" y="5516640"/>
            <a:ext cx="132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4484520" y="51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3314520" y="5157720"/>
            <a:ext cx="116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3314880" y="5157720"/>
            <a:ext cx="23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236760" y="479736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si es a la Vista o letras si e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1363680" y="5157720"/>
            <a:ext cx="1951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1363680" y="155700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rot="16200000">
            <a:off x="334800" y="3228840"/>
            <a:ext cx="23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si es a la Vista o letras si e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761240" y="2492280"/>
            <a:ext cx="124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9010800" y="2492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7760880" y="4437000"/>
            <a:ext cx="124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rot="16200000">
            <a:off x="8125920" y="337572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vío de Mercad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1363680" y="83628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1363680" y="475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363680" y="476280"/>
            <a:ext cx="554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904080" y="47628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612880" y="260280"/>
            <a:ext cx="288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si es a la Vista o letras si e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2301480" y="2565360"/>
            <a:ext cx="304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2301840" y="1557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911240" y="155736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846520" y="4508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846520" y="4508640"/>
            <a:ext cx="249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6591240" y="3715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2144520" y="3716280"/>
            <a:ext cx="444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14488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271080" y="5157720"/>
            <a:ext cx="6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271440" y="1125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71440" y="112536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925720" y="141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25720" y="1844640"/>
            <a:ext cx="27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65452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846520" y="2320920"/>
            <a:ext cx="24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vío Letras al Cob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rot="5400000">
            <a:off x="904680" y="2552400"/>
            <a:ext cx="22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vío Letras al Cob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925720" y="4336920"/>
            <a:ext cx="24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vío Letras al Cob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59000" y="3500280"/>
            <a:ext cx="24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Letras 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003480" y="1628640"/>
            <a:ext cx="24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Letras 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rot="16200000">
            <a:off x="-720360" y="305424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Letras 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2378160" y="62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378160" y="620640"/>
            <a:ext cx="491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292880" y="620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16200000">
            <a:off x="6634080" y="1063080"/>
            <a:ext cx="187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ventual adelanto sobre Carta de Crédito o compra de Letr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363680" y="5445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363680" y="6524640"/>
            <a:ext cx="600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7370640" y="47239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754280" y="6308640"/>
            <a:ext cx="52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ventual préstamo para realizar p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F34-EAEB-4C89-8188-36C7D8C177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136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208160" y="3500280"/>
            <a:ext cx="158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432160" y="2997360"/>
            <a:ext cx="1296720" cy="143964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576520" y="3429000"/>
            <a:ext cx="122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CARTAS DE CRÉDITO DOMÉST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584520" y="2852640"/>
            <a:ext cx="1800360" cy="223200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944880" y="3573360"/>
            <a:ext cx="12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CARTA DE CRÉDITO STAN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rot="3019800">
            <a:off x="5863320" y="3372480"/>
            <a:ext cx="3384720" cy="2989440"/>
          </a:xfrm>
          <a:prstGeom prst="cloudCallout">
            <a:avLst>
              <a:gd name="adj1" fmla="val -43435"/>
              <a:gd name="adj2" fmla="val 58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321600" y="4033800"/>
            <a:ext cx="23032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Incremento de conting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Reducción de Ac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Incremento de Retorno sobre Ac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ontrol de liquid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AD0-DC07-4CEA-A56E-078526CA54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2144880" y="4292640"/>
            <a:ext cx="288576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144880" y="1197000"/>
            <a:ext cx="288576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122880" y="2781360"/>
            <a:ext cx="288612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457360" y="1484280"/>
            <a:ext cx="233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Banco Monetiz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378160" y="4581360"/>
            <a:ext cx="23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Banco Emi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435720" y="3068640"/>
            <a:ext cx="233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demandando financi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853480" y="3500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3627000" y="5516640"/>
            <a:ext cx="522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62736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3627360" y="494136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627360" y="494172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875120" y="4941720"/>
            <a:ext cx="257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7450200" y="371628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7450200" y="3429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278040" y="3429000"/>
            <a:ext cx="1171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3158640" y="3429000"/>
            <a:ext cx="311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315900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7918560" y="148392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4875120" y="1484280"/>
            <a:ext cx="304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030640" y="1700280"/>
            <a:ext cx="249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527960" y="1700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952880" y="5300640"/>
            <a:ext cx="273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Solicitud de Emisión de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4724280"/>
            <a:ext cx="23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misión de Stand By solicit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627360" y="3213000"/>
            <a:ext cx="23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ndoso de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952880" y="1700280"/>
            <a:ext cx="23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xtensión de financi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110200" y="1268280"/>
            <a:ext cx="23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ocumento de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8696160" y="69228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3158640" y="692280"/>
            <a:ext cx="55371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159000" y="69228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4251240" y="90756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251240" y="907920"/>
            <a:ext cx="40561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07360" y="907920"/>
            <a:ext cx="0" cy="1944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1130400" y="1700280"/>
            <a:ext cx="1014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1130400" y="47628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130400" y="476280"/>
            <a:ext cx="81914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9321840" y="47628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930880" y="3284640"/>
            <a:ext cx="3906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7839000" y="3284640"/>
            <a:ext cx="1092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839000" y="3284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839000" y="3716280"/>
            <a:ext cx="0" cy="2233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3079800" y="5950080"/>
            <a:ext cx="4759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3079800" y="522936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7614000" y="172152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pago de Financi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795920" y="880920"/>
            <a:ext cx="26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uelve documento de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846520" y="260280"/>
            <a:ext cx="319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olución de la Carta Stand By venc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627360" y="5734080"/>
            <a:ext cx="319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olución de la Carta Stand By venc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535120" y="1989000"/>
            <a:ext cx="0" cy="244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925720" y="2060640"/>
            <a:ext cx="0" cy="23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130400" y="4797360"/>
            <a:ext cx="1014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1130400" y="1915920"/>
            <a:ext cx="0" cy="28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130400" y="1916280"/>
            <a:ext cx="1247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4094280" y="3715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094280" y="3716280"/>
            <a:ext cx="2886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rot="16200000">
            <a:off x="1164960" y="3125160"/>
            <a:ext cx="251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esentación de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rot="16200000">
            <a:off x="1332000" y="3054240"/>
            <a:ext cx="28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ocumento de Adeudo vencido y endos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rot="16200000">
            <a:off x="66600" y="3198240"/>
            <a:ext cx="23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Garantía emit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251240" y="3716280"/>
            <a:ext cx="241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icia gestiones de Cob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052640" y="649764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911240" y="635328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314880" y="649764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329000" y="6353280"/>
            <a:ext cx="163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 repago norm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202440" y="6453360"/>
            <a:ext cx="1168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370640" y="6345360"/>
            <a:ext cx="164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 ejecución de garantí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29C-4CCB-46EB-9175-60C5087805F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136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208160" y="3500280"/>
            <a:ext cx="158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432160" y="2997360"/>
            <a:ext cx="1296720" cy="143964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576520" y="3429000"/>
            <a:ext cx="122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CARTAS DE CRÉDITO DOMÉST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584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800520" y="342900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CARTA DE CRÉDITO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808520" y="2924280"/>
            <a:ext cx="1944720" cy="194472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024520" y="355932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ACEPTACIONES BANC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rot="3095400">
            <a:off x="6827400" y="3397320"/>
            <a:ext cx="2449800" cy="2484360"/>
          </a:xfrm>
          <a:prstGeom prst="cloudCallout">
            <a:avLst>
              <a:gd name="adj1" fmla="val -43685"/>
              <a:gd name="adj2" fmla="val 44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184880" y="3789360"/>
            <a:ext cx="180036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Financiación Importaciones y Aplicaciones financie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ercado Secundario, utilización Mesa de Din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DE0-09B1-4B8D-8E14-6144F5B9D9C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1363680" y="836640"/>
            <a:ext cx="312084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363680" y="3789360"/>
            <a:ext cx="312084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137360" y="907920"/>
            <a:ext cx="1716120" cy="381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833480" y="1125360"/>
            <a:ext cx="226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liente prestatario o libr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600200" y="4149720"/>
            <a:ext cx="26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Banco Acepta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rot="5400000">
            <a:off x="6209280" y="2562840"/>
            <a:ext cx="35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Inver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rot="5400000">
            <a:off x="5892120" y="2695320"/>
            <a:ext cx="32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MERCADO SECUND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222640" y="1773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rot="16200000">
            <a:off x="858240" y="27280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misión de L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3860640" y="1773360"/>
            <a:ext cx="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rot="16200000">
            <a:off x="2351880" y="2728080"/>
            <a:ext cx="27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inanciamiento Extend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222640" y="386064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222640" y="4149720"/>
            <a:ext cx="2184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484520" y="4149720"/>
            <a:ext cx="288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754280" y="3933720"/>
            <a:ext cx="273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CEPT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860640" y="3933720"/>
            <a:ext cx="343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 del Instru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799452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2846520" y="5445000"/>
            <a:ext cx="51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284652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392640" y="5229360"/>
            <a:ext cx="358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094280" y="4437000"/>
            <a:ext cx="358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pago de la Inver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093920" y="3357720"/>
            <a:ext cx="3043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094280" y="335772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562640" y="3141720"/>
            <a:ext cx="19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olución del Instru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094280" y="39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1600200" y="4437000"/>
            <a:ext cx="2494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1600200" y="4005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600200" y="155736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rot="16200000">
            <a:off x="588240" y="2910600"/>
            <a:ext cx="18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olución del Instru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507600" y="1341360"/>
            <a:ext cx="855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07960" y="1341360"/>
            <a:ext cx="0" cy="3024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07960" y="436572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rot="16200000">
            <a:off x="-1260360" y="2801160"/>
            <a:ext cx="33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pago de la Letra / Financi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329000" y="4437000"/>
            <a:ext cx="31989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535120" y="4724280"/>
            <a:ext cx="0" cy="144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535120" y="6165720"/>
            <a:ext cx="6786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9321840" y="2924280"/>
            <a:ext cx="0" cy="324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8853120" y="2924280"/>
            <a:ext cx="468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8542440" y="4221000"/>
            <a:ext cx="0" cy="208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2144520" y="6308640"/>
            <a:ext cx="6397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2144880" y="4652640"/>
            <a:ext cx="0" cy="165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2925720" y="1773360"/>
            <a:ext cx="0" cy="20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329000" y="5877000"/>
            <a:ext cx="358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pago de la Inver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rot="5400000">
            <a:off x="7783560" y="52138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olución del Instru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rot="16200000">
            <a:off x="1835640" y="27640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icio de gestión de cob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052640" y="55728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11240" y="41292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314880" y="55728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329000" y="412920"/>
            <a:ext cx="163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 repago norm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202440" y="512640"/>
            <a:ext cx="1168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370640" y="404640"/>
            <a:ext cx="164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vencimiento ejecu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1BAA-4D1C-48D4-9798-E051A78DC61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136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08160" y="3500280"/>
            <a:ext cx="158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432160" y="2997360"/>
            <a:ext cx="1296720" cy="143964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576520" y="3429000"/>
            <a:ext cx="122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CARTAS DE CRÉDITO DOMÉST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584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800520" y="342900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CARTA DE CRÉDITO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808520" y="2997360"/>
            <a:ext cx="1513080" cy="1439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808520" y="342900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ACEPTACIONES BANC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321600" y="2924280"/>
            <a:ext cx="1655640" cy="20174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017440"/>
              <a:gd name="textAreaBottom" fmla="*/ 2017800 h 20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753240" y="362916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rot="11756400">
            <a:off x="3728520" y="4797000"/>
            <a:ext cx="3311640" cy="1440000"/>
          </a:xfrm>
          <a:prstGeom prst="cloudCallout">
            <a:avLst>
              <a:gd name="adj1" fmla="val -16745"/>
              <a:gd name="adj2" fmla="val 719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160880" y="523728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El riesgo de Cross Border y una de las formas de mitigar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F3AD-D7F7-437C-BDDF-01D505435D6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13240" y="2060640"/>
            <a:ext cx="251928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92520" y="2205000"/>
            <a:ext cx="251964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9240" y="2276640"/>
            <a:ext cx="2519280" cy="24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13240" y="693720"/>
            <a:ext cx="251928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89240" y="1197000"/>
            <a:ext cx="13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400" spc="-1" strike="noStrike">
                <a:solidFill>
                  <a:srgbClr val="000000"/>
                </a:solidFill>
                <a:latin typeface="Arial"/>
              </a:rPr>
              <a:t>MERCADO DE CAMB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2261160" y="324072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400" spc="-1" strike="noStrike">
                <a:solidFill>
                  <a:srgbClr val="000000"/>
                </a:solidFill>
                <a:latin typeface="Arial"/>
              </a:rPr>
              <a:t>MERCADO DE CAPI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6640" y="316800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400" spc="-1" strike="noStrike">
                <a:solidFill>
                  <a:srgbClr val="000000"/>
                </a:solidFill>
                <a:latin typeface="Arial"/>
              </a:rPr>
              <a:t>MERCADO DE DERIVA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89240" y="3068640"/>
            <a:ext cx="13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400" spc="-1" strike="noStrike">
                <a:solidFill>
                  <a:srgbClr val="000000"/>
                </a:solidFill>
                <a:latin typeface="Arial"/>
              </a:rPr>
              <a:t>MERCADO DE DIN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29600" y="2781360"/>
            <a:ext cx="2303280" cy="2016000"/>
          </a:xfrm>
          <a:prstGeom prst="leftArrow">
            <a:avLst>
              <a:gd name="adj1" fmla="val 50000"/>
              <a:gd name="adj2" fmla="val 28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915800">
            <a:off x="6537240" y="404640"/>
            <a:ext cx="2303640" cy="2016360"/>
          </a:xfrm>
          <a:prstGeom prst="leftArrow">
            <a:avLst>
              <a:gd name="adj1" fmla="val 50000"/>
              <a:gd name="adj2" fmla="val 285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4520" y="2924280"/>
            <a:ext cx="1871640" cy="1873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509600">
            <a:off x="704520" y="549000"/>
            <a:ext cx="2316240" cy="1873080"/>
          </a:xfrm>
          <a:prstGeom prst="rightArrow">
            <a:avLst>
              <a:gd name="adj1" fmla="val 50000"/>
              <a:gd name="adj2" fmla="val 309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61240" y="350028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600" spc="-1" strike="noStrike">
                <a:solidFill>
                  <a:srgbClr val="000000"/>
                </a:solidFill>
                <a:latin typeface="Arial"/>
              </a:rPr>
              <a:t>RIESGO DE CRÉD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9855800">
            <a:off x="7040160" y="105264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600" spc="-1" strike="noStrike">
                <a:solidFill>
                  <a:srgbClr val="000000"/>
                </a:solidFill>
                <a:latin typeface="Arial"/>
              </a:rPr>
              <a:t>RIESGO DE LIQUID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498200">
            <a:off x="775800" y="9810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600" spc="-1" strike="noStrike">
                <a:solidFill>
                  <a:srgbClr val="000000"/>
                </a:solidFill>
                <a:latin typeface="Arial"/>
              </a:rPr>
              <a:t>RIESGO DE CAMB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2880" y="3573360"/>
            <a:ext cx="18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1600" spc="-1" strike="noStrike">
                <a:solidFill>
                  <a:srgbClr val="000000"/>
                </a:solidFill>
                <a:latin typeface="Arial"/>
              </a:rPr>
              <a:t>RIESGO DE TASA / 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1757600">
            <a:off x="5622120" y="4357800"/>
            <a:ext cx="3024360" cy="2303280"/>
          </a:xfrm>
          <a:prstGeom prst="cloudCallout">
            <a:avLst>
              <a:gd name="adj1" fmla="val -40638"/>
              <a:gd name="adj2" fmla="val 6205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61240" y="5157720"/>
            <a:ext cx="23047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iesgo de Contrapa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iesgo Comercial o de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iesgo Pre Settlement y Sett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iesgo “Cross Border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9291600">
            <a:off x="6681240" y="2059920"/>
            <a:ext cx="2734920" cy="10810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9720800">
            <a:off x="7113960" y="2349000"/>
            <a:ext cx="194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pacidad para honrar los compromisos en tiempo y for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623800">
            <a:off x="1463760" y="4444920"/>
            <a:ext cx="2031840" cy="2448000"/>
          </a:xfrm>
          <a:prstGeom prst="cloudCallout">
            <a:avLst>
              <a:gd name="adj1" fmla="val -57750"/>
              <a:gd name="adj2" fmla="val 653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68520" y="5229360"/>
            <a:ext cx="180000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volución adversa de Curvas de Rend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olatilidad de precio por evolución de Curva de Rend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6352800">
            <a:off x="379440" y="1593360"/>
            <a:ext cx="1765440" cy="1835280"/>
          </a:xfrm>
          <a:prstGeom prst="cloudCallout">
            <a:avLst>
              <a:gd name="adj1" fmla="val -41023"/>
              <a:gd name="adj2" fmla="val 37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0520" y="2133720"/>
            <a:ext cx="136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volución adversa de tipo de cambio o paridad entre dos mone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5240" y="141120"/>
            <a:ext cx="763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LOS RIESGOS EXISTEN SÓLO CUANDO EXISTEN POSICIONES EXPUE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LOS RIESGOS NO SE ANULAN, SE MITI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F6D3-EDD4-4566-9365-AD0179753A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849240" y="765000"/>
            <a:ext cx="8567640" cy="1946520"/>
          </a:xfrm>
          <a:prstGeom prst="rect">
            <a:avLst/>
          </a:prstGeom>
          <a:ln w="0">
            <a:noFill/>
          </a:ln>
        </p:spPr>
      </p:pic>
      <p:pic>
        <p:nvPicPr>
          <p:cNvPr id="978" name="" descr=""/>
          <p:cNvPicPr/>
          <p:nvPr/>
        </p:nvPicPr>
        <p:blipFill>
          <a:blip r:embed="rId2"/>
          <a:stretch/>
        </p:blipFill>
        <p:spPr>
          <a:xfrm>
            <a:off x="849240" y="3376440"/>
            <a:ext cx="8567640" cy="250056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/>
          <p:nvPr/>
        </p:nvSpPr>
        <p:spPr>
          <a:xfrm>
            <a:off x="1136520" y="299736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9DE1-F48B-44DF-A604-D5DBE12D172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136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208160" y="3500280"/>
            <a:ext cx="158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432160" y="2997360"/>
            <a:ext cx="1296720" cy="143964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76520" y="3429000"/>
            <a:ext cx="122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CARTAS DE CRÉDITO DOMÉST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584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800520" y="342900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CARTA DE CRÉDITO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808520" y="2997360"/>
            <a:ext cx="1513080" cy="1439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808520" y="342900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ACEPTACIONES BANC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105600" y="2997360"/>
            <a:ext cx="1511280" cy="143964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465960" y="3573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545240" y="2924280"/>
            <a:ext cx="1729080" cy="208908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2089080"/>
              <a:gd name="textAreaBottom" fmla="*/ 208944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761240" y="3500280"/>
            <a:ext cx="165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PRE Y POST FINANCIACIÓN DE EXPORT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rot="12525000">
            <a:off x="4952160" y="4436640"/>
            <a:ext cx="3024360" cy="2205000"/>
          </a:xfrm>
          <a:prstGeom prst="cloudCallout">
            <a:avLst>
              <a:gd name="adj1" fmla="val -17004"/>
              <a:gd name="adj2" fmla="val 808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168880" y="5084640"/>
            <a:ext cx="237636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La asociación del mercado de dinero en la dinamización del modelo export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orma de mitigar los riesgos de liquidez, “cross corder” y tasas de ienteré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816520" y="361800"/>
            <a:ext cx="2300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4078"/>
              <a:gd name="adj5" fmla="val 420314"/>
              <a:gd name="adj6" fmla="val 125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961240" y="333360"/>
            <a:ext cx="201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efinanci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ostfinanciación con o sin factoring interna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9E46-81AC-466B-9803-4737F3179D2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1209600" y="1052640"/>
            <a:ext cx="304164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09600" y="3789360"/>
            <a:ext cx="304164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448400" y="1052640"/>
            <a:ext cx="1716120" cy="381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329000" y="1052640"/>
            <a:ext cx="304164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600200" y="1341360"/>
            <a:ext cx="21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Banco del exportador intervin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799160" y="1384200"/>
            <a:ext cx="21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Banco del Importad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76520" y="4048200"/>
            <a:ext cx="21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xport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rot="5400000">
            <a:off x="6384960" y="29102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uente de Financiamiento del Banco del Export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8307360" y="404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2846160" y="404640"/>
            <a:ext cx="546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846520" y="40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172040" y="404640"/>
            <a:ext cx="27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ondos Invert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987560" y="1916280"/>
            <a:ext cx="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rot="16200000">
            <a:off x="469080" y="2764080"/>
            <a:ext cx="26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inanciamiento Otorg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87560" y="458136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782880" y="5157720"/>
            <a:ext cx="304344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4329000" y="5445000"/>
            <a:ext cx="210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oducción de export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987560" y="5589720"/>
            <a:ext cx="179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987560" y="3860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5343480" y="4508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860280" y="4508640"/>
            <a:ext cx="14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3860640" y="393336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3860640" y="1844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172040" y="4149720"/>
            <a:ext cx="1950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oductos y documentos en or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3860640" y="148392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860640" y="1484280"/>
            <a:ext cx="390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251240" y="1484280"/>
            <a:ext cx="7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329000" y="2492280"/>
            <a:ext cx="304164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875120" y="2781360"/>
            <a:ext cx="210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mportad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329000" y="1484280"/>
            <a:ext cx="546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875120" y="14842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875120" y="1773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6669000" y="1844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264280" y="2060640"/>
            <a:ext cx="156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si es Vista o Letra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6669000" y="112536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6669000" y="764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3392280" y="765000"/>
            <a:ext cx="327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017960" y="765000"/>
            <a:ext cx="249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si es Vista o Letra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392640" y="76500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92640" y="1125360"/>
            <a:ext cx="0" cy="790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392640" y="1916280"/>
            <a:ext cx="0" cy="1873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rot="5400000">
            <a:off x="2382120" y="2730240"/>
            <a:ext cx="23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si es Vista o Letra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3079800" y="1915920"/>
            <a:ext cx="0" cy="1873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rot="16200000">
            <a:off x="1998720" y="290988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1363680" y="1699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rot="16200000">
            <a:off x="214920" y="287352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ocumento de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12880" y="1916280"/>
            <a:ext cx="0" cy="1873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rot="16200000">
            <a:off x="1494360" y="287352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ocumento de adeu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052640" y="649764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911240" y="6353280"/>
            <a:ext cx="16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314880" y="649764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329000" y="6353280"/>
            <a:ext cx="19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L embarque si es Vi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428400" y="148428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28760" y="148428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28760" y="6093000"/>
            <a:ext cx="795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8385120" y="4941720"/>
            <a:ext cx="0" cy="115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07960" y="58482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volución de la Inversión más intere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3079800" y="134100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1442520" y="1341360"/>
            <a:ext cx="1636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442880" y="1341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1130400" y="1484280"/>
            <a:ext cx="31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5CC-8789-4166-948A-7D5D856F352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1209600" y="1268280"/>
            <a:ext cx="27291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1209600" y="2708280"/>
            <a:ext cx="27291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285920" y="4221000"/>
            <a:ext cx="27306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122880" y="4221000"/>
            <a:ext cx="27291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122880" y="1268280"/>
            <a:ext cx="27291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521000" y="1484280"/>
            <a:ext cx="21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Banco del Import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600200" y="2924280"/>
            <a:ext cx="210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xport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600200" y="4437000"/>
            <a:ext cx="210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Banco del Export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435720" y="4437000"/>
            <a:ext cx="210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mpresa de Factoring Interna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435720" y="1484280"/>
            <a:ext cx="210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mport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54280" y="3357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2066760" y="3428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75428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1285560" y="465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894960" y="4653000"/>
            <a:ext cx="3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895320" y="1700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895320" y="1700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209600" y="1700280"/>
            <a:ext cx="2651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860640" y="1700280"/>
            <a:ext cx="226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7059600" y="692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3549600" y="692280"/>
            <a:ext cx="351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549600" y="692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549600" y="141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54960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549600" y="2276640"/>
            <a:ext cx="62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172040" y="2276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4017960" y="4508640"/>
            <a:ext cx="15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3470040" y="450864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470400" y="4508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470400" y="4869000"/>
            <a:ext cx="0" cy="57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470400" y="5445000"/>
            <a:ext cx="413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7605720" y="494172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7605720" y="4221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7605720" y="3789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7605720" y="3789360"/>
            <a:ext cx="1558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9164520" y="3789360"/>
            <a:ext cx="0" cy="223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612520" y="6021360"/>
            <a:ext cx="655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2612880" y="4941360"/>
            <a:ext cx="0" cy="1079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2612880" y="472428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2066400" y="4724280"/>
            <a:ext cx="546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066760" y="4724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28760" y="5229360"/>
            <a:ext cx="194940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066760" y="494172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51000" y="5445000"/>
            <a:ext cx="210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VERSORES O DEPOSIT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1676520" y="48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rot="16200000">
            <a:off x="783360" y="377208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oc. En or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rot="16200000">
            <a:off x="1238400" y="380988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A de doc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rot="16200000">
            <a:off x="-829080" y="30898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misión de doc. En or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236760" y="1455840"/>
            <a:ext cx="343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misión de doc. En or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202440" y="1700280"/>
            <a:ext cx="257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8775720" y="170028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916452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8385120" y="2205000"/>
            <a:ext cx="1170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8542440" y="215892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espacho de Mercad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3236760" y="476280"/>
            <a:ext cx="397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Orden de Pago o Letra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rot="16200000">
            <a:off x="2460600" y="3268080"/>
            <a:ext cx="36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Orden de Pago o Letra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549600" y="5229360"/>
            <a:ext cx="397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actoring de Orden de Pago o Letra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236760" y="5805360"/>
            <a:ext cx="475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alor Actual de Operación de Fact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rot="16200000">
            <a:off x="1580400" y="5172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Repago a Inv. o Deposit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7918560" y="26028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2612880" y="260280"/>
            <a:ext cx="53056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612880" y="26028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782880" y="189000"/>
            <a:ext cx="312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al Ven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612880" y="1268280"/>
            <a:ext cx="0" cy="648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612880" y="1916280"/>
            <a:ext cx="779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470400" y="1916280"/>
            <a:ext cx="1404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875120" y="1916280"/>
            <a:ext cx="0" cy="28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3938400" y="472428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1754280" y="4724280"/>
            <a:ext cx="2184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754280" y="4724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754280" y="4869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980400" y="198900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017960" y="4581360"/>
            <a:ext cx="1403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5421240" y="2204640"/>
            <a:ext cx="0" cy="23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421240" y="2205000"/>
            <a:ext cx="10922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6513480" y="191628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rot="16200000">
            <a:off x="3732120" y="319716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Orden de Pago o Letras a Plazo Venci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rot="16200000">
            <a:off x="5395320" y="312480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ago de OP o Letras a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7370640" y="198900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rot="16200000">
            <a:off x="5681520" y="2907720"/>
            <a:ext cx="30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Orden de Pago o Letras a Plazo Venci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07960" y="6453360"/>
            <a:ext cx="77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363680" y="630864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s al in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535120" y="6453360"/>
            <a:ext cx="857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470400" y="6165720"/>
            <a:ext cx="132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inicial transacción alternat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795920" y="645336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576760" y="6165720"/>
            <a:ext cx="132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al vencimiento norm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6826320" y="6453360"/>
            <a:ext cx="70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7527960" y="6165720"/>
            <a:ext cx="132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Flujo al vencimiento alterna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6EE-5A62-4D24-9A00-DD3A872E209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136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208160" y="3500280"/>
            <a:ext cx="158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432160" y="2997360"/>
            <a:ext cx="1296720" cy="143964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576520" y="3429000"/>
            <a:ext cx="122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CARTAS DE CRÉDITO DOMÉST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584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800520" y="342900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CARTA DE CRÉDITO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808520" y="2997360"/>
            <a:ext cx="1513080" cy="1439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808520" y="342900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ACEPTACIONES BANC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105600" y="2997360"/>
            <a:ext cx="1511280" cy="143964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465960" y="3573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00880" y="2997360"/>
            <a:ext cx="1513080" cy="1439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473960" y="3429000"/>
            <a:ext cx="165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E Y POST FINANCIACIÓN DE EXPORT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1136520" y="4653000"/>
            <a:ext cx="1871640" cy="172872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1424160" y="4941720"/>
            <a:ext cx="1441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EL MERCADO DE DINERO Y EL MERCADO DE CAPI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rot="1241400">
            <a:off x="3593880" y="4711320"/>
            <a:ext cx="3166920" cy="1800360"/>
          </a:xfrm>
          <a:prstGeom prst="cloudCallout">
            <a:avLst>
              <a:gd name="adj1" fmla="val -64944"/>
              <a:gd name="adj2" fmla="val 31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800520" y="5084640"/>
            <a:ext cx="259236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Intermediación vs. Med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La preferencia del inver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roductos y Estructuras – fideicomiso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EA4-59EE-4436-9083-8ECAA428B93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" descr=""/>
          <p:cNvPicPr/>
          <p:nvPr/>
        </p:nvPicPr>
        <p:blipFill>
          <a:blip r:embed="rId1"/>
          <a:stretch/>
        </p:blipFill>
        <p:spPr>
          <a:xfrm>
            <a:off x="379440" y="895320"/>
            <a:ext cx="9144000" cy="50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DC89-1936-430A-A816-AF279641FF4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" descr=""/>
          <p:cNvPicPr/>
          <p:nvPr/>
        </p:nvPicPr>
        <p:blipFill>
          <a:blip r:embed="rId1"/>
          <a:stretch/>
        </p:blipFill>
        <p:spPr>
          <a:xfrm>
            <a:off x="262080" y="754200"/>
            <a:ext cx="9378720" cy="534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7AC9-1F87-41BA-804F-C27F4932A62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7" name="" descr=""/>
          <p:cNvPicPr/>
          <p:nvPr/>
        </p:nvPicPr>
        <p:blipFill>
          <a:blip r:embed="rId1"/>
          <a:stretch/>
        </p:blipFill>
        <p:spPr>
          <a:xfrm>
            <a:off x="258840" y="244440"/>
            <a:ext cx="9385200" cy="6359400"/>
          </a:xfrm>
          <a:prstGeom prst="rect">
            <a:avLst/>
          </a:prstGeom>
          <a:ln w="0">
            <a:noFill/>
          </a:ln>
        </p:spPr>
      </p:pic>
      <p:sp>
        <p:nvSpPr>
          <p:cNvPr id="1188" name=""/>
          <p:cNvSpPr/>
          <p:nvPr/>
        </p:nvSpPr>
        <p:spPr>
          <a:xfrm>
            <a:off x="2649600" y="4753080"/>
            <a:ext cx="12952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BOLSA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DE3-B779-430D-AF3E-EA52CED4A23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" descr=""/>
          <p:cNvPicPr/>
          <p:nvPr/>
        </p:nvPicPr>
        <p:blipFill>
          <a:blip r:embed="rId1"/>
          <a:stretch/>
        </p:blipFill>
        <p:spPr>
          <a:xfrm>
            <a:off x="258840" y="317520"/>
            <a:ext cx="9385200" cy="6215040"/>
          </a:xfrm>
          <a:prstGeom prst="rect">
            <a:avLst/>
          </a:prstGeom>
          <a:ln w="0">
            <a:noFill/>
          </a:ln>
        </p:spPr>
      </p:pic>
      <p:sp>
        <p:nvSpPr>
          <p:cNvPr id="1190" name=""/>
          <p:cNvSpPr/>
          <p:nvPr/>
        </p:nvSpPr>
        <p:spPr>
          <a:xfrm>
            <a:off x="5745240" y="364500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rot="16200000">
            <a:off x="5221800" y="4093200"/>
            <a:ext cx="1727280" cy="39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STRUYE AL  AGENTE PAG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EF14-5CD9-45BF-848E-CAAC267CBE7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136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208160" y="3500280"/>
            <a:ext cx="158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432160" y="2997360"/>
            <a:ext cx="1296720" cy="143964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576520" y="3429000"/>
            <a:ext cx="122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CARTAS DE CRÉDITO DOMÉST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3584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800520" y="342900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CARTA DE CRÉDITO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808520" y="2997360"/>
            <a:ext cx="1513080" cy="1439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08520" y="342900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ACEPTACIONES BANC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6105600" y="2997360"/>
            <a:ext cx="1511280" cy="143964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6465960" y="3573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400880" y="2997360"/>
            <a:ext cx="1513080" cy="1439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136520" y="4653000"/>
            <a:ext cx="1656000" cy="1512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281240" y="5032440"/>
            <a:ext cx="1441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EL MERCADO DE DINERO Y EL MERCADO DE CAPIT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473960" y="3429000"/>
            <a:ext cx="165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E Y POST FINANCIACIÓN DE EXPORT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792520" y="4653000"/>
            <a:ext cx="2232000" cy="18003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297240" y="5013360"/>
            <a:ext cx="14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EL MERCADO DEL DINERO Y EL DE DERIVA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C0AE-6D8F-4A0D-AEF2-94C95B595CB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24160" y="2205000"/>
            <a:ext cx="3457800" cy="2160720"/>
          </a:xfrm>
          <a:custGeom>
            <a:avLst/>
            <a:gdLst>
              <a:gd name="textAreaLeft" fmla="*/ 0 w 3457800"/>
              <a:gd name="textAreaRight" fmla="*/ 3458160 w 3457800"/>
              <a:gd name="textAreaTop" fmla="*/ 0 h 2160720"/>
              <a:gd name="textAreaBottom" fmla="*/ 2160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40160" y="27874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16C-C992-47A6-89A9-A479000B50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" descr=""/>
          <p:cNvPicPr/>
          <p:nvPr/>
        </p:nvPicPr>
        <p:blipFill>
          <a:blip r:embed="rId1"/>
          <a:stretch/>
        </p:blipFill>
        <p:spPr>
          <a:xfrm>
            <a:off x="992160" y="2143080"/>
            <a:ext cx="8137440" cy="264168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849240" y="148428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992160" y="5300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6EE-0F0E-4C66-A7F2-FC95B28FC34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1136520" y="1341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065240" y="1808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360520" y="1341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505240" y="1773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511440" y="1341360"/>
            <a:ext cx="1513080" cy="1440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3728880" y="1844640"/>
            <a:ext cx="11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879800" y="1341360"/>
            <a:ext cx="1297080" cy="1440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952880" y="1773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P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32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105600" y="177336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SWAPS DE INGENIERÍA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256520" y="1341360"/>
            <a:ext cx="1368360" cy="1440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136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1208160" y="3500280"/>
            <a:ext cx="158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PAPELES COMER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2432160" y="2997360"/>
            <a:ext cx="1296720" cy="143964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576520" y="3429000"/>
            <a:ext cx="122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CARTAS DE CRÉDITO DOMÉST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3584520" y="299736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800520" y="342900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CARTA DE CRÉDITO STAN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4808520" y="2997360"/>
            <a:ext cx="1513080" cy="1439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4808520" y="342900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ACEPTACIONES BANC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7329600" y="1819440"/>
            <a:ext cx="143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100" spc="-1" strike="noStrike">
                <a:solidFill>
                  <a:srgbClr val="000000"/>
                </a:solidFill>
                <a:latin typeface="Arial"/>
              </a:rPr>
              <a:t>FACTORING Y FORF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105600" y="2997360"/>
            <a:ext cx="1511280" cy="143964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6465960" y="3573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7400880" y="2997360"/>
            <a:ext cx="1513080" cy="1439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136520" y="4653000"/>
            <a:ext cx="1656000" cy="1512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281240" y="5032440"/>
            <a:ext cx="1441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EL MERCADO DE DINERO Y EL MERCADO DE CAPIT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473960" y="3429000"/>
            <a:ext cx="165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E Y POST FINANCIACIÓN DE EXPORT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576520" y="4653000"/>
            <a:ext cx="1728720" cy="151272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865600" y="5111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EL MERCADO DEL DINERO Y EL DE DERIVA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089240" y="4581360"/>
            <a:ext cx="1727280" cy="180036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rot="16200000">
            <a:off x="4133880" y="525564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4231-C2E8-4C20-9EE6-2227C3A0DE4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" descr=""/>
          <p:cNvPicPr/>
          <p:nvPr/>
        </p:nvPicPr>
        <p:blipFill>
          <a:blip r:embed="rId1"/>
          <a:stretch/>
        </p:blipFill>
        <p:spPr>
          <a:xfrm>
            <a:off x="272880" y="2573280"/>
            <a:ext cx="8713800" cy="1697040"/>
          </a:xfrm>
          <a:prstGeom prst="rect">
            <a:avLst/>
          </a:prstGeom>
          <a:ln w="0">
            <a:noFill/>
          </a:ln>
        </p:spPr>
      </p:pic>
      <p:sp>
        <p:nvSpPr>
          <p:cNvPr id="1254" name=""/>
          <p:cNvSpPr/>
          <p:nvPr/>
        </p:nvSpPr>
        <p:spPr>
          <a:xfrm>
            <a:off x="631800" y="1700280"/>
            <a:ext cx="864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631800" y="5013360"/>
            <a:ext cx="864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40B-A14B-49DC-A5FD-3E2395E03FC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49240" y="549360"/>
            <a:ext cx="3167280" cy="1479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Sobreg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Anticipos en Cuentas Corr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rést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49240" y="9079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41960" y="549360"/>
            <a:ext cx="3166920" cy="1479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PA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uentas Corr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ajas de Ahor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lazos Fij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40160" y="9079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13240" y="2060640"/>
            <a:ext cx="3311640" cy="151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13240" y="3645000"/>
            <a:ext cx="3167280" cy="1014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he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heques de Pago Difer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heques con Provisión Garantizada de Fo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2205000"/>
            <a:ext cx="1368360" cy="9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sh Management – Floating Sharing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76880" y="256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32160" y="3502080"/>
            <a:ext cx="1008000" cy="718920"/>
          </a:xfrm>
          <a:prstGeom prst="leftArrow">
            <a:avLst>
              <a:gd name="adj1" fmla="val 50000"/>
              <a:gd name="adj2" fmla="val 350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7960" y="3645000"/>
            <a:ext cx="3166920" cy="276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Descuento o Compra de Che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30E-0FB8-4B7D-82C1-66BCA38107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36520" y="2120760"/>
            <a:ext cx="2592360" cy="1657440"/>
          </a:xfrm>
          <a:custGeom>
            <a:avLst/>
            <a:gdLst>
              <a:gd name="textAreaLeft" fmla="*/ 0 w 2592360"/>
              <a:gd name="textAreaRight" fmla="*/ 2592360 w 259236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52520" y="25718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40160" y="1628640"/>
            <a:ext cx="2449440" cy="2737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2737080"/>
              <a:gd name="textAreaBottom" fmla="*/ 2737440 h 27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4880" y="277488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4756800">
            <a:off x="4881600" y="4364640"/>
            <a:ext cx="2808360" cy="19429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72160" y="4581360"/>
            <a:ext cx="136836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Estabilidad de fo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opicia extensión de plazos para aplicación de fo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otencialmente incrementa retorno – tail end gapping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1CAE-5396-4CEB-9BB9-DD01FAF170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08160" y="981000"/>
            <a:ext cx="259236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0520" y="981000"/>
            <a:ext cx="25923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92880" y="981000"/>
            <a:ext cx="25923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08160" y="2276640"/>
            <a:ext cx="259236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0520" y="2276640"/>
            <a:ext cx="259236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92880" y="2276640"/>
            <a:ext cx="259236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08160" y="3429000"/>
            <a:ext cx="259236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0520" y="3429000"/>
            <a:ext cx="259236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92880" y="3429000"/>
            <a:ext cx="259236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68520" y="5516640"/>
            <a:ext cx="676908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0000"/>
                </a:solidFill>
                <a:latin typeface="Arial"/>
              </a:rPr>
              <a:t>MATRIZ DE FLUJOS DE CAJA DE LA EC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272520" y="152712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INDIVIDU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8880" y="54936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ORPORACIONES PÚBLICAS Y PRIV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1600" y="62064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216000" y="2476080"/>
            <a:ext cx="122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ORPORACIONES PÚBLICAS Y PRIV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-272520" y="39020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36520" y="69228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INDIVIDU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44880" y="1287360"/>
            <a:ext cx="2303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Sal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37240" y="1197000"/>
            <a:ext cx="23036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Sal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Subsid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mpue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52520" y="2492280"/>
            <a:ext cx="230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pital Accion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44880" y="2367000"/>
            <a:ext cx="23036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pital Accion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37240" y="2276640"/>
            <a:ext cx="230364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Subsid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pital Accion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mpue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52520" y="3747960"/>
            <a:ext cx="2303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mpue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44880" y="3573360"/>
            <a:ext cx="23036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Capital Accion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9875600">
            <a:off x="119880" y="640080"/>
            <a:ext cx="2232000" cy="30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ILUST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16F-3B6D-4E7D-B9D8-921D566D8B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20880" y="1628640"/>
            <a:ext cx="3600360" cy="165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68880" y="1628640"/>
            <a:ext cx="3600360" cy="165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08160" y="2133720"/>
            <a:ext cx="28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CERTIFICADOS DE DEPÓSITOS TRANSFERI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29240" y="2133720"/>
            <a:ext cx="28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TRADE CERTIFIC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20880" y="3860640"/>
            <a:ext cx="8135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20880" y="4076640"/>
            <a:ext cx="813564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52520" y="3860640"/>
            <a:ext cx="691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LATAFORMA DE DISTRIBU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2160" y="436572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BOL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5240" y="422100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OVER THE CO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71800" y="43480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UNDERWR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00880" y="43480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BEST 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84880" y="4221000"/>
            <a:ext cx="17290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MESA DE DIN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Seguimiento de Flujos de Caja Econom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924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8488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0088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7360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0880" y="5013360"/>
            <a:ext cx="8135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52520" y="4984920"/>
            <a:ext cx="691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INVERS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20880" y="5229360"/>
            <a:ext cx="8135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73600" y="5229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52520" y="522936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CORPORACIONES – PRIVATE BANKING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89240" y="5229360"/>
            <a:ext cx="251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INVERSORES INSTITU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24520" y="5229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53240" y="528480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INDIVIDU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5240" y="3284640"/>
            <a:ext cx="502920" cy="576000"/>
          </a:xfrm>
          <a:prstGeom prst="upArrow">
            <a:avLst>
              <a:gd name="adj1" fmla="val 50000"/>
              <a:gd name="adj2" fmla="val 286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24520" y="3284640"/>
            <a:ext cx="503280" cy="576000"/>
          </a:xfrm>
          <a:prstGeom prst="upArrow">
            <a:avLst>
              <a:gd name="adj1" fmla="val 50000"/>
              <a:gd name="adj2" fmla="val 286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49600" y="115920"/>
            <a:ext cx="3888000" cy="201600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68880" y="476280"/>
            <a:ext cx="28083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Mayor estabilidad de financi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Adecuación de Aplicación de fondos al objeto o activo financi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Mitiga Riesg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000" spc="-1" strike="noStrike">
                <a:solidFill>
                  <a:srgbClr val="000000"/>
                </a:solidFill>
                <a:latin typeface="Arial"/>
              </a:rPr>
              <a:t>Potencial mayor retorno por “tail end gapping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F0ED-8079-44CC-BEB5-FCFE23AD6D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36520" y="2349360"/>
            <a:ext cx="1440000" cy="14288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5240" y="281628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PRODUCTOS PRIMA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0520" y="2349360"/>
            <a:ext cx="1295640" cy="1440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5240" y="2781360"/>
            <a:ext cx="114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Transferibilidad de los instrum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40160" y="1989000"/>
            <a:ext cx="1944720" cy="2232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16520" y="2852640"/>
            <a:ext cx="11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92520" y="404640"/>
            <a:ext cx="2952720" cy="1297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65600" y="739800"/>
            <a:ext cx="273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El protagonismo del Estado en el Mercado de Dinero y Capi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3763800">
            <a:off x="5640480" y="2735280"/>
            <a:ext cx="2673360" cy="3168720"/>
          </a:xfrm>
          <a:prstGeom prst="cloudCallout">
            <a:avLst>
              <a:gd name="adj1" fmla="val -43546"/>
              <a:gd name="adj2" fmla="val 58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16520" y="3860640"/>
            <a:ext cx="2448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Reverse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Engeneered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8446-1398-4DAE-9314-4F59E5F303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15:07:44Z</dcterms:created>
  <dc:creator>MG</dc:creator>
  <dc:description/>
  <dc:language>en-US</dc:language>
  <cp:lastModifiedBy>C.P.C.E.C.A.B.A.</cp:lastModifiedBy>
  <dcterms:modified xsi:type="dcterms:W3CDTF">2004-09-24T15:34:37Z</dcterms:modified>
  <cp:revision>58</cp:revision>
  <dc:subject/>
  <dc:title>Diapositiva 1</dc:title>
</cp:coreProperties>
</file>