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5CC-4A31-46EC-8863-425727CD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776-66BE-4C23-AA03-AEE0F8FE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06D-2CE3-428E-AC80-2ED21CB8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BDC-64B1-4E85-9108-74CFE2C2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DECB-3BDE-4F2F-89FE-E4A18FBF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F7D-9A1D-438D-B05E-5C10146A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019-337E-4ECC-B7DE-EB6B4E9C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48D-F43F-43E1-B99D-2A0E95B7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BCB-5B76-489D-B762-80A495A9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6AB-D0C7-4AED-BDD5-838C4C18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4A4-7F4D-48B3-836E-6E766CB7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89B-3277-43EB-91B4-6D719C6A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910C-4BD9-4977-94D4-582F6B858DC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1828800"/>
            <a:ext cx="64785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YECTOS DE INVERSIÓN BAJO INCERTIDUMB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PECTIVAS EN LA VALUACIÓN DE LAS OPCIONES R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1720" y="533520"/>
            <a:ext cx="539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CIÓN DE 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1371600"/>
            <a:ext cx="7197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Con un procedimiento cualitativo (se evalúa la posición de la empresa frente a cada factor relevante de incertidumb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806560"/>
            <a:ext cx="755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De modo implícito, al establecer la tasa de rendimiento requerido para decidir la realización de proyectos de inver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4114800"/>
            <a:ext cx="755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Con un cálculo explícito del valor de las opciones relevantes en un proyecto de inver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30120" y="4038480"/>
          <a:ext cx="2252880" cy="213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038480"/>
                    <a:ext cx="225288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687760" y="515880"/>
          <a:ext cx="5922720" cy="59785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87760" y="515880"/>
                    <a:ext cx="592272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33520" y="533520"/>
            <a:ext cx="3598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VALOR DE LA EMPRESA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1720" y="533520"/>
            <a:ext cx="61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ANCE DE LAS OPCIONE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1143000"/>
            <a:ext cx="683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ogía básicamente conceptual con las opciones financi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4040" y="1143000"/>
            <a:ext cx="1079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4040" y="1981080"/>
            <a:ext cx="125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000160"/>
            <a:ext cx="7089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aplica a situaciones de inversión en las que existen similitudes fundamentales con las opciones financi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040" y="2824200"/>
            <a:ext cx="125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838600"/>
            <a:ext cx="665784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plantea que todas las opciones en los negocios pueden valuarse de la forma en que se valúan las opciones financi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3967200"/>
            <a:ext cx="125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4576680"/>
            <a:ext cx="6478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lia difusión de la expresión “real options” en el ámbito de los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3981600"/>
            <a:ext cx="7089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imera Conferencia Internacional de Real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672080"/>
            <a:ext cx="125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6200" y="5548320"/>
            <a:ext cx="125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5429160"/>
            <a:ext cx="6657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onibilidad de muchas herramientas para valuar las opciones reales, foros, muy numerosos análisis académicos y profesion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533520"/>
            <a:ext cx="3598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 DE LAS OPCIONES REALES EN PROYECTO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30120" y="4038480"/>
          <a:ext cx="2252880" cy="213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038480"/>
                    <a:ext cx="225288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749760" y="685800"/>
          <a:ext cx="4556160" cy="56865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9760" y="685800"/>
                    <a:ext cx="45561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68560" y="331776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68560" y="223848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o de ejerc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68560" y="385776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o del subya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82960" y="439884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o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68560" y="277812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íodo hasta el ejerc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95560" y="4938840"/>
            <a:ext cx="453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ilidad del 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33520"/>
            <a:ext cx="5398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ES DEL VALOR DE UNA OPCIÓN FINANCI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86280" y="1295280"/>
            <a:ext cx="251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ecto en el valor de la opción (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2266920"/>
            <a:ext cx="431640" cy="324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3276720"/>
            <a:ext cx="431640" cy="32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715000"/>
            <a:ext cx="7197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*) mientras mayor sea la magnitud de cada componente, para una magnitud específica de los de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310520" y="2724120"/>
            <a:ext cx="431640" cy="324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310520" y="4876200"/>
            <a:ext cx="431640" cy="32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315200" y="4324320"/>
            <a:ext cx="431640" cy="324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533520"/>
            <a:ext cx="3598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EN QUÉ SE ORIGINA EL EFECTO DE LA INCERTIDUMBRE EN EL VALOR DE LA OP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78400" y="763560"/>
            <a:ext cx="385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) En algunos escenarios esperados en el futuro existen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35320"/>
            <a:ext cx="327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) Si se puede decidir dentro de un año, la inversión se hará sólo si no se han concretado los escenarios “con pérdid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191120" y="1425600"/>
          <a:ext cx="4876560" cy="5122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425600"/>
                    <a:ext cx="487656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962520" y="990720"/>
          <a:ext cx="4800600" cy="5392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990720"/>
                    <a:ext cx="4800600" cy="53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1720" y="531720"/>
            <a:ext cx="43182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pendencia secuencial (path dependenc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rbol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990720"/>
            <a:ext cx="4952880" cy="5410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28600" y="2629080"/>
          <a:ext cx="3300480" cy="29336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629080"/>
                    <a:ext cx="330048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5942160" y="3581280"/>
          <a:ext cx="2820960" cy="2872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2160" y="3581280"/>
                    <a:ext cx="2820960" cy="28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31720" y="531720"/>
            <a:ext cx="43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tuaciones relevantes de dependenci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1371600"/>
            <a:ext cx="467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a decisión que se toma hoy afecta el tipo de decisiones que se podrán tomar en el fut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3220920"/>
            <a:ext cx="377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a incertidumbre que existe hoy acerca de algunas variables críticas se resolverá antes de tomar esas decisiones en el fut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4320" y="228600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Algunos de los escenarios que se consideran hoy implican pérd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895120" y="1981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980720" y="2895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2981160"/>
            <a:ext cx="3276720" cy="3419640"/>
          </a:xfrm>
          <a:custGeom>
            <a:avLst/>
            <a:gdLst>
              <a:gd name="textAreaLeft" fmla="*/ 159840 w 3276720"/>
              <a:gd name="textAreaRight" fmla="*/ 3116880 w 3276720"/>
              <a:gd name="textAreaTop" fmla="*/ 159840 h 3419640"/>
              <a:gd name="textAreaBottom" fmla="*/ 3259800 h 3419640"/>
            </a:gdLst>
            <a:ahLst/>
            <a:rect l="textAreaLeft" t="textAreaTop" r="textAreaRight" b="textAreaBottom"/>
            <a:pathLst>
              <a:path w="21600" h="22542">
                <a:moveTo>
                  <a:pt x="3600" y="0"/>
                </a:moveTo>
                <a:arcTo wR="3600" hR="3600" stAng="16200000" swAng="-5400000"/>
                <a:lnTo>
                  <a:pt x="0" y="18942"/>
                </a:lnTo>
                <a:arcTo wR="3600" hR="3600" stAng="10800000" swAng="-5400000"/>
                <a:lnTo>
                  <a:pt x="18000" y="225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situación espe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es como é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25909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2590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533520"/>
            <a:ext cx="5757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ECTO DE LA INCERTIDUMBRE EN EL VALOR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1752480"/>
            <a:ext cx="0" cy="365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541008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3117960"/>
            <a:ext cx="4190760" cy="2781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158920" y="1396080"/>
            <a:ext cx="863568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133720" y="2742840"/>
            <a:ext cx="4190760" cy="198108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177336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73600" y="565956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4495680"/>
            <a:ext cx="32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Valor actual neto (simple, sin opc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2209680"/>
            <a:ext cx="28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Valor de op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64360" y="2971800"/>
            <a:ext cx="21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Valor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533520"/>
            <a:ext cx="5757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OPCIONES ESTRATÉGICAS TIENEN VALOR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795320"/>
            <a:ext cx="35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ncertidumbre que se considera hoy se resolverá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36720" y="3548160"/>
            <a:ext cx="3743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el futuro se tomará una decisión, y será oport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95840" y="3830760"/>
            <a:ext cx="359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sgos en las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08720" y="4135320"/>
            <a:ext cx="28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Sesgo de statu q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95840" y="5791320"/>
            <a:ext cx="4317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visión sistemática de op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70280" y="251460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ncertidumbre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70280" y="291636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ncertidumbre organiz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95840" y="4668840"/>
            <a:ext cx="4317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ompor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70280" y="209880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ncertidumbre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02240" y="5126040"/>
            <a:ext cx="28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Adormecers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Dedos nervioso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5335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ERTIDUMBRE EN LAS DECISIO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38680" y="545292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es de 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33640" y="1566720"/>
            <a:ext cx="18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es de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4800" y="3429000"/>
            <a:ext cx="25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ción, compren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pronó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3480" y="3429000"/>
            <a:ext cx="251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rco organi-zativo de l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19400" y="3809880"/>
            <a:ext cx="3238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53080" y="2362320"/>
            <a:ext cx="0" cy="298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2819520"/>
            <a:ext cx="2232000" cy="20160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os de inversión y de ingresos n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3520" y="533520"/>
            <a:ext cx="5757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OPCIONES ESTRATÉGICAS SON OPCIONES REALES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88960" y="1600200"/>
            <a:ext cx="7197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oportunidades de inversión son exclus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88960" y="3929040"/>
            <a:ext cx="7197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e un precio de mercado para los riesgos más importantes de la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88960" y="2786040"/>
            <a:ext cx="7197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alcance de la inversión se puede fijar a priori: la incertidumbre de la inversión es exó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533520"/>
            <a:ext cx="5398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 DE OPCIONES REALES CON UN MODELO DE VALUACIÓN DE OPCIONES (O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3809880"/>
            <a:ext cx="755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Una opción en un proyecto vale lo que vale una opción sobre un instrumento financiero o una cartera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5029200"/>
            <a:ext cx="755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Una opción en un proyecto se valúa estimando el valor que tendría una opción sobre el subyacente, si éste tuviera precio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1968480"/>
            <a:ext cx="7558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M: valuación en condiciones de neutralidad frente al riesgo (enfoque de la cartera replic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43160" y="2743200"/>
            <a:ext cx="647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ej, árbol binomial, fórmula de Black-Sch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3395520"/>
            <a:ext cx="7197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s de valuación de opcione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533520"/>
            <a:ext cx="7197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iento 1: Enfoque clásico de 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1490760"/>
            <a:ext cx="7558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Identificar un instrumento financiero (o una cartera) que sea similar a los principales componentes de la inv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36680" y="2405160"/>
            <a:ext cx="7197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Calcular el precio actual y la volatilidad (variabilidad del rendimiento) de ese instrumento o car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93880" y="3319560"/>
            <a:ext cx="7197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Establecer los ajustes por errores de seguimiento y flujo de fondos hasta el ejerc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51080" y="4254480"/>
            <a:ext cx="611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) Estimar la tasa sin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84600" y="4843440"/>
            <a:ext cx="6118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) Calcular el valor de la opción con la fórmula de Black-Scholes (o un árbol binom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3520" y="533520"/>
            <a:ext cx="7557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iento 2: Enfoque renegado de 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00200"/>
            <a:ext cx="7558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Hacer un modelo del flujo de fondos de la inversión con estimaciones de ingresos y e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36680" y="2514600"/>
            <a:ext cx="7197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Calcular el valor actual del flujo de fondos con una tasa ajustada por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93880" y="3429000"/>
            <a:ext cx="7197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Estimar la incertidumbre del flujo de fondos y la variabilidad del val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51080" y="4363920"/>
            <a:ext cx="611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) Estimar la tasa sin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84600" y="4952880"/>
            <a:ext cx="6118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) Calcular el valor de la opción con la fórmula de Black-Scholes (o un árbol binom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89160" y="914400"/>
            <a:ext cx="503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MAD: Marketed Asset Disclaim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533520"/>
            <a:ext cx="647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CIÓN DE PROYECTOS CON OPCIONES 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447920"/>
            <a:ext cx="7557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iento 3: Enfoque integrado de 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2133720"/>
            <a:ext cx="7558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Construir un árbol de decisión para representar las alternativas de inversión y calcular el flujo de fondos de cada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6680" y="3166920"/>
            <a:ext cx="7558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Establecer, para cada fuente de incertidumbre relevante, si es un riesgo con precio de mercado o un riesgo pri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025880"/>
            <a:ext cx="61182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Riesgos con precio de mercado: identificar la cartera de instrumentos que replican la opción y estimar la var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2880" y="5181480"/>
            <a:ext cx="6370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) Riesgos sin precio de mercado (riesgo privado): asignar a las ramas probabilidades estimadas por el decid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3520" y="609480"/>
            <a:ext cx="7557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iento 3: Enfoque integrado de 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600200"/>
            <a:ext cx="611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) Estimar la tasa sin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133720"/>
            <a:ext cx="5398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) Calcular el valor de las alternativas con la tasa sin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068640"/>
            <a:ext cx="611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) Resolver el árbol de deci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77920" y="3505320"/>
            <a:ext cx="68374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1: al encontrar un nodo que representa un riesgo privado calcular el valor equivalente a certeza según preferencias por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77920" y="4495680"/>
            <a:ext cx="68374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2: al encontrar un nodo que representa un riesgo con precio de mercado calcular el valor esperado con probabilidades según neutralidad frente al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77920" y="5486400"/>
            <a:ext cx="683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3: al encontrar un nodo de decisión asignar el máximo valor de las 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02120" y="91440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1720" y="531720"/>
            <a:ext cx="323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tuación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92440" y="533520"/>
            <a:ext cx="4570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un riesgo con precio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92440" y="1011240"/>
            <a:ext cx="4317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un riesgo pri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7620" t="0" r="7620" b="0"/>
          <a:stretch/>
        </p:blipFill>
        <p:spPr>
          <a:xfrm>
            <a:off x="1646280" y="1709640"/>
            <a:ext cx="6964200" cy="49197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52480" y="1676520"/>
            <a:ext cx="6934320" cy="4868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91440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8320" y="1371600"/>
            <a:ext cx="0" cy="4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2843280" y="533520"/>
          <a:ext cx="5995800" cy="568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533520"/>
                    <a:ext cx="59958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533520" y="533520"/>
            <a:ext cx="32385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ES DE LA EMPRES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VALOR EN 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3520" y="533520"/>
            <a:ext cx="395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305000"/>
            <a:ext cx="6837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utilidad de la expresión opciones reales para las decisione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3776760"/>
            <a:ext cx="61182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iendo en cuenta, no obstante, que las opciones valen si algunas, finalmente, se ejerc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54200" y="2328840"/>
            <a:ext cx="61182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ce que sea importante la familiaridad con sus matices directivos y técnicos en la evaluación de proyecto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9880" y="4843440"/>
            <a:ext cx="48945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orque la empresa es una materialidad de inversiones que se realizan, y no sólo una virtualidad de opciones abiert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538360" y="636480"/>
          <a:ext cx="5996160" cy="568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636480"/>
                    <a:ext cx="59961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533520" y="5335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COS DE LAS DECISIO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2682720" y="982800"/>
          <a:ext cx="5851800" cy="5330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720" y="982800"/>
                    <a:ext cx="5851800" cy="53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33520" y="533520"/>
            <a:ext cx="39592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MEJOR CURSO DE ACCIÓN DEL INVER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30120" y="4038480"/>
          <a:ext cx="2252880" cy="21369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120" y="4038480"/>
                    <a:ext cx="225288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65280" y="201456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es estratégicas y tác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65280" y="129708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eamiento con e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65280" y="273384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pciones reales (real op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65280" y="363384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ación de RO con un modelo de valuación de opciones (O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65280" y="453384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ación integrada de opciones 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65280" y="525312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dad de las opcione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851200" y="1219320"/>
          <a:ext cx="5607000" cy="3800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1200" y="1219320"/>
                    <a:ext cx="5607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5335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ADOS EN E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3680" y="4191120"/>
            <a:ext cx="13777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31040" y="4191120"/>
            <a:ext cx="17380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5319720"/>
            <a:ext cx="1800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86440" y="5364000"/>
            <a:ext cx="18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dad de cre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800240" y="4648320"/>
            <a:ext cx="6094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464832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62040" y="1066680"/>
          <a:ext cx="5996160" cy="532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040" y="1066680"/>
                    <a:ext cx="599616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33520" y="5335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MEJORES CURSOS DE ACCIÓN PARA EL DECID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30120" y="4038480"/>
          <a:ext cx="2252880" cy="21369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120" y="4038480"/>
                    <a:ext cx="225288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17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ES TÁCTICAS Y 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175248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ón: flexibilidad que se forma al utilizar de un determinado modo algun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41460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lexibilidad es importante cuando hay mucha incertidumbre acerca de factores que son críticos para el desempeño de una inversión, y se piensa que esa incertidumbre será menor en el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91240" y="5029200"/>
            <a:ext cx="374328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En qué se origina la reducción de la incertidumb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17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ES TÁCTICAS Y 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814400"/>
            <a:ext cx="359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ciones tác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92640" y="181440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dad en insu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90840" y="2257560"/>
            <a:ext cx="4318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dad en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552840"/>
            <a:ext cx="35989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pciones 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90840" y="2714760"/>
            <a:ext cx="4318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tir en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78440" y="4557600"/>
            <a:ext cx="3959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402444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rar una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3552840"/>
            <a:ext cx="431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andonar una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78440" y="5014800"/>
            <a:ext cx="3959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rrollo de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1720" y="533520"/>
            <a:ext cx="539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 DE LAS 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21932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Las opciones tienen un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362320"/>
            <a:ext cx="39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si en el futuro se puede tomar una decisión mejor que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3014640"/>
            <a:ext cx="251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ción de incertid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4267080"/>
            <a:ext cx="4174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si se toma la decisión en el momento en que resulta más conven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8920" y="4995720"/>
            <a:ext cx="251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jercicio oport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2895480"/>
            <a:ext cx="380880" cy="30492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876920"/>
            <a:ext cx="381240" cy="30456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828800"/>
            <a:ext cx="719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La flexibilidad que se forma tien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22:39:32Z</dcterms:created>
  <dc:creator>Ricardo</dc:creator>
  <dc:description/>
  <dc:language>en-US</dc:language>
  <cp:lastModifiedBy>C.P.C.E.C.A.B.A.</cp:lastModifiedBy>
  <dcterms:modified xsi:type="dcterms:W3CDTF">2004-09-24T15:32:52Z</dcterms:modified>
  <cp:revision>27</cp:revision>
  <dc:subject/>
  <dc:title>Presentación de PowerPoint</dc:title>
</cp:coreProperties>
</file>