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E1C-84C3-4C91-A9B4-6F220992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A2F-119C-4F05-8BBE-F94B8B72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AC3-42B9-4FBD-8D6E-F69F8074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0F0-8831-48C0-89F3-0117D544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4D5-2A12-4706-8A06-AFF096C5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80B-FA79-4D83-B08F-3CE1FFCA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0FF-4F52-42C4-814B-67025BE2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8B5-A737-436A-BA2E-A04A7858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B90-7C89-4FBF-866F-695335EE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B90-4085-4D2E-8D1F-9E258DB5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23D-5730-42E5-815B-5319F012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326-2C96-4AD9-AF36-FBDFBA7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C817-2F64-452D-9D74-D95CFF73CC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22480" y="1238400"/>
            <a:ext cx="5064120" cy="1126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30600" y="4307040"/>
            <a:ext cx="7314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ituación Actual de la Banca Priv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1066680" y="1476360"/>
            <a:ext cx="7010640" cy="4695840"/>
            <a:chOff x="1066680" y="1476360"/>
            <a:chExt cx="7010640" cy="46958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066680" y="1476360"/>
              <a:ext cx="701064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904040" y="482760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Financi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99920" y="455148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úbli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85640" y="3981600"/>
              <a:ext cx="11210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aci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3440" y="5322960"/>
              <a:ext cx="116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Ban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Extranje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grupo de entidades financi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140976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6560" y="559908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0600" y="403848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7440" y="441972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92680" y="478476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6080" y="4022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6120" y="402264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64440" y="385452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46560" y="558000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0600" y="404172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7440" y="403848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2680" y="491796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6080" y="40417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6120" y="404172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90000" y="404172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08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46560" y="5560920"/>
            <a:ext cx="397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Nota: Ultima información disponible de tarjetas de crédito enero ’04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0600" y="464832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dela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7440" y="478476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92680" y="470844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Hipotec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6080" y="41623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rendar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6120" y="432756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Person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2600" y="432756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Tarj. de Cré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37640" y="365040"/>
            <a:ext cx="5923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or línea de présta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0" y="1905120"/>
            <a:ext cx="31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ITUAC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OLVENC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37240" y="36504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ntes de la crisis, el PN del sistema era de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/USD16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o resultado de la pesificación asimétrica y las compensaciones que otorgó el estado llegó a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30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mediados del 200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 partir de ese momento, se observa una continua reducción del mismo como consecuencia de las pérdidas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Hacia fines de 2003, comienza a estabilizarse con un PN del orden de los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$22.000 millone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menos de USD 8.000 millones), representando un 12% de los ac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39040" y="365040"/>
            <a:ext cx="695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1434960"/>
            <a:ext cx="5790960" cy="3997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55160" y="365040"/>
            <a:ext cx="71179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L PATRIMONIO N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ccffff"/>
                </a:solidFill>
                <a:latin typeface="Arial"/>
              </a:rPr>
              <a:t>Participación por segmento sobre total Siste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63520" y="1447920"/>
            <a:ext cx="681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17240" y="365040"/>
            <a:ext cx="659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XPOSICION AL SECTOR PUBL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0" y="1506600"/>
            <a:ext cx="4572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590280" y="365040"/>
            <a:ext cx="20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AMPAR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49160" y="365040"/>
            <a:ext cx="588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SUMEN SITUACION ACT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l sistema financiero ha comenzado un proceso de recuperación que se refleja a través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cuperación de los depósitos y créditos priv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ejora de la 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be destacar, que la recuperación fue diferente según el tipo de entidad (pública, privada nacional o extranjer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Quedan pendientes de resolución una serie de temas, entre el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p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mp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636640" y="1905120"/>
            <a:ext cx="39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96360" y="365040"/>
            <a:ext cx="29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mos ensayado un a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ná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sis de los componentes que dan origen a la rentabilidad, separando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quellos que se originan en el manejo de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pasiv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de aquellos que son independientes de dicho man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mbi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 hemos diferenciado los cargos extraordinarios,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fundamental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rovenientes de las diferencias de cambio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deudas con el exterior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pesificad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os ingresos generados por el activo (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incipal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éstam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, hemos diferenciado 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nanciados por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ndos de tercer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que dan origen al spread por intermediación), de aquel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nanciados por fondos propios l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8960" y="36504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– ABSORCION DE GAS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609480" y="1371600"/>
          <a:ext cx="7924680" cy="3741840"/>
        </p:xfrm>
        <a:graphic>
          <a:graphicData uri="http://schemas.openxmlformats.org/drawingml/2006/table">
            <a:tbl>
              <a:tblPr/>
              <a:tblGrid>
                <a:gridCol w="2666880"/>
                <a:gridCol w="914400"/>
                <a:gridCol w="914400"/>
                <a:gridCol w="914400"/>
                <a:gridCol w="838440"/>
                <a:gridCol w="838080"/>
                <a:gridCol w="83808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tema Financie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cos Privados Nacional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cos Privados Extranjer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NTES DE RENTABILID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SPREAD (neto de incobr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les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,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Fondos Propi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6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Comision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 por posic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amiento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 intermediac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ón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 moneda ext</a:t>
                      </a:r>
                      <a:r>
                        <a:rPr b="1" lang="es-A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je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0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9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TOTAL ABSORBI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97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51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9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1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00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5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67280" y="365040"/>
            <a:ext cx="651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 LA 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28680"/>
            <a:ext cx="85341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95320" y="365040"/>
            <a:ext cx="74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SISTEMA FINANCI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771560" y="1263600"/>
          <a:ext cx="1241640" cy="66204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40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78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64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0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3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20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50,5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8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.908,1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.256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1800"/>
                <a:gridCol w="60984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992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297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97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9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0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02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27,6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5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839,7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55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.367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60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9160" y="365040"/>
            <a:ext cx="84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BANCA PRIVADA NACI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771560" y="126360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5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5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5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19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739,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199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8280"/>
                <a:gridCol w="6033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83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20,7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1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5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26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5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80" y="6445080"/>
            <a:ext cx="70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Aclaración metodológica: En el ejercicio 2003, se netearon los ajustes realizados por Patagonia Sudameris relativos a la amortización total de amparos activados y la valuación de títulos públicos a valor de mercado (aquellos relacionados con la compensación), con el fin de realizar una comparación homogénea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4760" y="365040"/>
            <a:ext cx="90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BANCA PRIVADA EXTRANJE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71560" y="126360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PR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89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04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21948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ONDOS PROPI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4,1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667400" y="1263600"/>
          <a:ext cx="1241280" cy="661680"/>
        </p:xfrm>
        <a:graphic>
          <a:graphicData uri="http://schemas.openxmlformats.org/drawingml/2006/table">
            <a:tbl>
              <a:tblPr/>
              <a:tblGrid>
                <a:gridCol w="65700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I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40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49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14960" y="1263600"/>
          <a:ext cx="1368360" cy="661680"/>
        </p:xfrm>
        <a:graphic>
          <a:graphicData uri="http://schemas.openxmlformats.org/drawingml/2006/table">
            <a:tbl>
              <a:tblPr/>
              <a:tblGrid>
                <a:gridCol w="703080"/>
                <a:gridCol w="665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ONEDA EXTRANJER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49560" y="2924280"/>
          <a:ext cx="1241640" cy="661680"/>
        </p:xfrm>
        <a:graphic>
          <a:graphicData uri="http://schemas.openxmlformats.org/drawingml/2006/table">
            <a:tbl>
              <a:tblPr/>
              <a:tblGrid>
                <a:gridCol w="640080"/>
                <a:gridCol w="601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GS ADMINISTRAC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157,9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655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806480" y="2228760"/>
          <a:ext cx="1241640" cy="662040"/>
        </p:xfrm>
        <a:graphic>
          <a:graphicData uri="http://schemas.openxmlformats.org/drawingml/2006/table">
            <a:tbl>
              <a:tblPr/>
              <a:tblGrid>
                <a:gridCol w="638280"/>
                <a:gridCol w="6033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BRABILID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130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800,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45" name=""/>
          <p:cNvCxnSpPr/>
          <p:nvPr/>
        </p:nvCxnSpPr>
        <p:spPr>
          <a:xfrm flipH="1">
            <a:off x="2426400" y="1925640"/>
            <a:ext cx="252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/>
          <p:nvPr/>
        </p:nvCxnSpPr>
        <p:spPr>
          <a:xfrm rot="5400000">
            <a:off x="4453200" y="2042280"/>
            <a:ext cx="988200" cy="754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/>
          <p:nvPr/>
        </p:nvCxnSpPr>
        <p:spPr>
          <a:xfrm rot="5400000">
            <a:off x="5200200" y="1295280"/>
            <a:ext cx="988200" cy="224856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 flipH="1" rot="16200000">
            <a:off x="3728880" y="2072160"/>
            <a:ext cx="988200" cy="694440"/>
          </a:xfrm>
          <a:prstGeom prst="bentConnector3">
            <a:avLst>
              <a:gd name="adj1" fmla="val 4992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 flipH="1" rot="16200000">
            <a:off x="3639960" y="1983240"/>
            <a:ext cx="337320" cy="1523160"/>
          </a:xfrm>
          <a:prstGeom prst="bentConnector3">
            <a:avLst>
              <a:gd name="adj1" fmla="val -4711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250" name=""/>
          <p:cNvGraphicFramePr/>
          <p:nvPr/>
        </p:nvGraphicFramePr>
        <p:xfrm>
          <a:off x="3949560" y="4702320"/>
          <a:ext cx="1241640" cy="661680"/>
        </p:xfrm>
        <a:graphic>
          <a:graphicData uri="http://schemas.openxmlformats.org/drawingml/2006/table">
            <a:tbl>
              <a:tblPr/>
              <a:tblGrid>
                <a:gridCol w="657360"/>
                <a:gridCol w="58428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S. NO OPERAT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59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55,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962520" y="3809880"/>
          <a:ext cx="1241280" cy="662040"/>
        </p:xfrm>
        <a:graphic>
          <a:graphicData uri="http://schemas.openxmlformats.org/drawingml/2006/table">
            <a:tbl>
              <a:tblPr/>
              <a:tblGrid>
                <a:gridCol w="627120"/>
                <a:gridCol w="61416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DO. OPERATI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042,4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952800" y="5586480"/>
          <a:ext cx="1241640" cy="662040"/>
        </p:xfrm>
        <a:graphic>
          <a:graphicData uri="http://schemas.openxmlformats.org/drawingml/2006/table">
            <a:tbl>
              <a:tblPr/>
              <a:tblGrid>
                <a:gridCol w="636840"/>
                <a:gridCol w="604800"/>
              </a:tblGrid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SULTADO FI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601,8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20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33,5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4572000" y="3610080"/>
            <a:ext cx="0" cy="191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4956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362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5520" y="88884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Datos expresados en millones de pe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38280" y="12002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240" y="133668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uentes 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Operativ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146320" y="365040"/>
            <a:ext cx="486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NTABILIDAD - SPRE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990720" y="1444680"/>
            <a:ext cx="7162560" cy="3708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0400" y="365040"/>
            <a:ext cx="89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GASTOS – INCIDENCIA GASTOS DE PERS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08200" y="60181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8920" y="365040"/>
            <a:ext cx="61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MOTORES DE LA RENTABIL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6840" y="110484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costo de los fondos y su relación con el 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 tasa activa (por la porción de la cartera financiada con fondos prop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os ingresos por com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os gas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33800" y="1905120"/>
            <a:ext cx="296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SITUAC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24440" y="365040"/>
            <a:ext cx="47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SITUACION DE LIQUID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55520" y="1219320"/>
            <a:ext cx="70329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41080" y="365040"/>
            <a:ext cx="454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DEPOSITOS A LA VIS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(del sector privad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3880" y="1647720"/>
            <a:ext cx="6096240" cy="361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39440" y="5394240"/>
            <a:ext cx="52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 u="sng">
                <a:solidFill>
                  <a:srgbClr val="ffffff"/>
                </a:solidFill>
                <a:uFillTx/>
                <a:latin typeface="Arial"/>
              </a:rPr>
              <a:t>Nota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: Depósitos a la vista incluye cuentas corrientes y cajas de ahorro del sector privado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27800" y="365040"/>
            <a:ext cx="716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L DRIVER DE LA LIQUID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Importante recuperación de los depósi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0200" y="1635120"/>
            <a:ext cx="5943600" cy="430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0360" y="62103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SISCEN -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3880" y="1349280"/>
            <a:ext cx="6096240" cy="416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0320" y="365040"/>
            <a:ext cx="86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EVOLUCION DE DEPOSITOS POR SEGM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08960" y="3905280"/>
            <a:ext cx="10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73000" y="3902040"/>
            <a:ext cx="92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úbl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3560" y="2457360"/>
            <a:ext cx="1121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00120" y="4343400"/>
            <a:ext cx="116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37640" y="365040"/>
            <a:ext cx="592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0360" y="62103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SISCEN -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9920" y="1289160"/>
            <a:ext cx="64641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380280"/>
            <a:ext cx="1944720" cy="433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37640" y="365040"/>
            <a:ext cx="592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ffff"/>
                </a:solidFill>
                <a:latin typeface="Arial"/>
              </a:rPr>
              <a:t>RECUPERACION DEL CREDI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349280"/>
            <a:ext cx="6400800" cy="402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09640" y="6210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Fuente: B.C.R.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2:54:28Z</dcterms:created>
  <dc:creator>pochatp</dc:creator>
  <dc:description/>
  <dc:language>en-US</dc:language>
  <cp:lastModifiedBy>C.P.C.E.C.A.B.A.</cp:lastModifiedBy>
  <dcterms:modified xsi:type="dcterms:W3CDTF">2004-09-24T15:36:02Z</dcterms:modified>
  <cp:revision>12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029405</vt:r8>
  </property>
  <property fmtid="{D5CDD505-2E9C-101B-9397-08002B2CF9AE}" pid="3" name="_AuthorEmail">
    <vt:lpwstr>PochatP@Comafi.com.ar</vt:lpwstr>
  </property>
  <property fmtid="{D5CDD505-2E9C-101B-9397-08002B2CF9AE}" pid="4" name="_AuthorEmailDisplayName">
    <vt:lpwstr>Pablo Pochat</vt:lpwstr>
  </property>
  <property fmtid="{D5CDD505-2E9C-101B-9397-08002B2CF9AE}" pid="5" name="_EmailSubject">
    <vt:lpwstr/>
  </property>
</Properties>
</file>