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383-DD15-42D7-BE4C-60F9E424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F7D-5742-4E42-8133-07A9371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C2F-251A-4451-8D19-760AB0C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A1A-49E9-43C6-954C-CA2B7C5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B16-C6AF-4B55-AF16-CCF368D5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395-E886-41EC-9CC6-967436E1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220-D54C-459D-AFB0-953EB162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669-650D-4DC6-8C1F-E3AB3D86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9E2-33A3-45BF-B300-46468D97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2DF-BA25-4A32-842A-1865817E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7EF-1CCC-4B6E-8BF6-65C23C16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378-CA2F-4AD4-AECD-F0A300F0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2A3A-AECF-4D7B-8722-2D8BAE717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5120" y="380340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ffcc00"/>
                </a:solidFill>
                <a:uFillTx/>
                <a:latin typeface="Arial"/>
              </a:rPr>
              <a:t>Le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76600" y="5389200"/>
            <a:ext cx="735732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 u="sng">
                <a:solidFill>
                  <a:srgbClr val="ffcc00"/>
                </a:solidFill>
                <a:uFillTx/>
                <a:latin typeface="Arial"/>
              </a:rPr>
              <a:t>Congreso Nacional e Internacional de Finanzas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Consejo Profesional de Ciencias Econó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De la Ciudad Autónoma de 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cc00"/>
                </a:solidFill>
                <a:latin typeface="Arial"/>
              </a:rPr>
              <a:t>1 a 3 de Setiembre de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5560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1588680"/>
            <a:ext cx="822960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CANON / PLAZ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El monto y la periodicidad se determinan convencionalmente. No hay plazo mínimo ni máx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040" y="4103640"/>
            <a:ext cx="82296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USO Y GOCE DEL 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tomador puede arrendar el bien, salvo pacto en contr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621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ermite el traslado del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2600" y="12574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BIEN OBJETO DEL CON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1360" y="2178000"/>
            <a:ext cx="807696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a persona indicada por el t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comprado por el dador según especificaciones del tom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Sustituyendo al tomador en el contrato de comprav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de propiedad d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2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ien adquirido por el dador al tomador por el mismo contrato (sale &amp; back) o con anteri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OPCION DE COMP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2616120"/>
            <a:ext cx="8229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precio debe fijarse en el contrato o ser determinable según procedimientos o pautas pac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La Opción puede ejecutarse cuando se hayan pagado ¾ partes del canon total estipulado, o antes si así lo convinieran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dador es propietario del bien hasta que el locatario ejerce la opción de comp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6680" indent="-609480">
              <a:spcBef>
                <a:spcPts val="601"/>
              </a:spcBef>
              <a:buClr>
                <a:srgbClr val="0033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l tomador puede usar el bien pero no venderlo ni grav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3399"/>
                </a:solidFill>
                <a:latin typeface="Arial"/>
              </a:rPr>
              <a:t>RESPONSABILIDADES Y GARANT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35000" y="2635200"/>
            <a:ext cx="779148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puede liberarse inconvencionalmente de la responsabilidad de entregar y de las garantías de evicción y vicios redhibitorios (casos a, b y c anteri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sponde cuando sea el fabricante o </a:t>
            </a:r>
            <a:r>
              <a:rPr b="0" i="1" lang="es-AR" sz="2800" spc="-1" strike="noStrike">
                <a:solidFill>
                  <a:srgbClr val="0033cc"/>
                </a:solidFill>
                <a:latin typeface="Arial"/>
              </a:rPr>
              <a:t>importador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, vendedor o constructor, o en caso d)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752480"/>
            <a:ext cx="77724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adquiere el bien al Provee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Dador lo da en leasing al Tomador (Usua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establece el canon (la cuota) con periodicidad a convenir (habitualmente mensu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El dador calcula el canon teniendo en cuen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asa de retorno dese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Valor Res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mpacto impositivo/otr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sto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672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COMO SE INSTRUMEN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1714680"/>
            <a:ext cx="849636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Usuario contacta al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cuerdan equipo, precio, ent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incluye oferta de leasing/usuario contacta a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probación crediticia / res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Usuario firma contrato de leasing con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roveedor entrega equipamiento = Comienzo del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28840" y="1743120"/>
          <a:ext cx="2057400" cy="69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174312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638680" y="3335400"/>
          <a:ext cx="2057400" cy="69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3540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71600" y="5160960"/>
          <a:ext cx="2057400" cy="695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5160960"/>
                    <a:ext cx="2057400" cy="6951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H="1">
            <a:off x="2419200" y="2647800"/>
            <a:ext cx="38160" cy="230508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924200"/>
            <a:ext cx="2667240" cy="112392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62520" y="4343040"/>
            <a:ext cx="2514600" cy="1143000"/>
          </a:xfrm>
          <a:prstGeom prst="line">
            <a:avLst/>
          </a:prstGeom>
          <a:ln w="1260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2057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mpravent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l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29718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trato de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105520"/>
            <a:ext cx="4191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(especificaciones, precio, entre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8200" y="503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38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True 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-7999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38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960" y="36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63800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Opción de compra “irrisoria”, obligatoria por precio v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s dos partes están presuponiendo una compraventa al f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33cc"/>
                </a:solidFill>
                <a:uFillTx/>
                <a:latin typeface="Arial"/>
              </a:rPr>
              <a:t>De residuales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 (leasing verdadero o “true lease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opción de compra es, económicamente vá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La devolución es una posibilidad ci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Producto muy potente para las P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6880" y="3729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56296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cc"/>
                </a:solidFill>
                <a:uFillTx/>
                <a:latin typeface="Arial"/>
              </a:rPr>
              <a:t>True Lease</a:t>
            </a:r>
            <a:r>
              <a:rPr b="0" lang="es-ES_tradnl" sz="16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el auténtico leasing: el cliente paga cánones mensuales por el uso del bien. Es la mejor alternativa para la adquisición de bienes de capital de alta tecnología, puesto que el Dador </a:t>
            </a:r>
            <a:r>
              <a:rPr b="0" lang="es-ES_tradnl" sz="2400" spc="-1" strike="noStrike" u="sng">
                <a:solidFill>
                  <a:srgbClr val="0033cc"/>
                </a:solidFill>
                <a:uFillTx/>
                <a:latin typeface="Arial"/>
              </a:rPr>
              <a:t>toma Riesgo Resid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0033cc"/>
                </a:solidFill>
                <a:latin typeface="Arial"/>
              </a:rPr>
              <a:t>Opciones al finalizar el plazo contractual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Devolución del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xtensión d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Adquisición del bien</a:t>
            </a:r>
            <a:r>
              <a:rPr b="0" lang="es-ES_tradnl" sz="1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) FMV (Fair Market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b) KPO (Known Purchase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26676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el instrumento más moderno y versátil para financiar la incorporación de equipamiento, pagando un canon periódico por el uso de un bien, con una opción de compra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Es la herramienta de financiación a largo plazo más poderosa y utilizada a nivel mundial para acompañar inversiones en Bienes de Ca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4460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S DE LEASI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95600"/>
            <a:ext cx="8344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Leasing Financiero</a:t>
            </a:r>
            <a:r>
              <a:rPr b="0" lang="es-ES_tradnl" sz="2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0" lang="es-ES_tradnl" sz="2600" spc="-1" strike="noStrike">
                <a:solidFill>
                  <a:srgbClr val="0033cc"/>
                </a:solidFill>
                <a:latin typeface="Arial"/>
              </a:rPr>
              <a:t>Se ofrece el uso del bien contra el pago de un canon mensual durante la vigencia del contrato, y una opción de compra mínima ya defin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Sale &amp; Lease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Cross Border L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41292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TIPO DE BIENE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gún Ley de leas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sas 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mue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Bienes Inmateriales (marcas, patentes, modelos y diseños indust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utilización es más frecuente en maquinarias agrícolas, tornos, centros de mecanizado, servidores, PC´s, grúas, autolevadores, rodados, maquinarias específic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quipos Nacionales o Im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0488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USU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19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 adecuada y fácil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s cuotas se adaptan a su cash-flow / presupuesto de g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uede protegerse de obsolesc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acilita el acceso a soluciones integrales y eficientes en cuanto a relación precio/bene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administración del activo es un servicio del d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arantías simples/operatoria ágil/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43040" y="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VENTAJAS PROVEE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971640"/>
            <a:ext cx="861048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Cobra al contado / Centraliza el circuito operativo de  ventas en un solo cliente (el D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Incrementa y maximiza sus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Genera fidelid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Mantiene relación permanente, a largo plazo con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Vende upgrades con mayor facilidad / Servicio contí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diferencia claramente de su competencia, por mayor Valor Agregado de su 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6760" y="266760"/>
            <a:ext cx="84009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ACUERDOS CON PROVEEDORES </a:t>
            </a:r>
            <a:br>
              <a:rPr sz="3200"/>
            </a:b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(VENDOR PROGRA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38120" y="1657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Apuntan a que el dador tenga un profundo conocimiento de los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Descuentos/condiciones especiales para el d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mite simplificar la operatoria administrativa del tom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El dador realiza un monitoreo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ersigue el reemplazo o upgrade de los equ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cc"/>
                </a:solidFill>
                <a:latin typeface="Arial"/>
              </a:rPr>
              <a:t>Puede incluir un pool de garantía del riesgo crediticio y/o de residu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COMO SON LAS COMPAÑÍAS INDEPENDIENTES DE LEAS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54296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tidades autónomas, altamente especializadas y mono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No toman fondos del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s accionistas son compañías internacionales y/o ban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n operatoria son similares a una empres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on la “división financiera” de los proveedores de equip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nálisis crediticio “a mitad de camino” entre banco y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Toman 2 riesgos: el crediticio y el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Funciones específicas no banca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Acuerdos con proveedores beneficioso para amb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l negocio de res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76280" y="47484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VENTAJAS IMPOSITIVAS Y CON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48572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Tratamiento beneficioso en relación al IVA, Impuesto a las Ganancias e Impuesto a la Ganancia Mínima Pres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Financiación “Off Balance Shee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índices de endeud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No se afectan los indicadores de Retornos sobre Activos y sobra Capital (ROA y RO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LEASING VS. OTRAS ALTERNATI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0360" y="1052280"/>
            <a:ext cx="837252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financiar el 100% de l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no se requiere ningún tipo de antic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Otras financiaciones exigen un desembols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640" indent="-350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vita la obsolescenci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liente puede devolver el bien al final del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000" indent="-1767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otras financiaciones el cliente es propietario del bien,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corriendo el riesgo de quedarse con equipos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tecnológicament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" y="5764320"/>
            <a:ext cx="7871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s una financiación “Off Balance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8640" y="531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LEASING VS. OTR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8680" y="1990800"/>
            <a:ext cx="823284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ermite una aceleración en la descarga de costos impositivos a los fines del Impuesto a las Ganancias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el leasing el canon es 100% de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En la adquisición se deduce la amortización del  bien según    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33cc"/>
                </a:solidFill>
                <a:latin typeface="Arial"/>
              </a:rPr>
              <a:t>  su vida ú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0960" y="2412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ONCLUS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1055520"/>
            <a:ext cx="838188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s la herramienta ideal y más moderna para financiar inversiones en bienes de ca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e obtiene financiación a largo plazo por el 100% del valor, acompañando el uso y vida útil de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El análisis de riesgo es flexible y re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Su operatoria es simple y ágil. Regido por la Ley de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La garantía natural es el propi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ermite mantenerse actualizado tecnológicamente, creando un vínculo a largo plazo con los proveedores de equ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Obtiene ventajas impositivas y co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ESTADISTICAS MUNDIALES</a:t>
            </a:r>
            <a:r>
              <a:rPr b="0" lang="es-AR" sz="4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6280" y="14094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urante 2002, se financiaron a través de Leasing inversiones en equipamiento por  U$S 498 Mil Millones a nivel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En EE.UU., el 32% de todas las inversiones en equipamiento se concretaron a través de Leasing, con contratos por US$ 260 Mil Mill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% de las empresas estadounidenses adquiere parte o la totalidad de sus equipos vía L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Japón (US$ 69MM), Alemania (US$ 32MM), Reino Unido (US$ 19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rasil (US$ 5.25MM), México (US$ 3.10MM), Chile (US$ 72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600" spc="-1" strike="noStrike">
                <a:solidFill>
                  <a:srgbClr val="0033cc"/>
                </a:solidFill>
                <a:latin typeface="Arial"/>
              </a:rPr>
              <a:t>Fuente: E.L.A. – Equipment Leas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90400" y="3723840"/>
            <a:ext cx="40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cc00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3880" y="4593600"/>
            <a:ext cx="295272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ccff"/>
                </a:solidFill>
                <a:latin typeface="Arial"/>
              </a:rPr>
              <a:t>Sergio E. Calder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99cc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48200" y="6193800"/>
            <a:ext cx="32958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Av. Leandro N. Alem  712, pis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Tel.: 4316-2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Fax: 4316-28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3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62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Arial"/>
              </a:rPr>
              <a:t>¿POR QUÉ ES EL INSTRUMENTO PARA EQUIPAR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otorga plazos de pago considerando la vida útil del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se realiza un análisis crediticio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no hay anticipos ni desag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tiene ventajas impositivas y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financia adecuadamente la incorporación de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Arial"/>
              </a:rPr>
              <a:t>Porque las cuotas se adaptan a cada cash-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L LEASING EN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16192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Déc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50/7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Bancos públicos – Ba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stituciones financieras internacionales de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ayuda al desarrollo (IFC, FMO, DEG)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Incipiente mercado de capitales impulsado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por bancos privados, compañías de leasing,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organismos de financiación de exportaciones 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(HERMES, COFACE, EXIMBANK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Fines 90: Desarrollo creciente, difusión más general</a:t>
            </a:r>
            <a:r>
              <a:rPr b="0" lang="es-AR" sz="2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EVOLUCIÓN DE UN MERCADO DE 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28800" y="1752480"/>
          <a:ext cx="2076480" cy="70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09720" y="2895480"/>
          <a:ext cx="2076480" cy="70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9720" y="2895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09720" y="4038480"/>
          <a:ext cx="2076480" cy="704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3848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629240" y="1809720"/>
            <a:ext cx="228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71560" y="5238720"/>
          <a:ext cx="2076480" cy="7048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1560" y="523872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991040" y="1771560"/>
          <a:ext cx="2076480" cy="7048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91040" y="1771560"/>
                    <a:ext cx="20764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952880" y="2971800"/>
          <a:ext cx="3657600" cy="4953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2971800"/>
                    <a:ext cx="3657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933800" y="3924360"/>
          <a:ext cx="3543480" cy="3999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33800" y="392436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971960" y="5334120"/>
          <a:ext cx="2762280" cy="4381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71960" y="5334120"/>
                    <a:ext cx="276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921200" y="4444920"/>
          <a:ext cx="3543480" cy="3999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1200" y="4444920"/>
                    <a:ext cx="35434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800440" y="2438280"/>
            <a:ext cx="0" cy="4572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00440" y="3562200"/>
            <a:ext cx="0" cy="438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00440" y="4686480"/>
            <a:ext cx="0" cy="552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13372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5280" y="3219480"/>
            <a:ext cx="1028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4360" y="4114800"/>
            <a:ext cx="952560" cy="209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43440" y="4381560"/>
            <a:ext cx="876240" cy="190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67120" y="5543640"/>
            <a:ext cx="1028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331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0000"/>
                </a:solidFill>
                <a:latin typeface="Arial"/>
              </a:rPr>
              <a:t>MERCADO DE LEASING - ARGE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693800"/>
          <a:ext cx="8580240" cy="4965840"/>
        </p:xfrm>
        <a:graphic>
          <a:graphicData uri="http://schemas.openxmlformats.org/drawingml/2006/table">
            <a:tbl>
              <a:tblPr/>
              <a:tblGrid>
                <a:gridCol w="2163600"/>
                <a:gridCol w="2141640"/>
                <a:gridCol w="2135160"/>
                <a:gridCol w="2139840"/>
              </a:tblGrid>
              <a:tr h="13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NT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° DE CONT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O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.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48.8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3.9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70.3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8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6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5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AR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Fuente: A.L.A. - Asociación de Leasing de Argent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76520"/>
            <a:ext cx="82296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7680" y="2557440"/>
            <a:ext cx="847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Regido por Ley 25.248 y Decreto 1.038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440" y="3529080"/>
            <a:ext cx="79502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El dador conviene transferir al tomador la tenencia de un cierto y determinado bien para su uso y goce, contra el pago de un canon y le confiere una opción de comp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440" y="5529240"/>
            <a:ext cx="720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No diferencia distintos tipos de le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52600" y="407880"/>
            <a:ext cx="82296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ff0000"/>
                </a:solidFill>
                <a:latin typeface="Arial"/>
              </a:rPr>
              <a:t>ASPECTOS LEG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3009600"/>
            <a:ext cx="84582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Cosas muebles o inmuebles, marcas,  patentes, modelos industriales y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52520" indent="-54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cc"/>
                </a:solidFill>
                <a:latin typeface="Arial"/>
              </a:rPr>
              <a:t>Pueden incluirse los servicios necesarios para el diseño, la instalación, puesta en marcha y puesta a dis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440" y="1832040"/>
            <a:ext cx="760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99"/>
              </a:spcBef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"/>
              </a:rPr>
              <a:t>D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s-AR" sz="3200" spc="-1" strike="noStrike">
                <a:solidFill>
                  <a:srgbClr val="0033cc"/>
                </a:solidFill>
                <a:latin typeface="Arial"/>
              </a:rPr>
              <a:t>Cualquier sujeto capaz, sin lím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9:42:24Z</dcterms:created>
  <dc:creator>dmorreale</dc:creator>
  <dc:description/>
  <dc:language>en-US</dc:language>
  <cp:lastModifiedBy>C.P.C.E.C.A.B.A.</cp:lastModifiedBy>
  <cp:lastPrinted>2004-07-02T16:39:10Z</cp:lastPrinted>
  <dcterms:modified xsi:type="dcterms:W3CDTF">2004-09-24T15:31:49Z</dcterms:modified>
  <cp:revision>587</cp:revision>
  <dc:subject/>
  <dc:title>CIT:  The Synergy of “Old” and “New” Economy Franchises</dc:title>
</cp:coreProperties>
</file>