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5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jpeg" ContentType="image/jpeg"/>
  <Override PartName="/ppt/media/image21.jpeg" ContentType="image/jpeg"/>
  <Override PartName="/ppt/media/image19.wmf" ContentType="image/x-wmf"/>
  <Override PartName="/ppt/media/image18.png" ContentType="image/png"/>
  <Override PartName="/ppt/media/image17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23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0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72880" y="679320"/>
            <a:ext cx="451332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GillSans"/>
              </a:rPr>
              <a:t>Click to move the slide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2922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58168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5840" y="858168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2E84-BC4E-4960-A537-47BA94F7A5E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3320" cy="3384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2922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Durante la expansión de los ’90, la banca privada capitalizó el proceso de expansión. Luego del efecto tequila se dieron tres procesos simultáneos: 1. El cierre o privatización de entidades provinciales, 2. La ola de fusiones y adquisiciones de cadenas minoristas del sector privado nacionales por parte de entidades extranjeras y 3. La expansión de dichas cadenas sobre todo a los segmentos regionales no atendidos mediante una masiva sucursalización que perseguía captar depósitos en el interior y prestarlos a las grandes empres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proceso señalado agravó el racionamiento crediticio y la selección adversa de las Pymes, las empresas regionales y los sectores públicos provinciales, agravando aún más el desequilbrio regional, aún expandiendo la bancarización al interior del pa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La banca pública, por el contrario, se estancó y concentró durante el período señalado en las tres grandes entidades del siste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3320" cy="3384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2922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Desde diciembre del 2001, el sistema de banca pública extendió su participación tanto en los depósitos como en los prestamos al sector privado no financiero cumpliendo un rol anticíclico y de mantenimiento del sistema. En ese proceso, acentúo su prestigio respecto de la banca privada, dándole una plataforma de partida para abrir mercados y liderar los procesos de recupe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GillSans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" name=""/>
          <p:cNvSpPr/>
          <p:nvPr/>
        </p:nvSpPr>
        <p:spPr>
          <a:xfrm>
            <a:off x="8001000" y="0"/>
            <a:ext cx="609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001000" y="76320"/>
            <a:ext cx="588960" cy="9903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5440" cy="109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82160" cy="1143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GillSans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San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Gill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GillSans-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Sans-Light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GillSans-Light"/>
            </a:endParaRPr>
          </a:p>
          <a:p>
            <a:pPr lvl="3" marL="1562040" indent="-228600">
              <a:spcBef>
                <a:spcPts val="499"/>
              </a:spcBef>
              <a:buClr>
                <a:srgbClr val="000066"/>
              </a:buClr>
              <a:buFont typeface="GillSans-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  <a:p>
            <a:pPr lvl="4" marL="1981080" indent="-228600">
              <a:spcBef>
                <a:spcPts val="499"/>
              </a:spcBef>
              <a:buClr>
                <a:srgbClr val="000066"/>
              </a:buClr>
              <a:buFont typeface="GillSans-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  <a:p>
            <a:pPr lvl="5" marL="1981080" indent="-228600">
              <a:spcBef>
                <a:spcPts val="499"/>
              </a:spcBef>
              <a:buClr>
                <a:srgbClr val="ffffff"/>
              </a:buClr>
              <a:buFont typeface="GillSans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  <a:p>
            <a:pPr lvl="6" marL="1981080" indent="-228600">
              <a:spcBef>
                <a:spcPts val="499"/>
              </a:spcBef>
              <a:buClr>
                <a:srgbClr val="ffffff"/>
              </a:buClr>
              <a:buFont typeface="GillSans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5440" cy="1146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GillSans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5440" cy="10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001000" y="0"/>
            <a:ext cx="6094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001000" y="76320"/>
            <a:ext cx="58896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4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65920"/>
          </a:xfrm>
          <a:prstGeom prst="rect">
            <a:avLst/>
          </a:prstGeom>
          <a:ln w="0">
            <a:noFill/>
          </a:ln>
        </p:spPr>
      </p:pic>
    </p:spTree>
  </p:cSld>
  <p:transition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¿Qué debe hacer la banca pública?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1812960"/>
            <a:ext cx="90676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sanar 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"/>
              </a:rPr>
              <a:t>las asimetrías de información producto del desenvolvimiento del sistema financiero entre deudores y acreedores y entre distintos tipos de deud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ducir los procesos de selección adversa y de racionamiento crediticio en el mercado financi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ir a mejorar la calidad de la información sistémica incorporando datos de segmentos parcial o mal atendidos e introduciendo nuevos prospectos sectori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doptar estrategias anticíclic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ducir el abuso de la posición dominante y la presión oligopólica del sector privad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GillSans"/>
              </a:rPr>
              <a:t>La banca pública como motor del desarrollo.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812960"/>
            <a:ext cx="87789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ortalecer el rol estatal en acelerar el desarrollo relativo del país en el que se aplica la política económica como instrumento de apoyo crediticio gene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ducir la vulnerabilidad sistémica de los procesos de desarrollo tardío a los shock extern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Impulsar a sectores con alto dinamismo en términos de impacto sobre la estructura productiv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poyar procesos largos de maduración de la inversión donde el sector privado participa solo en forma marginal debido a la relación rentabilidad –riesgo que proporciona como señal el sistema de precios en el corto plaz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7432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ietarios: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80 % Federación y 20 % Est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                   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Fed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ficinas en el extranjero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Bruselas  + 30 oficinas en países en</a:t>
            </a:r>
            <a:br>
              <a:rPr sz="2000"/>
            </a:b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                                            desarrollo y países interme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trimonio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9.900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uma del balance: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314.000 millones de euro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ating:       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AAA / A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mpleados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3.6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ompromisos en 2003: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72.200 millones de euro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660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logo" descr=""/>
          <p:cNvPicPr/>
          <p:nvPr/>
        </p:nvPicPr>
        <p:blipFill>
          <a:blip r:embed="rId1"/>
          <a:stretch/>
        </p:blipFill>
        <p:spPr>
          <a:xfrm>
            <a:off x="1828800" y="1987560"/>
            <a:ext cx="1295280" cy="60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3800" y="20574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lemani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" y="137160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n países desarrollado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La banca de desarrollo en el mundo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La banca de desarrollo en el mundo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28" name=""/>
          <p:cNvSpPr/>
          <p:nvPr/>
        </p:nvSpPr>
        <p:spPr>
          <a:xfrm>
            <a:off x="422280" y="13716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n países de desarrollo rec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880" y="19652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spañ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logo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1211400" cy="625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26668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ietarios: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Reino de Españ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ctivo total: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26.419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trimonio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1.100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ock de crédito: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17.600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estamos en el 2003: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5.664,9 millones de euro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ating:       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AAA / A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mpleados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2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La banca de desarrollo en el mundo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33" name=""/>
          <p:cNvSpPr/>
          <p:nvPr/>
        </p:nvSpPr>
        <p:spPr>
          <a:xfrm>
            <a:off x="394560" y="13716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aíses en vías de desarrol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4920" y="211788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Brasi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n_barra1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393228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26668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ietarios: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Empresa pública fede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trimonio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US$ 4.000 mil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sembolsos en el 2003: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US$ 11.000 millo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anancias 2003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US$ 340 mil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mpleados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2.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7848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iénes so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48640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476360"/>
            <a:ext cx="75438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mos un banco público de segundo grado proveedor de créditos de mediano y largo plazo destinados a la inversión productiva y al comercio ex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uestro único accionista es la República Argen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peramos en el mercado como banco de bancos desde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de octubre del 2003 también damos crédito directo a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mos agente financiero del Estado argentino y autoridad de aplicación del Seguro de Crédito a la Expor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52388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uestra mis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mentar la inversión productiva y el comercio exterior de empresas argentinas, incentivando la creación de nuevas fuerzas y financiándolas para que operen exitosamente en el mercado mund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uestro compromi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ar crédito a las mejores ideas argentinas y financiar las obras de infraestructura que les permitan ser competi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é pensa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Guarda1" descr=""/>
          <p:cNvPicPr/>
          <p:nvPr/>
        </p:nvPicPr>
        <p:blipFill>
          <a:blip r:embed="rId1"/>
          <a:stretch/>
        </p:blipFill>
        <p:spPr>
          <a:xfrm>
            <a:off x="0" y="5788080"/>
            <a:ext cx="9144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iénes so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6002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mos un banco sólido y efic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5241960"/>
            <a:ext cx="792504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nemos una calificación nacional de A (arg), apoyada en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calidad de nuestros activ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bajo endeudamiento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uestra buena base de capital (FitchRatin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90720" y="2435400"/>
          <a:ext cx="5943600" cy="251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5400"/>
                    <a:ext cx="5943600" cy="25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096240" cy="125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04960" y="3718080"/>
            <a:ext cx="5583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Verdana"/>
                <a:ea typeface="Arial"/>
              </a:rPr>
              <a:t>Primer Congreso Nacional e Internacion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Verdana"/>
                <a:ea typeface="Arial"/>
              </a:rPr>
              <a:t>de Finanzas de la Empr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89120" y="632448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3 de septiembre de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GillSans"/>
              </a:rPr>
              <a:t>INDICADORE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6553080"/>
            <a:ext cx="9144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828800"/>
            <a:ext cx="38102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3520" y="2400480"/>
          <a:ext cx="7391160" cy="370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0480"/>
                    <a:ext cx="739116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rulo%20rojo" descr=""/>
          <p:cNvPicPr/>
          <p:nvPr/>
        </p:nvPicPr>
        <p:blipFill>
          <a:blip r:embed="rId3"/>
          <a:stretch/>
        </p:blipFill>
        <p:spPr>
          <a:xfrm>
            <a:off x="7391520" y="2666880"/>
            <a:ext cx="533160" cy="303480"/>
          </a:xfrm>
          <a:prstGeom prst="rect">
            <a:avLst/>
          </a:prstGeom>
          <a:ln w="0">
            <a:noFill/>
          </a:ln>
        </p:spPr>
      </p:pic>
      <p:pic>
        <p:nvPicPr>
          <p:cNvPr id="156" name="rulo%20rojo" descr=""/>
          <p:cNvPicPr/>
          <p:nvPr/>
        </p:nvPicPr>
        <p:blipFill>
          <a:blip r:embed="rId4"/>
          <a:stretch/>
        </p:blipFill>
        <p:spPr>
          <a:xfrm>
            <a:off x="7391520" y="2971800"/>
            <a:ext cx="60948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GillSans"/>
              </a:rPr>
              <a:t>El aporte del BICE a la nueva geografía económica.</a:t>
            </a:r>
            <a:endParaRPr b="0" lang="en-US" sz="28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7240" y="1739880"/>
          <a:ext cx="77677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39880"/>
                    <a:ext cx="77677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920" y="1600200"/>
            <a:ext cx="4800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stribución regional del créd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GillSans"/>
              </a:rPr>
              <a:t>El BICE y su apoyo  a la diversificación productiva</a:t>
            </a:r>
            <a:endParaRPr b="0" lang="en-US" sz="28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7240" y="1739880"/>
          <a:ext cx="77677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39880"/>
                    <a:ext cx="77677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04920" y="1600200"/>
            <a:ext cx="4800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stribución sectorial del créd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71600" y="1676520"/>
            <a:ext cx="7010280" cy="54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amos créditos pa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Prefinanciación de expor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Postfinanciación de expor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Inversión: adquisición de bienes de capital y proyectos de inversión en bienes y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Maquinaria agríc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) Financiamos obras de infraestruc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é hace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GillSans"/>
              </a:rPr>
              <a:t>El BICE como banco de desarrollo</a:t>
            </a:r>
            <a:endParaRPr b="0" lang="en-US" sz="28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1447920" y="1812960"/>
            <a:ext cx="50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Ferrocarril Trasandino Central (FCT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1447920" y="62164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Ferrocarril Belgrano Carg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1447920" y="511488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aneamiento del Río Reconqui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1447920" y="401472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Gasoducto Sección Centro C.E.C.Re.Ce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1447920" y="291312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uenca Inferior del Río Sal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%207" descr=""/>
          <p:cNvPicPr/>
          <p:nvPr/>
        </p:nvPicPr>
        <p:blipFill>
          <a:blip r:embed="rId6"/>
          <a:stretch/>
        </p:blipFill>
        <p:spPr>
          <a:xfrm>
            <a:off x="6464160" y="2685960"/>
            <a:ext cx="1384560" cy="762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%202" descr=""/>
          <p:cNvPicPr/>
          <p:nvPr/>
        </p:nvPicPr>
        <p:blipFill>
          <a:blip r:embed="rId7"/>
          <a:stretch/>
        </p:blipFill>
        <p:spPr>
          <a:xfrm>
            <a:off x="6464160" y="5943600"/>
            <a:ext cx="138456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%203" descr=""/>
          <p:cNvPicPr/>
          <p:nvPr/>
        </p:nvPicPr>
        <p:blipFill>
          <a:blip r:embed="rId8"/>
          <a:stretch/>
        </p:blipFill>
        <p:spPr>
          <a:xfrm>
            <a:off x="6464160" y="1600200"/>
            <a:ext cx="1384560" cy="762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%204" descr=""/>
          <p:cNvPicPr/>
          <p:nvPr/>
        </p:nvPicPr>
        <p:blipFill>
          <a:blip r:embed="rId9"/>
          <a:stretch/>
        </p:blipFill>
        <p:spPr>
          <a:xfrm>
            <a:off x="6464160" y="4857840"/>
            <a:ext cx="1384560" cy="76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%206" descr=""/>
          <p:cNvPicPr/>
          <p:nvPr/>
        </p:nvPicPr>
        <p:blipFill>
          <a:blip r:embed="rId10"/>
          <a:stretch/>
        </p:blipFill>
        <p:spPr>
          <a:xfrm>
            <a:off x="6464160" y="3772080"/>
            <a:ext cx="1384560" cy="761760"/>
          </a:xfrm>
          <a:prstGeom prst="rect">
            <a:avLst/>
          </a:prstGeom>
          <a:ln w="0">
            <a:noFill/>
          </a:ln>
        </p:spPr>
      </p:pic>
      <p:cxnSp>
        <p:nvCxnSpPr>
          <p:cNvPr id="178" name=""/>
          <p:cNvCxnSpPr>
            <a:stCxn id="167" idx="2"/>
            <a:endCxn id="168" idx="1"/>
          </p:cNvCxnSpPr>
          <p:nvPr/>
        </p:nvCxnSpPr>
        <p:spPr>
          <a:xfrm rot="5400000">
            <a:off x="2514240" y="-76320"/>
            <a:ext cx="991080" cy="3124800"/>
          </a:xfrm>
          <a:prstGeom prst="bentConnector4">
            <a:avLst>
              <a:gd name="adj1" fmla="val 32667"/>
              <a:gd name="adj2" fmla="val 107304"/>
            </a:avLst>
          </a:prstGeom>
          <a:ln w="15840">
            <a:solidFill>
              <a:srgbClr val="ff9900"/>
            </a:solidFill>
            <a:miter/>
            <a:tailEnd len="lg" type="arrow" w="med"/>
          </a:ln>
        </p:spPr>
      </p:cxnSp>
      <p:cxnSp>
        <p:nvCxnSpPr>
          <p:cNvPr id="179" name=""/>
          <p:cNvCxnSpPr>
            <a:stCxn id="167" idx="2"/>
            <a:endCxn id="172" idx="1"/>
          </p:cNvCxnSpPr>
          <p:nvPr/>
        </p:nvCxnSpPr>
        <p:spPr>
          <a:xfrm rot="5400000">
            <a:off x="1964160" y="473760"/>
            <a:ext cx="2091240" cy="3124800"/>
          </a:xfrm>
          <a:prstGeom prst="bentConnector4">
            <a:avLst>
              <a:gd name="adj1" fmla="val 15564"/>
              <a:gd name="adj2" fmla="val 107304"/>
            </a:avLst>
          </a:prstGeom>
          <a:ln w="158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80" name=""/>
          <p:cNvCxnSpPr>
            <a:stCxn id="167" idx="2"/>
          </p:cNvCxnSpPr>
          <p:nvPr/>
        </p:nvCxnSpPr>
        <p:spPr>
          <a:xfrm rot="5400000">
            <a:off x="1370880" y="914400"/>
            <a:ext cx="3124800" cy="3277440"/>
          </a:xfrm>
          <a:prstGeom prst="bentConnector2">
            <a:avLst/>
          </a:prstGeom>
          <a:ln w="0">
            <a:noFill/>
          </a:ln>
        </p:spPr>
      </p:cxnSp>
      <p:cxnSp>
        <p:nvCxnSpPr>
          <p:cNvPr id="181" name=""/>
          <p:cNvCxnSpPr/>
          <p:nvPr/>
        </p:nvCxnSpPr>
        <p:spPr>
          <a:xfrm rot="5400000">
            <a:off x="1413000" y="1024920"/>
            <a:ext cx="3193200" cy="3124800"/>
          </a:xfrm>
          <a:prstGeom prst="bentConnector4">
            <a:avLst>
              <a:gd name="adj1" fmla="val 10237"/>
              <a:gd name="adj2" fmla="val 107304"/>
            </a:avLst>
          </a:prstGeom>
          <a:ln w="158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82" name=""/>
          <p:cNvCxnSpPr>
            <a:stCxn id="167" idx="2"/>
            <a:endCxn id="170" idx="1"/>
          </p:cNvCxnSpPr>
          <p:nvPr/>
        </p:nvCxnSpPr>
        <p:spPr>
          <a:xfrm rot="5400000">
            <a:off x="862920" y="1575000"/>
            <a:ext cx="4293360" cy="3124800"/>
          </a:xfrm>
          <a:prstGeom prst="bentConnector4">
            <a:avLst>
              <a:gd name="adj1" fmla="val 7538"/>
              <a:gd name="adj2" fmla="val 107304"/>
            </a:avLst>
          </a:prstGeom>
          <a:ln w="158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83" name=""/>
          <p:cNvCxnSpPr>
            <a:stCxn id="167" idx="2"/>
            <a:endCxn id="167" idx="2"/>
          </p:cNvCxnSpPr>
          <p:nvPr/>
        </p:nvCxnSpPr>
        <p:spPr>
          <a:xfrm flipH="1" rot="16200000">
            <a:off x="4572000" y="9903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184" name=""/>
          <p:cNvCxnSpPr/>
          <p:nvPr/>
        </p:nvCxnSpPr>
        <p:spPr>
          <a:xfrm rot="5400000">
            <a:off x="312120" y="2125800"/>
            <a:ext cx="5394960" cy="3124800"/>
          </a:xfrm>
          <a:prstGeom prst="bentConnector4">
            <a:avLst>
              <a:gd name="adj1" fmla="val 6146"/>
              <a:gd name="adj2" fmla="val 107304"/>
            </a:avLst>
          </a:prstGeom>
          <a:ln w="19080">
            <a:solidFill>
              <a:srgbClr val="ff9900"/>
            </a:solidFill>
            <a:miter/>
            <a:tailEnd len="med" type="arrow" w="med"/>
          </a:ln>
        </p:spPr>
      </p:cxn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65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142600" y="609588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ambiando con el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42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1600200"/>
            <a:ext cx="57909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números de entidade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280" y="2362320"/>
          <a:ext cx="8915400" cy="141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9154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61600" y="1682640"/>
            <a:ext cx="64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stema financiero: entidades públicas y priv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419720"/>
            <a:ext cx="8991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1) Proceso de privatización de entidades provinciales desde la reestructuración del sistema financiero tras el “Efecto Tequila”, en 199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2) Fusiones y absorciones de bancos públicos – ej.:  Catamarca y Municipal de La Plata- y gestiones transitorias de bancos privados –ej.: Suquía, Bisel, Bersa- entre 1998 y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los bancos público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1376280"/>
          <a:ext cx="8077320" cy="444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6280"/>
                    <a:ext cx="807732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1571760"/>
          <a:ext cx="9144000" cy="46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1760"/>
                    <a:ext cx="914400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los bancos público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604880"/>
          <a:ext cx="830556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4880"/>
                    <a:ext cx="830556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los bancos público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228600"/>
            <a:ext cx="784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21:02:11Z</dcterms:created>
  <dc:creator>dardiaca</dc:creator>
  <dc:description/>
  <dc:language>en-US</dc:language>
  <cp:lastModifiedBy>C.P.C.E.C.A.B.A.</cp:lastModifiedBy>
  <cp:lastPrinted>2002-07-12T20:02:19Z</cp:lastPrinted>
  <dcterms:modified xsi:type="dcterms:W3CDTF">2004-09-24T15:29:45Z</dcterms:modified>
  <cp:revision>272</cp:revision>
  <dc:subject/>
  <dc:title>Presentación de PowerPoint</dc:title>
</cp:coreProperties>
</file>