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131-0405-4595-8FA1-8806C0F8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DBE-D690-4618-97ED-C8A7691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437-27C6-4E65-A36B-6707A486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FC0-8B0E-47E8-A0B2-98DB8652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7FE-3EE5-4358-94E4-9DB8A37B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BD22-A8A5-4621-B644-0E395659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3C9A-678C-42C2-BCF9-A73918D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F2A-0B69-434F-9925-F0030FB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5392-E667-4B17-8C60-E5D244CB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885-FCFF-4084-A209-153F3A0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7409-8BD0-440A-9754-4812A12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F2D-B1C9-40F0-9341-BE43A1AE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6DA-955B-4602-8EAE-672BA3F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0A30-FE5A-45B1-946B-43D496C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7E4A-71DC-45A7-90CF-CB20D78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7C10-7458-4398-970E-75A63262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4C8B-5BD9-41DC-A053-D0633F43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119-0823-43DA-8BA6-8D3844E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1A7-1E74-4AA6-AC32-60A37F66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9B9-D55A-4D1C-B878-12B3C8CA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B4F-1A58-4878-AC30-234D13F1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4DF-4BBC-47AA-86FA-45B3A7E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3E3-5B36-4A5F-B05A-65F6AA64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C99-5A4C-42A8-B1AB-F6EE799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6926-4892-4C7F-A9FB-6EBDC2B61AE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C1D-E7DF-48F1-B518-AA6E8ECE449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b2b2b2"/>
                </a:solidFill>
                <a:latin typeface="Arial"/>
              </a:rPr>
              <a:t>Financiamiento e Información: factores de Valor y Volatilida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b2b2b2"/>
                </a:solidFill>
                <a:latin typeface="Arial"/>
              </a:rPr>
              <a:t>Aldo H. Alon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ore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ales de demandas p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la pr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1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(cont)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78136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ionales en Ciencias Económ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rrupción de una  incumbencia que enfatiza la necesidad d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860640"/>
            <a:ext cx="79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fuentes valor recientemente reconocid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ear el procedimiento que traduzca performances diversas en información de naturaleza financiera, y de exponerla en los términos que el mercado entiende, esto es, medidas de rendimiento y riesg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r un nuevo campo decisional: el del mensaje financiero o comunicación con el inverso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misión Nacional de Valores (CNV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ecesidad de la intervención de profesionales en Ciencias Económicas en el suministro de información que acompaña emisiones de obligaciones y capital accionario (Decreto 677/2001 sobre Régimen de la Oferta Públi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1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(cont)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y Va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como factor de éxito empresa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nformación como factor de 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como función de la información revel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 y V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63640" y="2532240"/>
                <a:ext cx="49690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N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/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: factor de éxito empresa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16000" y="2349360"/>
            <a:ext cx="7343640" cy="3240360"/>
            <a:chOff x="1116000" y="2349360"/>
            <a:chExt cx="7343640" cy="3240360"/>
          </a:xfrm>
        </p:grpSpPr>
        <p:sp>
          <p:nvSpPr>
            <p:cNvPr id="108" name=""/>
            <p:cNvSpPr/>
            <p:nvPr/>
          </p:nvSpPr>
          <p:spPr>
            <a:xfrm>
              <a:off x="5148360" y="3079800"/>
              <a:ext cx="874440" cy="358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2520" y="4311720"/>
              <a:ext cx="3078360" cy="309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8360" y="3110040"/>
              <a:ext cx="871560" cy="361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76720" y="3933720"/>
              <a:ext cx="908280" cy="30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7080" y="4724280"/>
              <a:ext cx="942840" cy="30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6000" y="2349360"/>
              <a:ext cx="733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6000" y="2951280"/>
              <a:ext cx="7337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2480" y="5589720"/>
              <a:ext cx="733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6000" y="2349360"/>
              <a:ext cx="6480" cy="324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688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4380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208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42920" y="2327400"/>
            <a:ext cx="78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croemprendimientos                      PyME                       Empre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Variables Cualitativas)                   Regionales                  Cotiza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680" y="31755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iderazgo basado en diferenciación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º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 / AT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º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 / 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5480" y="2973240"/>
            <a:ext cx="92160" cy="36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6680" y="3560760"/>
            <a:ext cx="84391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tecedentes empresarios previo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º     V / In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novación s/ productos preexistente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2º   AI / AT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3º AC-Inv / 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ción con capital propio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4º   UAIT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nderación del mercado existente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º      AI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periencia previa en la actividad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º    V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77336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ariables asociadas al destino de las orga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nformación como factor de volat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16360" y="2108160"/>
                <a:ext cx="280800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I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 como función de la información reve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1320" y="4114800"/>
            <a:ext cx="1309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71640" y="1916280"/>
            <a:ext cx="6810120" cy="3276360"/>
            <a:chOff x="971640" y="1916280"/>
            <a:chExt cx="6810120" cy="3276360"/>
          </a:xfrm>
        </p:grpSpPr>
        <p:grpSp>
          <p:nvGrpSpPr>
            <p:cNvPr id="132" name=""/>
            <p:cNvGrpSpPr/>
            <p:nvPr/>
          </p:nvGrpSpPr>
          <p:grpSpPr>
            <a:xfrm>
              <a:off x="6080040" y="4049640"/>
              <a:ext cx="1701720" cy="446040"/>
              <a:chOff x="6080040" y="4049640"/>
              <a:chExt cx="1701720" cy="446040"/>
            </a:xfrm>
          </p:grpSpPr>
          <p:sp>
            <p:nvSpPr>
              <p:cNvPr id="133" name=""/>
              <p:cNvSpPr/>
              <p:nvPr/>
            </p:nvSpPr>
            <p:spPr>
              <a:xfrm>
                <a:off x="6080040" y="4198320"/>
                <a:ext cx="170172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In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21880" y="4049640"/>
                <a:ext cx="141804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ecisiones sobre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042920" y="4149720"/>
              <a:ext cx="1309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nanci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9520" y="2179800"/>
              <a:ext cx="1833480" cy="4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sentación tradicio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1000" y="4114800"/>
              <a:ext cx="18334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ítica de dividen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7200" y="3370320"/>
              <a:ext cx="1047600" cy="596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2720" y="2625840"/>
              <a:ext cx="393840" cy="148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0360" y="2179800"/>
              <a:ext cx="22258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terpretación sugeri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94160" y="3370320"/>
              <a:ext cx="1047960" cy="596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91000" y="2476440"/>
              <a:ext cx="110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424480" y="2774880"/>
              <a:ext cx="1309680" cy="446040"/>
              <a:chOff x="5424480" y="2774880"/>
              <a:chExt cx="1309680" cy="446040"/>
            </a:xfrm>
          </p:grpSpPr>
          <p:sp>
            <p:nvSpPr>
              <p:cNvPr id="144" name=""/>
              <p:cNvSpPr/>
              <p:nvPr/>
            </p:nvSpPr>
            <p:spPr>
              <a:xfrm>
                <a:off x="5424480" y="2923560"/>
                <a:ext cx="117864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vers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24480" y="2774880"/>
                <a:ext cx="130968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ecisiones de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140360" y="4005360"/>
              <a:ext cx="1441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nanci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8640" y="4651200"/>
              <a:ext cx="18334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íticas de dividen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304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9240" y="3220920"/>
              <a:ext cx="262080" cy="29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6560" y="3220920"/>
              <a:ext cx="261720" cy="29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9544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0360" y="3817800"/>
              <a:ext cx="26172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65120" y="2179800"/>
              <a:ext cx="196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00680" y="2179800"/>
              <a:ext cx="2095560" cy="4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71640" y="1916280"/>
              <a:ext cx="6418080" cy="327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2800" y="4584600"/>
              <a:ext cx="1965240" cy="447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638600" y="4352400"/>
              <a:ext cx="131760" cy="29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35280" y="2852640"/>
              <a:ext cx="10792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vers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55972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rte competencia por fond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or y mejor información sobre resultados esperados y ries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atilidad del contexto como evidencia glob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necesidad de crecimiento no obstante volatilidad cre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globalización de los mercad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mento de la competencia y la complej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demanda de confianza por exposiciones cre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s en tecnología informátic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liminación de barreras espaciales y tempor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icación de agentes e intermediarios entre deficitarios e invers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complejidad de la relación empresa-inversore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sajes más significativos, robustos, precisos, confiables y susceptibles de verif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actores que impulsan esta incumbenci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34800" y="1413000"/>
            <a:ext cx="867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O en el mercad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 (la que mejor invierte y mejor se financ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57720"/>
            <a:ext cx="86756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ITO en el mercado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f (la más y mejor conocida, propiamente entendida y con     mejor trabajo en la creación de confianza para el inversor (Marcus y Wallace, 1997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SEC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responsabilidad de los directivos con los inversores es una importante y decisiva misión (Securities Exchange Act Release Nº 46079, June 14, 200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292640"/>
            <a:ext cx="8351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ciones profesional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a de safe harbor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3:28:20Z</dcterms:created>
  <dc:creator>A</dc:creator>
  <dc:description/>
  <dc:language>en-US</dc:language>
  <cp:lastModifiedBy>C.P.C.E.C.A.B.A.</cp:lastModifiedBy>
  <dcterms:modified xsi:type="dcterms:W3CDTF">2004-09-24T15:29:04Z</dcterms:modified>
  <cp:revision>15</cp:revision>
  <dc:subject/>
  <dc:title>Financiamiento e Información: factores de Valor y Volatilidad</dc:title>
</cp:coreProperties>
</file>