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89F6-4365-40AF-AA3C-F38983D67183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4FF1-6EE2-42E1-9766-5424C0F92A9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7A6F-272D-44E7-8DE2-61797422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2A39C-2E16-4E85-BB7E-968755D2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5CD94-663A-44CD-AD51-FB7B6328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1B44-AF51-4E44-B866-FF3A0884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59EB-97D9-4D00-9CA2-AD963F4E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6631-69C8-4226-A745-EA2EF098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EC42-CF89-4038-AECC-FD5C1EE1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B858-FB9F-4107-A58B-1C41B593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B8A4-F7F9-41EC-8D5E-9675F06A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8F87-5459-40CA-9924-AE4E5CDF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FF66-A65B-4C5C-9C20-A42D1313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9B648-65A5-4B95-83F8-4EC3837A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98B5-9089-44C2-A0AB-8840B9CA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C13D-4D6C-459D-B2E1-9ABB2E8D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B17D-962B-4CA0-B390-8F8B6390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1F85-7A00-4795-895C-B246468B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1064-3BEF-4AD5-86B0-03CF43DA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F779-0C67-4A0E-A8CF-807F5CDD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526AA-A740-4475-87BE-F59240B5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9448D-BDB4-4351-A3DD-2DA4BFC6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5DC9-F597-46F2-9D49-9F7A8B83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FD772-F8DB-419F-BBE8-9058458B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BDAF-A4BD-41B7-B9BD-8EB23E2A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3655-22A9-49C5-BA61-CA193B4F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BB47-DDE5-4C58-8EC9-BD141985AEA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1A17-D2D5-4734-95CD-F35DF7ED3B0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5400" y="1886040"/>
            <a:ext cx="43812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3280" y="1141200"/>
            <a:ext cx="8785440" cy="5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dministración Financiera de Empresa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436760" y="2335320"/>
            <a:ext cx="65516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rmAutofit fontScale="82000"/>
          </a:bodyPr>
          <a:p>
            <a:pPr marL="281160" indent="-281160"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1818ff"/>
                </a:solidFill>
                <a:latin typeface="Arial"/>
              </a:rPr>
              <a:t>Decisiones de Invers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692360" y="4724280"/>
            <a:ext cx="604044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rmAutofit/>
          </a:bodyPr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Universidad Nacional de Sal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Fac. de Cs. Económicas, Jurídicas y Socia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809800" y="5921280"/>
            <a:ext cx="3632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rmAutofit fontScale="92000"/>
          </a:bodyPr>
          <a:p>
            <a:pPr marL="315360" indent="-3153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lan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Año 2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2320" y="2189160"/>
            <a:ext cx="4825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rmAutofit/>
          </a:bodyPr>
          <a:p>
            <a:pPr marL="343080" indent="-34308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1818ff"/>
                </a:solidFill>
                <a:latin typeface="Arial"/>
              </a:rPr>
              <a:t>Capítulo V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212920" y="3154320"/>
            <a:ext cx="4826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565ff"/>
                </a:solidFill>
                <a:latin typeface="Arial"/>
              </a:rPr>
              <a:t>Formación Práctica – Solu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565ff"/>
                </a:solidFill>
                <a:latin typeface="Arial"/>
              </a:rPr>
              <a:t>Vinos Reg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NOS REGIONALES – CASO PRACTIC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56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NOS REGIONALES – CASO PRACTICO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NOS REGIONALES – CASO PRACTICO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NOS REGIONALES – CASO PRACTICO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NOS REGIONALES – CASO PRACTICO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51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NOS REGIONALES – CASO PRACTICO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NOS REGIONALES – CASO PRACTICO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IR PROYECTO PUR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1,3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IR 1º ALTERNATIV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5,7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IR 2º ALTERNATIV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5,77%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01:07:04Z</dcterms:created>
  <dc:creator>Miguel Isola</dc:creator>
  <dc:description/>
  <dc:language>en-US</dc:language>
  <cp:lastModifiedBy>Kari</cp:lastModifiedBy>
  <dcterms:modified xsi:type="dcterms:W3CDTF">2020-11-20T17:31:01Z</dcterms:modified>
  <cp:revision>8</cp:revision>
  <dc:subject/>
  <dc:title>VINOS REGIONALES – CASO PRACTICO</dc:title>
</cp:coreProperties>
</file>